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E89-BAC2-4805-9B67-82B949E7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F8D-D4B9-4453-834E-902DE0BF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7AD-3BA6-4209-A085-C30D6ACC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503-8D8B-4CCB-A451-B86FB114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79B4-96A9-4717-A59F-6BCE2E97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DB66-B33C-4904-B910-CA2F16B2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3160-8AD8-4DBF-8DD5-D3C30FC8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CB13-6D68-4619-980A-16F5E3B4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F71B-DE52-4C64-9FF0-72AF7BBD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E0C2-55AE-45FD-B889-96AAE1C7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EEA8-A389-4EDA-8E95-BE036C8D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86D-96C1-4929-ABCD-2B584F57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811A-FF84-4DDC-AF55-7637FF7F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C558-2D5D-495B-8574-7F6BA439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BAAC-EC83-4802-95BC-A0E7AAF5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249B-C029-4D7B-8749-0FC07670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6AD1-0CE6-4084-8CBC-FCD30756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2F5-AEF4-4AA5-B38F-67319BE3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380-09ED-4C85-BBFB-739C263A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FA9-CEFA-41E1-99C9-0575CA3F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716-98A2-4CA3-ADAF-75092010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377-9573-43D5-9DB8-CBCF1D03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AF1-0972-4CEC-8343-0221C864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F50-6950-4471-8E81-6AA7DA4B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C82B-EADD-41AD-9FB9-661582547A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1354-A18C-45C3-AABE-B951ECDBB1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КОМУНАЛЬНИЙ ЗАКЛ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ТЕРИТОРІАЛЬНИЙ ЦЕН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НАДАННЯ СОЦІАЛЬНИХ ПОСЛ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12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КОТЕЛЕВСЬКОЇ СЕЛИЩНОЇ РА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ТЕРИТОРІАЛЬНИЙ ЦЕНТР НАДА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І ПОСЛУ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огляд вдом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енний догля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а адаптаці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таціонарний догля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представництво інтересі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консультуван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натуральна допом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ціальні послуги в територіальному центр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надаються особ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5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хилого віку, у тому числі з когнітивними розлад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 інвалідністю, у тому числі  з  психічними та  поведінковими  розладами (крім осіб, які страждають на психічні розлади і вчинили суспільно небезпечні діяння та отримують амбулаторну психіатричну допомогу в примусовому порядку за рішенням суду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 невиліковними хворобами, хворобами, що потребують тривалого лікування (з числа осіб працездатного віку на період до встановлення їм групи інвалідності, але не більше як на чотири місяці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-  які  перебувають у складній життєвій ситуації у зв’язку з безробіттям і  зареєстровані в державній службі зайнятості як такі, що  шукають  роботу,  а  також у зв’язку  зі шкодою,  завданою  стихійним лихом, катастрофою, бойовими діями, терористичним актом, збройним конфліктом, тимчасовою окупацією, якщо вони мають на своєму утриманні неповнолітніх дітей, дітей з інвалідністю, осіб похилого віку, осіб з інвалідніст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внутрішньо переміщеним особа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- учасникам АТО та ОСС, особам, які постраждали внаслідок Чорнобильської катастрофи і віднесені до 1, 2 і 3 категорії, воїнам- інтернаціоналістам незалежно від ві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УМОВИ НАДАННЯ СОЦІАЛЬНИХ ПОСЛУ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оціальні послуги надають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 рахунок бюджетних коштів (безоплат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особам з інвалідністю І групи; отримувачам середньомісячний сукупний дохід  не перевищує двох прожиткових мінімуми для відповідної категорії осіб; іншим категоріям осіб- соціальні послуги з інформування, консультування, представництва інтересів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 рахунок отримувача соціальних послуг або третіх осіб відповідно до законодавства (плат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якщо середньомісячний сукупний дохід отримувача перевищує два прожиткових мінімуми, але не перевищує чотири прожиткові мінімуми для відповідної категорії осіб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 установленням диференційованої пл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якщо середньомісячний сукупний дохід отримувача перевищує два прожиткових мінімуми, але не перевищує чотири прожиткові мінімуми для відповідної категорії осіб)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оціальні послуги понад обсяг, визначений державними стандартами соціальних послуг надаються за пла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ОКУМЕНТИ НЕОБХІДНІ ДЛЯ ОТРИМА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ИХ ПОСЛУ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8720" algn="just">
              <a:lnSpc>
                <a:spcPct val="11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ява особи або її законного представника до структурного підрозділу з питань соціального захисту населення Котелевської селищної рад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 заяви додаються наступні документи: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опія паспорта громадянина України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2. Копія документа, що засвідчує реєстрацію у Державному реєстрі фізичних осіб - платників податків, у якому зазначено реєстраційний номер облікової картки платника податків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3. Копія довідки до акта огляду медико-соціальною експертною комісією за формою, затвердженою МОЗ (для осіб з інвалідністю)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4. Медичний висновок про здатність до самообслуговування та потребу в сторонній допомозі (для одержувачів послуги догляд вдома, стаціонарного догляду, денного догляду, соц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іальна адаптаці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52280" y="152280"/>
            <a:ext cx="8991360" cy="6091560"/>
            <a:chOff x="152280" y="152280"/>
            <a:chExt cx="8991360" cy="6091560"/>
          </a:xfrm>
        </p:grpSpPr>
        <p:cxnSp>
          <p:nvCxnSpPr>
            <p:cNvPr id="239" name="_s119812"/>
            <p:cNvCxnSpPr>
              <a:stCxn id="240" idx="0"/>
              <a:endCxn id="241" idx="2"/>
            </p:cNvCxnSpPr>
            <p:nvPr/>
          </p:nvCxnSpPr>
          <p:spPr>
            <a:xfrm flipV="1" rot="16200000">
              <a:off x="6161040" y="1687320"/>
              <a:ext cx="910080" cy="4088880"/>
            </a:xfrm>
            <a:prstGeom prst="bentConnector3">
              <a:avLst>
                <a:gd name="adj1" fmla="val 125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2" name="_s119813"/>
            <p:cNvCxnSpPr>
              <a:stCxn id="243" idx="0"/>
              <a:endCxn id="241" idx="2"/>
            </p:cNvCxnSpPr>
            <p:nvPr/>
          </p:nvCxnSpPr>
          <p:spPr>
            <a:xfrm flipV="1" rot="16200000">
              <a:off x="5538960" y="2309400"/>
              <a:ext cx="910080" cy="2845080"/>
            </a:xfrm>
            <a:prstGeom prst="bentConnector3">
              <a:avLst>
                <a:gd name="adj1" fmla="val 125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4" name="_s119814"/>
            <p:cNvCxnSpPr>
              <a:stCxn id="245" idx="0"/>
              <a:endCxn id="241" idx="2"/>
            </p:cNvCxnSpPr>
            <p:nvPr/>
          </p:nvCxnSpPr>
          <p:spPr>
            <a:xfrm flipV="1" rot="16200000">
              <a:off x="4969800" y="2878560"/>
              <a:ext cx="892080" cy="1688760"/>
            </a:xfrm>
            <a:prstGeom prst="bentConnector3">
              <a:avLst>
                <a:gd name="adj1" fmla="val 128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6" name="_s119815"/>
            <p:cNvCxnSpPr>
              <a:stCxn id="247" idx="0"/>
              <a:endCxn id="241" idx="2"/>
            </p:cNvCxnSpPr>
            <p:nvPr/>
          </p:nvCxnSpPr>
          <p:spPr>
            <a:xfrm flipV="1" rot="16200000">
              <a:off x="4408200" y="3440160"/>
              <a:ext cx="892080" cy="565200"/>
            </a:xfrm>
            <a:prstGeom prst="bentConnector3">
              <a:avLst>
                <a:gd name="adj1" fmla="val 128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8" name="_s119816"/>
            <p:cNvCxnSpPr>
              <a:stCxn id="249" idx="0"/>
              <a:endCxn id="241" idx="2"/>
            </p:cNvCxnSpPr>
            <p:nvPr/>
          </p:nvCxnSpPr>
          <p:spPr>
            <a:xfrm flipH="1" flipV="1" rot="5400000">
              <a:off x="3786480" y="3401280"/>
              <a:ext cx="910080" cy="661320"/>
            </a:xfrm>
            <a:prstGeom prst="bentConnector3">
              <a:avLst>
                <a:gd name="adj1" fmla="val 125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0" name="_s119817"/>
            <p:cNvCxnSpPr/>
            <p:nvPr/>
          </p:nvCxnSpPr>
          <p:spPr>
            <a:xfrm flipH="1" flipV="1" rot="5400000">
              <a:off x="2984760" y="2572920"/>
              <a:ext cx="1506240" cy="1686240"/>
            </a:xfrm>
            <a:prstGeom prst="bentConnector3">
              <a:avLst>
                <a:gd name="adj1" fmla="val 75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1" name="_s119818"/>
            <p:cNvCxnSpPr/>
            <p:nvPr/>
          </p:nvCxnSpPr>
          <p:spPr>
            <a:xfrm flipH="1" flipV="1" rot="5400000">
              <a:off x="2403720" y="2010240"/>
              <a:ext cx="1506240" cy="2811600"/>
            </a:xfrm>
            <a:prstGeom prst="bentConnector3">
              <a:avLst>
                <a:gd name="adj1" fmla="val 75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2" name="_s119819"/>
            <p:cNvCxnSpPr/>
            <p:nvPr/>
          </p:nvCxnSpPr>
          <p:spPr>
            <a:xfrm flipH="1" flipV="1" rot="5400000">
              <a:off x="1824480" y="1447560"/>
              <a:ext cx="1506240" cy="3936960"/>
            </a:xfrm>
            <a:prstGeom prst="bentConnector3">
              <a:avLst>
                <a:gd name="adj1" fmla="val 75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3" name="_s119820"/>
            <p:cNvCxnSpPr>
              <a:stCxn id="241" idx="0"/>
              <a:endCxn id="254" idx="2"/>
            </p:cNvCxnSpPr>
            <p:nvPr/>
          </p:nvCxnSpPr>
          <p:spPr>
            <a:xfrm flipV="1">
              <a:off x="4571640" y="1245240"/>
              <a:ext cx="1800" cy="890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4" name="_s119821"/>
            <p:cNvSpPr/>
            <p:nvPr/>
          </p:nvSpPr>
          <p:spPr>
            <a:xfrm>
              <a:off x="2209680" y="152280"/>
              <a:ext cx="4723560" cy="10933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Відділення соціальної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допомоги вдом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119822"/>
            <p:cNvSpPr/>
            <p:nvPr/>
          </p:nvSpPr>
          <p:spPr>
            <a:xfrm>
              <a:off x="2209680" y="2135520"/>
              <a:ext cx="4723560" cy="1141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Соціальна послуг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« догляд вдома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119823"/>
            <p:cNvSpPr/>
            <p:nvPr/>
          </p:nvSpPr>
          <p:spPr>
            <a:xfrm>
              <a:off x="152280" y="4186800"/>
              <a:ext cx="965520" cy="2057040"/>
            </a:xfrm>
            <a:custGeom>
              <a:avLst/>
              <a:gdLst>
                <a:gd name="textAreaLeft" fmla="*/ 46800 w 965520"/>
                <a:gd name="textAreaRight" fmla="*/ 918720 w 965520"/>
                <a:gd name="textAreaTop" fmla="*/ 46800 h 2057040"/>
                <a:gd name="textAreaBottom" fmla="*/ 2010240 h 2057040"/>
              </a:gdLst>
              <a:ahLst/>
              <a:rect l="textAreaLeft" t="textAreaTop" r="textAreaRight" b="textAreaBottom"/>
              <a:pathLst>
                <a:path w="21600" h="46010">
                  <a:moveTo>
                    <a:pt x="3600" y="0"/>
                  </a:moveTo>
                  <a:arcTo wR="3600" hR="3600" stAng="16200000" swAng="-5400000"/>
                  <a:lnTo>
                    <a:pt x="0" y="42410"/>
                  </a:lnTo>
                  <a:arcTo wR="3600" hR="3600" stAng="10800000" swAng="-5400000"/>
                  <a:lnTo>
                    <a:pt x="18000" y="460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идбанн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ставка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одуктов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омислов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оварів,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ліків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119824"/>
            <p:cNvSpPr/>
            <p:nvPr/>
          </p:nvSpPr>
          <p:spPr>
            <a:xfrm>
              <a:off x="1219320" y="4186800"/>
              <a:ext cx="964440" cy="2057040"/>
            </a:xfrm>
            <a:custGeom>
              <a:avLst/>
              <a:gdLst>
                <a:gd name="textAreaLeft" fmla="*/ 46800 w 964440"/>
                <a:gd name="textAreaRight" fmla="*/ 917640 w 964440"/>
                <a:gd name="textAreaTop" fmla="*/ 46800 h 2057040"/>
                <a:gd name="textAreaBottom" fmla="*/ 2010240 h 2057040"/>
              </a:gdLst>
              <a:ahLst/>
              <a:rect l="textAreaLeft" t="textAreaTop" r="textAreaRight" b="textAreaBottom"/>
              <a:pathLst>
                <a:path w="21600" h="46061">
                  <a:moveTo>
                    <a:pt x="3600" y="0"/>
                  </a:moveTo>
                  <a:arcTo wR="3600" hR="3600" stAng="16200000" swAng="-5400000"/>
                  <a:lnTo>
                    <a:pt x="0" y="42461"/>
                  </a:lnTo>
                  <a:arcTo wR="3600" hR="3600" stAng="10800000" swAng="-5400000"/>
                  <a:lnTo>
                    <a:pt x="18000" y="46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Веденн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машнього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господарств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119825"/>
            <p:cNvSpPr/>
            <p:nvPr/>
          </p:nvSpPr>
          <p:spPr>
            <a:xfrm>
              <a:off x="2361600" y="4186800"/>
              <a:ext cx="963000" cy="1983240"/>
            </a:xfrm>
            <a:custGeom>
              <a:avLst/>
              <a:gdLst>
                <a:gd name="textAreaLeft" fmla="*/ 46800 w 963000"/>
                <a:gd name="textAreaRight" fmla="*/ 916200 w 963000"/>
                <a:gd name="textAreaTop" fmla="*/ 46800 h 1983240"/>
                <a:gd name="textAreaBottom" fmla="*/ 1936440 h 1983240"/>
              </a:gdLst>
              <a:ahLst/>
              <a:rect l="textAreaLeft" t="textAreaTop" r="textAreaRight" b="textAreaBottom"/>
              <a:pathLst>
                <a:path w="21600" h="44475">
                  <a:moveTo>
                    <a:pt x="3600" y="0"/>
                  </a:moveTo>
                  <a:arcTo wR="3600" hR="3600" stAng="16200000" swAng="-5400000"/>
                  <a:lnTo>
                    <a:pt x="0" y="40875"/>
                  </a:lnTo>
                  <a:arcTo wR="3600" hR="3600" stAng="10800000" swAng="-5400000"/>
                  <a:lnTo>
                    <a:pt x="18000" y="444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помог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в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иготуванні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їжі,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годуванн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ліжко хвор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119826"/>
            <p:cNvSpPr/>
            <p:nvPr/>
          </p:nvSpPr>
          <p:spPr>
            <a:xfrm>
              <a:off x="3429000" y="4186800"/>
              <a:ext cx="963000" cy="1983240"/>
            </a:xfrm>
            <a:custGeom>
              <a:avLst/>
              <a:gdLst>
                <a:gd name="textAreaLeft" fmla="*/ 46800 w 963000"/>
                <a:gd name="textAreaRight" fmla="*/ 916200 w 963000"/>
                <a:gd name="textAreaTop" fmla="*/ 46800 h 1983240"/>
                <a:gd name="textAreaBottom" fmla="*/ 1936440 h 1983240"/>
              </a:gdLst>
              <a:ahLst/>
              <a:rect l="textAreaLeft" t="textAreaTop" r="textAreaRight" b="textAreaBottom"/>
              <a:pathLst>
                <a:path w="21600" h="44475">
                  <a:moveTo>
                    <a:pt x="3600" y="0"/>
                  </a:moveTo>
                  <a:arcTo wR="3600" hR="3600" stAng="16200000" swAng="-5400000"/>
                  <a:lnTo>
                    <a:pt x="0" y="40875"/>
                  </a:lnTo>
                  <a:arcTo wR="3600" hR="3600" stAng="10800000" swAng="-5400000"/>
                  <a:lnTo>
                    <a:pt x="18000" y="444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помог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в ремонті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житлових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а допоміжних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иміщен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119827"/>
            <p:cNvSpPr/>
            <p:nvPr/>
          </p:nvSpPr>
          <p:spPr>
            <a:xfrm>
              <a:off x="4653720" y="4168800"/>
              <a:ext cx="964440" cy="2001240"/>
            </a:xfrm>
            <a:custGeom>
              <a:avLst/>
              <a:gdLst>
                <a:gd name="textAreaLeft" fmla="*/ 46800 w 964440"/>
                <a:gd name="textAreaRight" fmla="*/ 917640 w 964440"/>
                <a:gd name="textAreaTop" fmla="*/ 46800 h 2001240"/>
                <a:gd name="textAreaBottom" fmla="*/ 1954440 h 2001240"/>
              </a:gdLst>
              <a:ahLst/>
              <a:rect l="textAreaLeft" t="textAreaTop" r="textAreaRight" b="textAreaBottom"/>
              <a:pathLst>
                <a:path w="21600" h="44812">
                  <a:moveTo>
                    <a:pt x="3600" y="0"/>
                  </a:moveTo>
                  <a:arcTo wR="3600" hR="3600" stAng="16200000" swAng="-5400000"/>
                  <a:lnTo>
                    <a:pt x="0" y="41212"/>
                  </a:lnTo>
                  <a:arcTo wR="3600" hR="3600" stAng="10800000" swAng="-5400000"/>
                  <a:lnTo>
                    <a:pt x="18000" y="44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помог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в оплаті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комунальн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ослуг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119828"/>
            <p:cNvSpPr/>
            <p:nvPr/>
          </p:nvSpPr>
          <p:spPr>
            <a:xfrm>
              <a:off x="5778000" y="4168800"/>
              <a:ext cx="963000" cy="2001240"/>
            </a:xfrm>
            <a:custGeom>
              <a:avLst/>
              <a:gdLst>
                <a:gd name="textAreaLeft" fmla="*/ 46800 w 963000"/>
                <a:gd name="textAreaRight" fmla="*/ 916200 w 963000"/>
                <a:gd name="textAreaTop" fmla="*/ 46800 h 2001240"/>
                <a:gd name="textAreaBottom" fmla="*/ 1954440 h 2001240"/>
              </a:gdLst>
              <a:ahLst/>
              <a:rect l="textAreaLeft" t="textAreaTop" r="textAreaRight" b="textAreaBottom"/>
              <a:pathLst>
                <a:path w="21600" h="44879">
                  <a:moveTo>
                    <a:pt x="3600" y="0"/>
                  </a:moveTo>
                  <a:arcTo wR="3600" hR="3600" stAng="16200000" swAng="-5400000"/>
                  <a:lnTo>
                    <a:pt x="0" y="41279"/>
                  </a:lnTo>
                  <a:arcTo wR="3600" hR="3600" stAng="10800000" swAng="-5400000"/>
                  <a:lnTo>
                    <a:pt x="18000" y="448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Санітарно 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гігієнічні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ослуг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119829"/>
            <p:cNvSpPr/>
            <p:nvPr/>
          </p:nvSpPr>
          <p:spPr>
            <a:xfrm>
              <a:off x="6933600" y="4186800"/>
              <a:ext cx="963000" cy="2001240"/>
            </a:xfrm>
            <a:custGeom>
              <a:avLst/>
              <a:gdLst>
                <a:gd name="textAreaLeft" fmla="*/ 46800 w 963000"/>
                <a:gd name="textAreaRight" fmla="*/ 916200 w 963000"/>
                <a:gd name="textAreaTop" fmla="*/ 46800 h 2001240"/>
                <a:gd name="textAreaBottom" fmla="*/ 1954440 h 2001240"/>
              </a:gdLst>
              <a:ahLst/>
              <a:rect l="textAreaLeft" t="textAreaTop" r="textAreaRight" b="textAreaBottom"/>
              <a:pathLst>
                <a:path w="21600" h="44879">
                  <a:moveTo>
                    <a:pt x="3600" y="0"/>
                  </a:moveTo>
                  <a:arcTo wR="3600" hR="3600" stAng="16200000" swAng="-5400000"/>
                  <a:lnTo>
                    <a:pt x="0" y="41279"/>
                  </a:lnTo>
                  <a:arcTo wR="3600" hR="3600" stAng="10800000" swAng="-5400000"/>
                  <a:lnTo>
                    <a:pt x="18000" y="448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опомога в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обробітку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присадибн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Діляно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(0,02 га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119830"/>
            <p:cNvSpPr/>
            <p:nvPr/>
          </p:nvSpPr>
          <p:spPr>
            <a:xfrm>
              <a:off x="8178120" y="4186800"/>
              <a:ext cx="965520" cy="2001240"/>
            </a:xfrm>
            <a:custGeom>
              <a:avLst/>
              <a:gdLst>
                <a:gd name="textAreaLeft" fmla="*/ 46800 w 965520"/>
                <a:gd name="textAreaRight" fmla="*/ 918720 w 965520"/>
                <a:gd name="textAreaTop" fmla="*/ 46800 h 2001240"/>
                <a:gd name="textAreaBottom" fmla="*/ 1954440 h 2001240"/>
              </a:gdLst>
              <a:ahLst/>
              <a:rect l="textAreaLeft" t="textAreaTop" r="textAreaRight" b="textAreaBottom"/>
              <a:pathLst>
                <a:path w="21600" h="44762">
                  <a:moveTo>
                    <a:pt x="3600" y="0"/>
                  </a:moveTo>
                  <a:arcTo wR="3600" hR="3600" stAng="16200000" swAng="-5400000"/>
                  <a:lnTo>
                    <a:pt x="0" y="41162"/>
                  </a:lnTo>
                  <a:arcTo wR="3600" hR="3600" stAng="10800000" swAng="-5400000"/>
                  <a:lnTo>
                    <a:pt x="18000" y="44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рганізація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взаємодії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з іншим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фахівцям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та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Arial"/>
                </a:rPr>
                <a:t>службам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28600" y="533520"/>
            <a:ext cx="8762760" cy="6399360"/>
            <a:chOff x="228600" y="533520"/>
            <a:chExt cx="8762760" cy="6399360"/>
          </a:xfrm>
        </p:grpSpPr>
        <p:cxnSp>
          <p:nvCxnSpPr>
            <p:cNvPr id="259" name="_s11296"/>
            <p:cNvCxnSpPr>
              <a:stCxn id="260" idx="0"/>
              <a:endCxn id="261" idx="2"/>
            </p:cNvCxnSpPr>
            <p:nvPr/>
          </p:nvCxnSpPr>
          <p:spPr>
            <a:xfrm flipV="1" rot="16200000">
              <a:off x="6888960" y="3492720"/>
              <a:ext cx="1167120" cy="208188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2" name="_s11294"/>
            <p:cNvCxnSpPr>
              <a:stCxn id="263" idx="0"/>
              <a:endCxn id="261" idx="2"/>
            </p:cNvCxnSpPr>
            <p:nvPr/>
          </p:nvCxnSpPr>
          <p:spPr>
            <a:xfrm flipV="1" rot="16200000">
              <a:off x="6332040" y="4049640"/>
              <a:ext cx="1167120" cy="96804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4" name="_s11292"/>
            <p:cNvCxnSpPr>
              <a:stCxn id="265" idx="0"/>
              <a:endCxn id="261" idx="2"/>
            </p:cNvCxnSpPr>
            <p:nvPr/>
          </p:nvCxnSpPr>
          <p:spPr>
            <a:xfrm flipH="1" flipV="1" rot="5400000">
              <a:off x="5773680" y="4458960"/>
              <a:ext cx="1167120" cy="14976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11290"/>
            <p:cNvCxnSpPr>
              <a:stCxn id="267" idx="0"/>
              <a:endCxn id="261" idx="2"/>
            </p:cNvCxnSpPr>
            <p:nvPr/>
          </p:nvCxnSpPr>
          <p:spPr>
            <a:xfrm flipH="1" flipV="1" rot="5400000">
              <a:off x="5217120" y="3902040"/>
              <a:ext cx="1167120" cy="126360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8" name="_s11288"/>
            <p:cNvCxnSpPr>
              <a:stCxn id="269" idx="0"/>
              <a:endCxn id="261" idx="2"/>
            </p:cNvCxnSpPr>
            <p:nvPr/>
          </p:nvCxnSpPr>
          <p:spPr>
            <a:xfrm flipH="1" flipV="1" rot="5400000">
              <a:off x="4659480" y="3344400"/>
              <a:ext cx="1167120" cy="2378520"/>
            </a:xfrm>
            <a:prstGeom prst="bentConnector3">
              <a:avLst>
                <a:gd name="adj1" fmla="val 978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11284"/>
            <p:cNvCxnSpPr>
              <a:stCxn id="271" idx="0"/>
              <a:endCxn id="272" idx="2"/>
            </p:cNvCxnSpPr>
            <p:nvPr/>
          </p:nvCxnSpPr>
          <p:spPr>
            <a:xfrm flipV="1" rot="16200000">
              <a:off x="1816200" y="3994920"/>
              <a:ext cx="1154520" cy="1089720"/>
            </a:xfrm>
            <a:prstGeom prst="bentConnector3">
              <a:avLst>
                <a:gd name="adj1" fmla="val 98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3" name="_s11282"/>
            <p:cNvCxnSpPr>
              <a:stCxn id="274" idx="0"/>
              <a:endCxn id="272" idx="2"/>
            </p:cNvCxnSpPr>
            <p:nvPr/>
          </p:nvCxnSpPr>
          <p:spPr>
            <a:xfrm flipH="1" flipV="1" rot="5400000">
              <a:off x="1258560" y="4526280"/>
              <a:ext cx="1154520" cy="27000"/>
            </a:xfrm>
            <a:prstGeom prst="bentConnector3">
              <a:avLst>
                <a:gd name="adj1" fmla="val 98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5" name="_s11280"/>
            <p:cNvCxnSpPr>
              <a:stCxn id="276" idx="0"/>
              <a:endCxn id="272" idx="2"/>
            </p:cNvCxnSpPr>
            <p:nvPr/>
          </p:nvCxnSpPr>
          <p:spPr>
            <a:xfrm flipH="1" flipV="1" rot="5400000">
              <a:off x="700200" y="3968640"/>
              <a:ext cx="1154520" cy="1142640"/>
            </a:xfrm>
            <a:prstGeom prst="bentConnector3">
              <a:avLst>
                <a:gd name="adj1" fmla="val 98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7" name="_s11277"/>
            <p:cNvCxnSpPr>
              <a:stCxn id="261" idx="0"/>
              <a:endCxn id="278" idx="2"/>
            </p:cNvCxnSpPr>
            <p:nvPr/>
          </p:nvCxnSpPr>
          <p:spPr>
            <a:xfrm flipV="1" rot="16200000">
              <a:off x="5214960" y="917280"/>
              <a:ext cx="649800" cy="1784880"/>
            </a:xfrm>
            <a:prstGeom prst="bentConnector3">
              <a:avLst>
                <a:gd name="adj1" fmla="val 1757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9" name="_s11276"/>
            <p:cNvCxnSpPr>
              <a:stCxn id="272" idx="0"/>
              <a:endCxn id="278" idx="2"/>
            </p:cNvCxnSpPr>
            <p:nvPr/>
          </p:nvCxnSpPr>
          <p:spPr>
            <a:xfrm flipH="1" flipV="1" rot="5400000">
              <a:off x="2810160" y="524160"/>
              <a:ext cx="876960" cy="279936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8" name="_s11272"/>
            <p:cNvSpPr/>
            <p:nvPr/>
          </p:nvSpPr>
          <p:spPr>
            <a:xfrm>
              <a:off x="2286360" y="533520"/>
              <a:ext cx="4723560" cy="952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Відділення організації надання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адресної  натуральної та грошової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допомог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11273"/>
            <p:cNvSpPr/>
            <p:nvPr/>
          </p:nvSpPr>
          <p:spPr>
            <a:xfrm>
              <a:off x="1371960" y="2361960"/>
              <a:ext cx="955440" cy="1601280"/>
            </a:xfrm>
            <a:custGeom>
              <a:avLst/>
              <a:gdLst>
                <a:gd name="textAreaLeft" fmla="*/ 46440 w 955440"/>
                <a:gd name="textAreaRight" fmla="*/ 909000 w 955440"/>
                <a:gd name="textAreaTop" fmla="*/ 46440 h 1601280"/>
                <a:gd name="textAreaBottom" fmla="*/ 1554840 h 1601280"/>
              </a:gdLst>
              <a:ahLst/>
              <a:rect l="textAreaLeft" t="textAreaTop" r="textAreaRight" b="textAreaBottom"/>
              <a:pathLst>
                <a:path w="21600" h="36195">
                  <a:moveTo>
                    <a:pt x="3600" y="0"/>
                  </a:moveTo>
                  <a:arcTo wR="3600" hR="3600" stAng="16200000" swAng="-5400000"/>
                  <a:lnTo>
                    <a:pt x="0" y="32595"/>
                  </a:lnTo>
                  <a:arcTo wR="3600" hR="3600" stAng="10800000" swAng="-5400000"/>
                  <a:lnTo>
                    <a:pt x="18000" y="361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Соціальн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економічні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послуг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_s11274"/>
            <p:cNvSpPr/>
            <p:nvPr/>
          </p:nvSpPr>
          <p:spPr>
            <a:xfrm>
              <a:off x="5791320" y="2134800"/>
              <a:ext cx="1280520" cy="1815480"/>
            </a:xfrm>
            <a:custGeom>
              <a:avLst/>
              <a:gdLst>
                <a:gd name="textAreaLeft" fmla="*/ 62280 w 1280520"/>
                <a:gd name="textAreaRight" fmla="*/ 1218240 w 1280520"/>
                <a:gd name="textAreaTop" fmla="*/ 62280 h 1815480"/>
                <a:gd name="textAreaBottom" fmla="*/ 1753200 h 1815480"/>
              </a:gdLst>
              <a:ahLst/>
              <a:rect l="textAreaLeft" t="textAreaTop" r="textAreaRight" b="textAreaBottom"/>
              <a:pathLst>
                <a:path w="21600" h="30621">
                  <a:moveTo>
                    <a:pt x="3600" y="0"/>
                  </a:moveTo>
                  <a:arcTo wR="3600" hR="3600" stAng="16200000" swAng="-5400000"/>
                  <a:lnTo>
                    <a:pt x="0" y="27021"/>
                  </a:lnTo>
                  <a:arcTo wR="3600" hR="3600" stAng="10800000" swAng="-5400000"/>
                  <a:lnTo>
                    <a:pt x="18000" y="30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Натуральн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Arial"/>
                </a:rPr>
                <a:t>допомог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_s11279"/>
            <p:cNvSpPr/>
            <p:nvPr/>
          </p:nvSpPr>
          <p:spPr>
            <a:xfrm>
              <a:off x="228600" y="5117400"/>
              <a:ext cx="956160" cy="1815480"/>
            </a:xfrm>
            <a:custGeom>
              <a:avLst/>
              <a:gdLst>
                <a:gd name="textAreaLeft" fmla="*/ 46440 w 956160"/>
                <a:gd name="textAreaRight" fmla="*/ 909720 w 95616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05">
                  <a:moveTo>
                    <a:pt x="3600" y="0"/>
                  </a:moveTo>
                  <a:arcTo wR="3600" hR="3600" stAng="16200000" swAng="-5400000"/>
                  <a:lnTo>
                    <a:pt x="0" y="37405"/>
                  </a:lnTo>
                  <a:arcTo wR="3600" hR="3600" stAng="10800000" swAng="-5400000"/>
                  <a:lnTo>
                    <a:pt x="18000" y="410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ока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ехнічн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а інш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засобів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еабілітаці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11281"/>
            <p:cNvSpPr/>
            <p:nvPr/>
          </p:nvSpPr>
          <p:spPr>
            <a:xfrm>
              <a:off x="1344240" y="5117400"/>
              <a:ext cx="956160" cy="1815480"/>
            </a:xfrm>
            <a:custGeom>
              <a:avLst/>
              <a:gdLst>
                <a:gd name="textAreaLeft" fmla="*/ 46440 w 956160"/>
                <a:gd name="textAreaRight" fmla="*/ 909720 w 95616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05">
                  <a:moveTo>
                    <a:pt x="3600" y="0"/>
                  </a:moveTo>
                  <a:arcTo wR="3600" hR="3600" stAng="16200000" swAng="-5400000"/>
                  <a:lnTo>
                    <a:pt x="0" y="37405"/>
                  </a:lnTo>
                  <a:arcTo wR="3600" hR="3600" stAng="10800000" swAng="-5400000"/>
                  <a:lnTo>
                    <a:pt x="18000" y="410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Автотран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рт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лу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11283"/>
            <p:cNvSpPr/>
            <p:nvPr/>
          </p:nvSpPr>
          <p:spPr>
            <a:xfrm>
              <a:off x="2460240" y="5117400"/>
              <a:ext cx="956160" cy="1815480"/>
            </a:xfrm>
            <a:custGeom>
              <a:avLst/>
              <a:gdLst>
                <a:gd name="textAreaLeft" fmla="*/ 46440 w 956160"/>
                <a:gd name="textAreaRight" fmla="*/ 909720 w 95616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05">
                  <a:moveTo>
                    <a:pt x="3600" y="0"/>
                  </a:moveTo>
                  <a:arcTo wR="3600" hR="3600" stAng="16200000" swAng="-5400000"/>
                  <a:lnTo>
                    <a:pt x="0" y="37405"/>
                  </a:lnTo>
                  <a:arcTo wR="3600" hR="3600" stAng="10800000" swAng="-5400000"/>
                  <a:lnTo>
                    <a:pt x="18000" y="410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ийом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а видач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ечей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що бул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у вжитк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11287"/>
            <p:cNvSpPr/>
            <p:nvPr/>
          </p:nvSpPr>
          <p:spPr>
            <a:xfrm>
              <a:off x="3576240" y="5117400"/>
              <a:ext cx="955440" cy="1815480"/>
            </a:xfrm>
            <a:custGeom>
              <a:avLst/>
              <a:gdLst>
                <a:gd name="textAreaLeft" fmla="*/ 46440 w 955440"/>
                <a:gd name="textAreaRight" fmla="*/ 909000 w 95544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36">
                  <a:moveTo>
                    <a:pt x="3600" y="0"/>
                  </a:moveTo>
                  <a:arcTo wR="3600" hR="3600" stAng="16200000" swAng="-5400000"/>
                  <a:lnTo>
                    <a:pt x="0" y="37436"/>
                  </a:lnTo>
                  <a:arcTo wR="3600" hR="3600" stAng="10800000" swAng="-5400000"/>
                  <a:lnTo>
                    <a:pt x="18000" y="410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ерукарськ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11289"/>
            <p:cNvSpPr/>
            <p:nvPr/>
          </p:nvSpPr>
          <p:spPr>
            <a:xfrm>
              <a:off x="4691160" y="5117400"/>
              <a:ext cx="955080" cy="1815480"/>
            </a:xfrm>
            <a:custGeom>
              <a:avLst/>
              <a:gdLst>
                <a:gd name="textAreaLeft" fmla="*/ 46440 w 955080"/>
                <a:gd name="textAreaRight" fmla="*/ 908640 w 95508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51">
                  <a:moveTo>
                    <a:pt x="3600" y="0"/>
                  </a:moveTo>
                  <a:arcTo wR="3600" hR="3600" stAng="16200000" swAng="-5400000"/>
                  <a:lnTo>
                    <a:pt x="0" y="37451"/>
                  </a:lnTo>
                  <a:arcTo wR="3600" hR="3600" stAng="10800000" swAng="-5400000"/>
                  <a:lnTo>
                    <a:pt x="18000" y="410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емон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і поши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дяг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а взутт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11291"/>
            <p:cNvSpPr/>
            <p:nvPr/>
          </p:nvSpPr>
          <p:spPr>
            <a:xfrm>
              <a:off x="5805720" y="5117400"/>
              <a:ext cx="955440" cy="1815480"/>
            </a:xfrm>
            <a:custGeom>
              <a:avLst/>
              <a:gdLst>
                <a:gd name="textAreaLeft" fmla="*/ 46440 w 955440"/>
                <a:gd name="textAreaRight" fmla="*/ 909000 w 95544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36">
                  <a:moveTo>
                    <a:pt x="3600" y="0"/>
                  </a:moveTo>
                  <a:arcTo wR="3600" hR="3600" stAng="16200000" swAng="-5400000"/>
                  <a:lnTo>
                    <a:pt x="0" y="37436"/>
                  </a:lnTo>
                  <a:arcTo wR="3600" hR="3600" stAng="10800000" swAng="-5400000"/>
                  <a:lnTo>
                    <a:pt x="18000" y="410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точний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емон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сел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_s11293"/>
            <p:cNvSpPr/>
            <p:nvPr/>
          </p:nvSpPr>
          <p:spPr>
            <a:xfrm>
              <a:off x="6920640" y="5117400"/>
              <a:ext cx="956160" cy="1815480"/>
            </a:xfrm>
            <a:custGeom>
              <a:avLst/>
              <a:gdLst>
                <a:gd name="textAreaLeft" fmla="*/ 46440 w 956160"/>
                <a:gd name="textAreaRight" fmla="*/ 909720 w 95616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05">
                  <a:moveTo>
                    <a:pt x="3600" y="0"/>
                  </a:moveTo>
                  <a:arcTo wR="3600" hR="3600" stAng="16200000" swAng="-5400000"/>
                  <a:lnTo>
                    <a:pt x="0" y="37405"/>
                  </a:lnTo>
                  <a:arcTo wR="3600" hR="3600" stAng="10800000" swAng="-5400000"/>
                  <a:lnTo>
                    <a:pt x="18000" y="410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Над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ільськ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госпо 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арськ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луг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11295"/>
            <p:cNvSpPr/>
            <p:nvPr/>
          </p:nvSpPr>
          <p:spPr>
            <a:xfrm>
              <a:off x="8036280" y="5117400"/>
              <a:ext cx="955080" cy="1815480"/>
            </a:xfrm>
            <a:custGeom>
              <a:avLst/>
              <a:gdLst>
                <a:gd name="textAreaLeft" fmla="*/ 46440 w 955080"/>
                <a:gd name="textAreaRight" fmla="*/ 908640 w 955080"/>
                <a:gd name="textAreaTop" fmla="*/ 46440 h 1815480"/>
                <a:gd name="textAreaBottom" fmla="*/ 1769040 h 1815480"/>
              </a:gdLst>
              <a:ahLst/>
              <a:rect l="textAreaLeft" t="textAreaTop" r="textAreaRight" b="textAreaBottom"/>
              <a:pathLst>
                <a:path w="21600" h="41051">
                  <a:moveTo>
                    <a:pt x="3600" y="0"/>
                  </a:moveTo>
                  <a:arcTo wR="3600" hR="3600" stAng="16200000" swAng="-5400000"/>
                  <a:lnTo>
                    <a:pt x="0" y="37451"/>
                  </a:lnTo>
                  <a:arcTo wR="3600" hR="3600" stAng="10800000" swAng="-5400000"/>
                  <a:lnTo>
                    <a:pt x="18000" y="410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анітарн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гігієніч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лу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(купання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білизни 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дягу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457200" y="277920"/>
            <a:ext cx="8228160" cy="5876640"/>
            <a:chOff x="457200" y="277920"/>
            <a:chExt cx="8228160" cy="5876640"/>
          </a:xfrm>
        </p:grpSpPr>
        <p:cxnSp>
          <p:nvCxnSpPr>
            <p:cNvPr id="281" name="_s7266"/>
            <p:cNvCxnSpPr>
              <a:stCxn id="282" idx="0"/>
              <a:endCxn id="283" idx="2"/>
            </p:cNvCxnSpPr>
            <p:nvPr/>
          </p:nvCxnSpPr>
          <p:spPr>
            <a:xfrm flipV="1" rot="16200000">
              <a:off x="6915960" y="3630240"/>
              <a:ext cx="98640" cy="111240"/>
            </a:xfrm>
            <a:prstGeom prst="bentConnector3">
              <a:avLst>
                <a:gd name="adj1" fmla="val 5054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4" name="_s7252"/>
            <p:cNvCxnSpPr>
              <a:stCxn id="285" idx="0"/>
              <a:endCxn id="283" idx="2"/>
            </p:cNvCxnSpPr>
            <p:nvPr/>
          </p:nvCxnSpPr>
          <p:spPr>
            <a:xfrm flipH="1" flipV="1" rot="5400000">
              <a:off x="5769000" y="3354120"/>
              <a:ext cx="858960" cy="1424160"/>
            </a:xfrm>
            <a:prstGeom prst="bentConnector3">
              <a:avLst>
                <a:gd name="adj1" fmla="val 132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6" name="_s7240"/>
            <p:cNvCxnSpPr>
              <a:stCxn id="287" idx="0"/>
              <a:endCxn id="288" idx="2"/>
            </p:cNvCxnSpPr>
            <p:nvPr/>
          </p:nvCxnSpPr>
          <p:spPr>
            <a:xfrm flipV="1" rot="16200000">
              <a:off x="4590000" y="1116720"/>
              <a:ext cx="830160" cy="89172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9" name="_s7238"/>
            <p:cNvCxnSpPr>
              <a:stCxn id="290" idx="0"/>
              <a:endCxn id="288" idx="2"/>
            </p:cNvCxnSpPr>
            <p:nvPr/>
          </p:nvCxnSpPr>
          <p:spPr>
            <a:xfrm flipH="1" flipV="1" rot="5400000">
              <a:off x="3725280" y="1143000"/>
              <a:ext cx="830160" cy="83916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1" name="_s7236"/>
            <p:cNvCxnSpPr>
              <a:stCxn id="292" idx="0"/>
              <a:endCxn id="293" idx="2"/>
            </p:cNvCxnSpPr>
            <p:nvPr/>
          </p:nvCxnSpPr>
          <p:spPr>
            <a:xfrm flipV="1" rot="16200000">
              <a:off x="2440440" y="3430080"/>
              <a:ext cx="858960" cy="1271880"/>
            </a:xfrm>
            <a:prstGeom prst="bentConnector3">
              <a:avLst>
                <a:gd name="adj1" fmla="val 132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4" name="_s7182"/>
            <p:cNvCxnSpPr>
              <a:stCxn id="295" idx="0"/>
              <a:endCxn id="283" idx="2"/>
            </p:cNvCxnSpPr>
            <p:nvPr/>
          </p:nvCxnSpPr>
          <p:spPr>
            <a:xfrm flipV="1" rot="16200000">
              <a:off x="7102080" y="3444120"/>
              <a:ext cx="858960" cy="1243440"/>
            </a:xfrm>
            <a:prstGeom prst="bentConnector3">
              <a:avLst>
                <a:gd name="adj1" fmla="val 132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6" name="_s7183"/>
            <p:cNvCxnSpPr>
              <a:stCxn id="297" idx="0"/>
              <a:endCxn id="283" idx="2"/>
            </p:cNvCxnSpPr>
            <p:nvPr/>
          </p:nvCxnSpPr>
          <p:spPr>
            <a:xfrm flipH="1" flipV="1" rot="5400000">
              <a:off x="6454800" y="4039920"/>
              <a:ext cx="858960" cy="52560"/>
            </a:xfrm>
            <a:prstGeom prst="bentConnector3">
              <a:avLst>
                <a:gd name="adj1" fmla="val 132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7186"/>
            <p:cNvCxnSpPr>
              <a:stCxn id="299" idx="0"/>
              <a:endCxn id="293" idx="2"/>
            </p:cNvCxnSpPr>
            <p:nvPr/>
          </p:nvCxnSpPr>
          <p:spPr>
            <a:xfrm flipV="1" rot="16200000">
              <a:off x="1819080" y="4050720"/>
              <a:ext cx="830160" cy="180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0" name="_s7187"/>
            <p:cNvCxnSpPr>
              <a:stCxn id="301" idx="0"/>
              <a:endCxn id="293" idx="2"/>
            </p:cNvCxnSpPr>
            <p:nvPr/>
          </p:nvCxnSpPr>
          <p:spPr>
            <a:xfrm flipH="1" flipV="1" rot="5400000">
              <a:off x="1196640" y="3429720"/>
              <a:ext cx="830160" cy="124380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2" name="_s7188"/>
            <p:cNvCxnSpPr>
              <a:stCxn id="283" idx="0"/>
              <a:endCxn id="288" idx="2"/>
            </p:cNvCxnSpPr>
            <p:nvPr/>
          </p:nvCxnSpPr>
          <p:spPr>
            <a:xfrm flipV="1" rot="16200000">
              <a:off x="5319720" y="387000"/>
              <a:ext cx="830160" cy="235116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3" name="_s7189"/>
            <p:cNvCxnSpPr>
              <a:stCxn id="293" idx="0"/>
              <a:endCxn id="288" idx="2"/>
            </p:cNvCxnSpPr>
            <p:nvPr/>
          </p:nvCxnSpPr>
          <p:spPr>
            <a:xfrm flipH="1" flipV="1" rot="5400000">
              <a:off x="2981520" y="399240"/>
              <a:ext cx="830160" cy="2326680"/>
            </a:xfrm>
            <a:prstGeom prst="bentConnector3">
              <a:avLst>
                <a:gd name="adj1" fmla="val 137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8" name="_s7190"/>
            <p:cNvSpPr/>
            <p:nvPr/>
          </p:nvSpPr>
          <p:spPr>
            <a:xfrm>
              <a:off x="2264400" y="277920"/>
              <a:ext cx="4588920" cy="870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ffffff"/>
                  </a:solidFill>
                  <a:latin typeface="Times New Roman"/>
                </a:rPr>
                <a:t>Відділення денного перебуванн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_s7191"/>
            <p:cNvSpPr/>
            <p:nvPr/>
          </p:nvSpPr>
          <p:spPr>
            <a:xfrm>
              <a:off x="1700280" y="1977480"/>
              <a:ext cx="1066680" cy="16592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595">
                  <a:moveTo>
                    <a:pt x="3600" y="0"/>
                  </a:moveTo>
                  <a:arcTo wR="3600" hR="3600" stAng="16200000" swAng="-5400000"/>
                  <a:lnTo>
                    <a:pt x="0" y="29995"/>
                  </a:lnTo>
                  <a:arcTo wR="3600" hR="3600" stAng="10800000" swAng="-5400000"/>
                  <a:lnTo>
                    <a:pt x="18000" y="33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послуг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«</a:t>
              </a: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адаптація”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7192"/>
            <p:cNvSpPr/>
            <p:nvPr/>
          </p:nvSpPr>
          <p:spPr>
            <a:xfrm>
              <a:off x="6404040" y="1977480"/>
              <a:ext cx="1012320" cy="1659240"/>
            </a:xfrm>
            <a:custGeom>
              <a:avLst/>
              <a:gdLst>
                <a:gd name="textAreaLeft" fmla="*/ 49320 w 1012320"/>
                <a:gd name="textAreaRight" fmla="*/ 963000 w 1012320"/>
                <a:gd name="textAreaTop" fmla="*/ 49320 h 1659240"/>
                <a:gd name="textAreaBottom" fmla="*/ 1609920 h 1659240"/>
              </a:gdLst>
              <a:ahLst/>
              <a:rect l="textAreaLeft" t="textAreaTop" r="textAreaRight" b="textAreaBottom"/>
              <a:pathLst>
                <a:path w="21600" h="35399">
                  <a:moveTo>
                    <a:pt x="3600" y="0"/>
                  </a:moveTo>
                  <a:arcTo wR="3600" hR="3600" stAng="16200000" swAng="-5400000"/>
                  <a:lnTo>
                    <a:pt x="0" y="31799"/>
                  </a:lnTo>
                  <a:arcTo wR="3600" hR="3600" stAng="10800000" swAng="-5400000"/>
                  <a:lnTo>
                    <a:pt x="18000" y="353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послуг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«денний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догляд»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_s7193"/>
            <p:cNvSpPr/>
            <p:nvPr/>
          </p:nvSpPr>
          <p:spPr>
            <a:xfrm>
              <a:off x="457200" y="4466520"/>
              <a:ext cx="1066680" cy="16592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595">
                  <a:moveTo>
                    <a:pt x="3600" y="0"/>
                  </a:moveTo>
                  <a:arcTo wR="3600" hR="3600" stAng="16200000" swAng="-5400000"/>
                  <a:lnTo>
                    <a:pt x="0" y="29995"/>
                  </a:lnTo>
                  <a:arcTo wR="3600" hR="3600" stAng="10800000" swAng="-5400000"/>
                  <a:lnTo>
                    <a:pt x="18000" y="33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«Ун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іверсите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реть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віку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7194"/>
            <p:cNvSpPr/>
            <p:nvPr/>
          </p:nvSpPr>
          <p:spPr>
            <a:xfrm>
              <a:off x="1701360" y="4466520"/>
              <a:ext cx="1066680" cy="16592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595">
                  <a:moveTo>
                    <a:pt x="3600" y="0"/>
                  </a:moveTo>
                  <a:arcTo wR="3600" hR="3600" stAng="16200000" swAng="-5400000"/>
                  <a:lnTo>
                    <a:pt x="0" y="29995"/>
                  </a:lnTo>
                  <a:arcTo wR="3600" hR="3600" stAng="10800000" swAng="-5400000"/>
                  <a:lnTo>
                    <a:pt x="18000" y="33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Бібліоте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7197"/>
            <p:cNvSpPr/>
            <p:nvPr/>
          </p:nvSpPr>
          <p:spPr>
            <a:xfrm>
              <a:off x="6248520" y="4495320"/>
              <a:ext cx="1217160" cy="1659240"/>
            </a:xfrm>
            <a:custGeom>
              <a:avLst/>
              <a:gdLst>
                <a:gd name="textAreaLeft" fmla="*/ 59400 w 1217160"/>
                <a:gd name="textAreaRight" fmla="*/ 1157760 w 1217160"/>
                <a:gd name="textAreaTop" fmla="*/ 59400 h 1659240"/>
                <a:gd name="textAreaBottom" fmla="*/ 1599840 h 1659240"/>
              </a:gdLst>
              <a:ahLst/>
              <a:rect l="textAreaLeft" t="textAreaTop" r="textAreaRight" b="textAreaBottom"/>
              <a:pathLst>
                <a:path w="21600" h="29443">
                  <a:moveTo>
                    <a:pt x="3600" y="0"/>
                  </a:moveTo>
                  <a:arcTo wR="3600" hR="3600" stAng="16200000" swAng="-5400000"/>
                  <a:lnTo>
                    <a:pt x="0" y="25843"/>
                  </a:lnTo>
                  <a:arcTo wR="3600" hR="3600" stAng="10800000" swAng="-5400000"/>
                  <a:lnTo>
                    <a:pt x="18000" y="294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ікувальн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фізкультура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«Скандинавсь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ходьба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_s7198"/>
            <p:cNvSpPr/>
            <p:nvPr/>
          </p:nvSpPr>
          <p:spPr>
            <a:xfrm>
              <a:off x="7620120" y="4495320"/>
              <a:ext cx="1065240" cy="1659240"/>
            </a:xfrm>
            <a:custGeom>
              <a:avLst/>
              <a:gdLst>
                <a:gd name="textAreaLeft" fmla="*/ 51840 w 1065240"/>
                <a:gd name="textAreaRight" fmla="*/ 1013400 w 106524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641">
                  <a:moveTo>
                    <a:pt x="3600" y="0"/>
                  </a:moveTo>
                  <a:arcTo wR="3600" hR="3600" stAng="16200000" swAng="-5400000"/>
                  <a:lnTo>
                    <a:pt x="0" y="30041"/>
                  </a:lnTo>
                  <a:arcTo wR="3600" hR="3600" stAng="10800000" swAng="-5400000"/>
                  <a:lnTo>
                    <a:pt x="18000" y="33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Кінезіотерапія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Ароматерапі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_s7235"/>
            <p:cNvSpPr/>
            <p:nvPr/>
          </p:nvSpPr>
          <p:spPr>
            <a:xfrm>
              <a:off x="2971800" y="4495320"/>
              <a:ext cx="1065240" cy="1659240"/>
            </a:xfrm>
            <a:custGeom>
              <a:avLst/>
              <a:gdLst>
                <a:gd name="textAreaLeft" fmla="*/ 51840 w 1065240"/>
                <a:gd name="textAreaRight" fmla="*/ 1013400 w 106524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641">
                  <a:moveTo>
                    <a:pt x="3600" y="0"/>
                  </a:moveTo>
                  <a:arcTo wR="3600" hR="3600" stAng="16200000" swAng="-5400000"/>
                  <a:lnTo>
                    <a:pt x="0" y="30041"/>
                  </a:lnTo>
                  <a:arcTo wR="3600" hR="3600" stAng="10800000" swAng="-5400000"/>
                  <a:lnTo>
                    <a:pt x="18000" y="33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Над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психологічно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опомо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7237"/>
            <p:cNvSpPr/>
            <p:nvPr/>
          </p:nvSpPr>
          <p:spPr>
            <a:xfrm>
              <a:off x="2944800" y="1977480"/>
              <a:ext cx="1551600" cy="1659240"/>
            </a:xfrm>
            <a:custGeom>
              <a:avLst/>
              <a:gdLst>
                <a:gd name="textAreaLeft" fmla="*/ 75600 w 1551600"/>
                <a:gd name="textAreaRight" fmla="*/ 1476000 w 1551600"/>
                <a:gd name="textAreaTop" fmla="*/ 75600 h 1659240"/>
                <a:gd name="textAreaBottom" fmla="*/ 1583640 h 1659240"/>
              </a:gdLst>
              <a:ahLst/>
              <a:rect l="textAreaLeft" t="textAreaTop" r="textAreaRight" b="textAreaBottom"/>
              <a:pathLst>
                <a:path w="21600" h="23098">
                  <a:moveTo>
                    <a:pt x="3600" y="0"/>
                  </a:moveTo>
                  <a:arcTo wR="3600" hR="3600" stAng="16200000" swAng="-5400000"/>
                  <a:lnTo>
                    <a:pt x="0" y="19498"/>
                  </a:lnTo>
                  <a:arcTo wR="3600" hR="3600" stAng="10800000" swAng="-5400000"/>
                  <a:lnTo>
                    <a:pt x="18000" y="230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послуг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«</a:t>
              </a: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консультування</a:t>
              </a: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7239"/>
            <p:cNvSpPr/>
            <p:nvPr/>
          </p:nvSpPr>
          <p:spPr>
            <a:xfrm>
              <a:off x="4674600" y="1977480"/>
              <a:ext cx="1551600" cy="1659240"/>
            </a:xfrm>
            <a:custGeom>
              <a:avLst/>
              <a:gdLst>
                <a:gd name="textAreaLeft" fmla="*/ 75600 w 1551600"/>
                <a:gd name="textAreaRight" fmla="*/ 1476000 w 1551600"/>
                <a:gd name="textAreaTop" fmla="*/ 75600 h 1659240"/>
                <a:gd name="textAreaBottom" fmla="*/ 1583640 h 1659240"/>
              </a:gdLst>
              <a:ahLst/>
              <a:rect l="textAreaLeft" t="textAreaTop" r="textAreaRight" b="textAreaBottom"/>
              <a:pathLst>
                <a:path w="21600" h="23098">
                  <a:moveTo>
                    <a:pt x="3600" y="0"/>
                  </a:moveTo>
                  <a:arcTo wR="3600" hR="3600" stAng="16200000" swAng="-5400000"/>
                  <a:lnTo>
                    <a:pt x="0" y="19498"/>
                  </a:lnTo>
                  <a:arcTo wR="3600" hR="3600" stAng="10800000" swAng="-5400000"/>
                  <a:lnTo>
                    <a:pt x="18000" y="230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Соціальн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послуг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«представництво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інтерес</a:t>
              </a:r>
              <a:r>
                <a:rPr b="1" lang="uk-UA" sz="1100" spc="-1" strike="noStrike">
                  <a:solidFill>
                    <a:srgbClr val="ffffff"/>
                  </a:solidFill>
                  <a:latin typeface="Arial"/>
                </a:rPr>
                <a:t>ів</a:t>
              </a:r>
              <a:r>
                <a:rPr b="1" lang="ru-RU" sz="1100" spc="-1" strike="noStrike">
                  <a:solidFill>
                    <a:srgbClr val="ffffff"/>
                  </a:solidFill>
                  <a:latin typeface="Arial"/>
                </a:rPr>
                <a:t>»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_s7250"/>
            <p:cNvSpPr/>
            <p:nvPr/>
          </p:nvSpPr>
          <p:spPr>
            <a:xfrm>
              <a:off x="4953240" y="4495320"/>
              <a:ext cx="1066680" cy="165924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1659240"/>
                <a:gd name="textAreaBottom" fmla="*/ 1607400 h 1659240"/>
              </a:gdLst>
              <a:ahLst/>
              <a:rect l="textAreaLeft" t="textAreaTop" r="textAreaRight" b="textAreaBottom"/>
              <a:pathLst>
                <a:path w="21600" h="33595">
                  <a:moveTo>
                    <a:pt x="3600" y="0"/>
                  </a:moveTo>
                  <a:arcTo wR="3600" hR="3600" stAng="16200000" swAng="-5400000"/>
                  <a:lnTo>
                    <a:pt x="0" y="29995"/>
                  </a:lnTo>
                  <a:arcTo wR="3600" hR="3600" stAng="10800000" swAng="-5400000"/>
                  <a:lnTo>
                    <a:pt x="18000" y="335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ослуги 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масажу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апара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електр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ерапевтичний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ерагем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Масте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CGM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3500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7265"/>
            <p:cNvSpPr/>
            <p:nvPr/>
          </p:nvSpPr>
          <p:spPr>
            <a:xfrm>
              <a:off x="6095160" y="3735000"/>
              <a:ext cx="1851840" cy="9093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Вимірювання цукру 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крові, артеріаль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иск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152280" y="304920"/>
            <a:ext cx="8811720" cy="6640560"/>
            <a:chOff x="152280" y="304920"/>
            <a:chExt cx="8811720" cy="6640560"/>
          </a:xfrm>
        </p:grpSpPr>
        <p:cxnSp>
          <p:nvCxnSpPr>
            <p:cNvPr id="305" name="_s35878"/>
            <p:cNvCxnSpPr>
              <a:stCxn id="306" idx="0"/>
              <a:endCxn id="307" idx="2"/>
            </p:cNvCxnSpPr>
            <p:nvPr/>
          </p:nvCxnSpPr>
          <p:spPr>
            <a:xfrm flipH="1" flipV="1" rot="5400000">
              <a:off x="4667400" y="3559320"/>
              <a:ext cx="115560" cy="75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8" name="_s35876"/>
            <p:cNvCxnSpPr>
              <a:stCxn id="309" idx="1"/>
              <a:endCxn id="310" idx="2"/>
            </p:cNvCxnSpPr>
            <p:nvPr/>
          </p:nvCxnSpPr>
          <p:spPr>
            <a:xfrm flipV="1" rot="10800000">
              <a:off x="5407560" y="5601240"/>
              <a:ext cx="764640" cy="1111320"/>
            </a:xfrm>
            <a:prstGeom prst="bentConnector4">
              <a:avLst>
                <a:gd name="adj1" fmla="val 10174"/>
                <a:gd name="adj2" fmla="val 1205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1" name="_s35872"/>
            <p:cNvCxnSpPr/>
            <p:nvPr/>
          </p:nvCxnSpPr>
          <p:spPr>
            <a:xfrm flipV="1" rot="10800000">
              <a:off x="4571280" y="5557680"/>
              <a:ext cx="1066680" cy="1155600"/>
            </a:xfrm>
            <a:prstGeom prst="bentConnector4">
              <a:avLst>
                <a:gd name="adj1" fmla="val 10702"/>
                <a:gd name="adj2" fmla="val 12009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2" name="_s35860"/>
            <p:cNvCxnSpPr>
              <a:stCxn id="307" idx="0"/>
              <a:endCxn id="313" idx="2"/>
            </p:cNvCxnSpPr>
            <p:nvPr/>
          </p:nvCxnSpPr>
          <p:spPr>
            <a:xfrm flipV="1" rot="16200000">
              <a:off x="4685040" y="1825920"/>
              <a:ext cx="115560" cy="39240"/>
            </a:xfrm>
            <a:prstGeom prst="bentConnector3">
              <a:avLst>
                <a:gd name="adj1" fmla="val 5062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4" name="_s35856"/>
            <p:cNvCxnSpPr>
              <a:stCxn id="315" idx="0"/>
            </p:cNvCxnSpPr>
            <p:nvPr/>
          </p:nvCxnSpPr>
          <p:spPr>
            <a:xfrm flipV="1" rot="16200000">
              <a:off x="5517720" y="1676880"/>
              <a:ext cx="2106720" cy="3521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6" name="_s35854"/>
            <p:cNvCxnSpPr>
              <a:stCxn id="317" idx="0"/>
              <a:endCxn id="313" idx="2"/>
            </p:cNvCxnSpPr>
            <p:nvPr/>
          </p:nvCxnSpPr>
          <p:spPr>
            <a:xfrm flipH="1" flipV="1" rot="5400000">
              <a:off x="2981160" y="2693880"/>
              <a:ext cx="2649240" cy="837360"/>
            </a:xfrm>
            <a:prstGeom prst="bentConnector3">
              <a:avLst>
                <a:gd name="adj1" fmla="val 43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8" name="_s35853"/>
            <p:cNvCxnSpPr>
              <a:stCxn id="319" idx="0"/>
              <a:endCxn id="313" idx="2"/>
            </p:cNvCxnSpPr>
            <p:nvPr/>
          </p:nvCxnSpPr>
          <p:spPr>
            <a:xfrm flipH="1" flipV="1" rot="5400000">
              <a:off x="2227320" y="1922040"/>
              <a:ext cx="2631240" cy="2362680"/>
            </a:xfrm>
            <a:prstGeom prst="bentConnector3">
              <a:avLst>
                <a:gd name="adj1" fmla="val 43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0" name="_s35852"/>
            <p:cNvCxnSpPr>
              <a:stCxn id="321" idx="0"/>
              <a:endCxn id="313" idx="2"/>
            </p:cNvCxnSpPr>
            <p:nvPr/>
          </p:nvCxnSpPr>
          <p:spPr>
            <a:xfrm flipH="1" flipV="1" rot="5400000">
              <a:off x="1437480" y="1150200"/>
              <a:ext cx="2649240" cy="3924360"/>
            </a:xfrm>
            <a:prstGeom prst="bentConnector3">
              <a:avLst>
                <a:gd name="adj1" fmla="val 43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3" name="_s35848"/>
            <p:cNvSpPr/>
            <p:nvPr/>
          </p:nvSpPr>
          <p:spPr>
            <a:xfrm>
              <a:off x="2743920" y="304920"/>
              <a:ext cx="3960360" cy="1483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Відділення стаціонарног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догляду для постійного аб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тимчасового проживанн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с. Деревк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_s35849"/>
            <p:cNvSpPr/>
            <p:nvPr/>
          </p:nvSpPr>
          <p:spPr>
            <a:xfrm>
              <a:off x="152280" y="4437360"/>
              <a:ext cx="1296000" cy="2249640"/>
            </a:xfrm>
            <a:custGeom>
              <a:avLst/>
              <a:gdLst>
                <a:gd name="textAreaLeft" fmla="*/ 63000 w 1296000"/>
                <a:gd name="textAreaRight" fmla="*/ 1233000 w 1296000"/>
                <a:gd name="textAreaTop" fmla="*/ 63000 h 2249640"/>
                <a:gd name="textAreaBottom" fmla="*/ 2186640 h 2249640"/>
              </a:gdLst>
              <a:ahLst/>
              <a:rect l="textAreaLeft" t="textAreaTop" r="textAreaRight" b="textAreaBottom"/>
              <a:pathLst>
                <a:path w="21600" h="37490">
                  <a:moveTo>
                    <a:pt x="3600" y="0"/>
                  </a:moveTo>
                  <a:arcTo wR="3600" hR="3600" stAng="16200000" swAng="-5400000"/>
                  <a:lnTo>
                    <a:pt x="0" y="33890"/>
                  </a:lnTo>
                  <a:arcTo wR="3600" hR="3600" stAng="10800000" swAng="-5400000"/>
                  <a:lnTo>
                    <a:pt x="18000" y="374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Надання ліжк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місця з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комунально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обутови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ослугами в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таціонарн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умов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_s35850"/>
            <p:cNvSpPr/>
            <p:nvPr/>
          </p:nvSpPr>
          <p:spPr>
            <a:xfrm>
              <a:off x="1752480" y="4419000"/>
              <a:ext cx="1218600" cy="2267640"/>
            </a:xfrm>
            <a:custGeom>
              <a:avLst/>
              <a:gdLst>
                <a:gd name="textAreaLeft" fmla="*/ 59400 w 1218600"/>
                <a:gd name="textAreaRight" fmla="*/ 1159200 w 1218600"/>
                <a:gd name="textAreaTop" fmla="*/ 59400 h 2267640"/>
                <a:gd name="textAreaBottom" fmla="*/ 2208240 h 2267640"/>
              </a:gdLst>
              <a:ahLst/>
              <a:rect l="textAreaLeft" t="textAreaTop" r="textAreaRight" b="textAreaBottom"/>
              <a:pathLst>
                <a:path w="21600" h="40189">
                  <a:moveTo>
                    <a:pt x="3600" y="0"/>
                  </a:moveTo>
                  <a:arcTo wR="3600" hR="3600" stAng="16200000" swAng="-5400000"/>
                  <a:lnTo>
                    <a:pt x="0" y="36589"/>
                  </a:lnTo>
                  <a:arcTo wR="3600" hR="3600" stAng="10800000" swAng="-5400000"/>
                  <a:lnTo>
                    <a:pt x="18000" y="401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безпече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харчуванням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вердим, м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яки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і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нвентаре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_s35851"/>
            <p:cNvSpPr/>
            <p:nvPr/>
          </p:nvSpPr>
          <p:spPr>
            <a:xfrm>
              <a:off x="3200760" y="4437360"/>
              <a:ext cx="1373400" cy="2267640"/>
            </a:xfrm>
            <a:custGeom>
              <a:avLst/>
              <a:gdLst>
                <a:gd name="textAreaLeft" fmla="*/ 66960 w 1373400"/>
                <a:gd name="textAreaRight" fmla="*/ 1306440 w 1373400"/>
                <a:gd name="textAreaTop" fmla="*/ 66960 h 2267640"/>
                <a:gd name="textAreaBottom" fmla="*/ 2200680 h 2267640"/>
              </a:gdLst>
              <a:ahLst/>
              <a:rect l="textAreaLeft" t="textAreaTop" r="textAreaRight" b="textAreaBottom"/>
              <a:pathLst>
                <a:path w="21600" h="35660">
                  <a:moveTo>
                    <a:pt x="3600" y="0"/>
                  </a:moveTo>
                  <a:arcTo wR="3600" hR="3600" stAng="16200000" swAng="-5400000"/>
                  <a:lnTo>
                    <a:pt x="0" y="32060"/>
                  </a:lnTo>
                  <a:arcTo wR="3600" hR="3600" stAng="10800000" swAng="-5400000"/>
                  <a:lnTo>
                    <a:pt x="18000" y="35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опомога в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амообслуговуван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(дотрим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особистої гігієни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рухового режиму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рийом ліків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годув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_s35855"/>
            <p:cNvSpPr/>
            <p:nvPr/>
          </p:nvSpPr>
          <p:spPr>
            <a:xfrm>
              <a:off x="7695360" y="4491720"/>
              <a:ext cx="1268640" cy="2176920"/>
            </a:xfrm>
            <a:custGeom>
              <a:avLst/>
              <a:gdLst>
                <a:gd name="textAreaLeft" fmla="*/ 61920 w 1268640"/>
                <a:gd name="textAreaRight" fmla="*/ 1206720 w 1268640"/>
                <a:gd name="textAreaTop" fmla="*/ 61920 h 2176920"/>
                <a:gd name="textAreaBottom" fmla="*/ 2115000 h 2176920"/>
              </a:gdLst>
              <a:ahLst/>
              <a:rect l="textAreaLeft" t="textAreaTop" r="textAreaRight" b="textAreaBottom"/>
              <a:pathLst>
                <a:path w="21600" h="37060">
                  <a:moveTo>
                    <a:pt x="3600" y="0"/>
                  </a:moveTo>
                  <a:arcTo wR="3600" hR="3600" stAng="16200000" swAng="-5400000"/>
                  <a:lnTo>
                    <a:pt x="0" y="33460"/>
                  </a:lnTo>
                  <a:arcTo wR="3600" hR="3600" stAng="10800000" swAng="-5400000"/>
                  <a:lnTo>
                    <a:pt x="18000" y="370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опомога 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безпеченн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ехнічним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соба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реабілітації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навч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користув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ни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_s35859"/>
            <p:cNvSpPr/>
            <p:nvPr/>
          </p:nvSpPr>
          <p:spPr>
            <a:xfrm>
              <a:off x="2743920" y="1903320"/>
              <a:ext cx="4035240" cy="16365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Відділення стаціонарног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догляду для постійного аб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тимчасового проживанн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Times New Roman"/>
                </a:rPr>
                <a:t>с. Велика Рублів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_s35871"/>
            <p:cNvSpPr/>
            <p:nvPr/>
          </p:nvSpPr>
          <p:spPr>
            <a:xfrm>
              <a:off x="4801320" y="4491720"/>
              <a:ext cx="1213920" cy="2221200"/>
            </a:xfrm>
            <a:custGeom>
              <a:avLst/>
              <a:gdLst>
                <a:gd name="textAreaLeft" fmla="*/ 59040 w 1213920"/>
                <a:gd name="textAreaRight" fmla="*/ 1154880 w 1213920"/>
                <a:gd name="textAreaTop" fmla="*/ 59040 h 2221200"/>
                <a:gd name="textAreaBottom" fmla="*/ 2162160 h 2221200"/>
              </a:gdLst>
              <a:ahLst/>
              <a:rect l="textAreaLeft" t="textAreaTop" r="textAreaRight" b="textAreaBottom"/>
              <a:pathLst>
                <a:path w="21600" h="39518">
                  <a:moveTo>
                    <a:pt x="3600" y="0"/>
                  </a:moveTo>
                  <a:arcTo wR="3600" hR="3600" stAng="16200000" swAng="-5400000"/>
                  <a:lnTo>
                    <a:pt x="0" y="35918"/>
                  </a:lnTo>
                  <a:arcTo wR="3600" hR="3600" stAng="10800000" swAng="-5400000"/>
                  <a:lnTo>
                    <a:pt x="18000" y="395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постереже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станом здоров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я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організаці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над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реабілітаційних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та медични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послу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_s35875"/>
            <p:cNvSpPr/>
            <p:nvPr/>
          </p:nvSpPr>
          <p:spPr>
            <a:xfrm>
              <a:off x="6172200" y="4491720"/>
              <a:ext cx="1216080" cy="2221200"/>
            </a:xfrm>
            <a:custGeom>
              <a:avLst/>
              <a:gdLst>
                <a:gd name="textAreaLeft" fmla="*/ 59040 w 1216080"/>
                <a:gd name="textAreaRight" fmla="*/ 1157040 w 1216080"/>
                <a:gd name="textAreaTop" fmla="*/ 59040 h 2221200"/>
                <a:gd name="textAreaBottom" fmla="*/ 2162160 h 2221200"/>
              </a:gdLst>
              <a:ahLst/>
              <a:rect l="textAreaLeft" t="textAreaTop" r="textAreaRight" b="textAreaBottom"/>
              <a:pathLst>
                <a:path w="21600" h="39448">
                  <a:moveTo>
                    <a:pt x="3600" y="0"/>
                  </a:moveTo>
                  <a:arcTo wR="3600" hR="3600" stAng="16200000" swAng="-5400000"/>
                  <a:lnTo>
                    <a:pt x="0" y="35848"/>
                  </a:lnTo>
                  <a:arcTo wR="3600" hR="3600" stAng="10800000" swAng="-5400000"/>
                  <a:lnTo>
                    <a:pt x="18000" y="394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Організаці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енно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зайнятості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</a:rPr>
                <a:t>дозвілл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_s35877"/>
            <p:cNvSpPr/>
            <p:nvPr/>
          </p:nvSpPr>
          <p:spPr>
            <a:xfrm>
              <a:off x="2361960" y="3655080"/>
              <a:ext cx="4649040" cy="612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imes New Roman"/>
                </a:rPr>
                <a:t>Соціальна послуга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«стац</a:t>
              </a:r>
              <a:r>
                <a:rPr b="1" lang="uk-UA" sz="1400" spc="-1" strike="noStrike">
                  <a:solidFill>
                    <a:srgbClr val="ffffff"/>
                  </a:solidFill>
                  <a:latin typeface="Times New Roman"/>
                </a:rPr>
                <a:t>іонарний догляд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»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457200" y="152280"/>
          <a:ext cx="8381880" cy="5850000"/>
        </p:xfrm>
        <a:graphic>
          <a:graphicData uri="http://schemas.openxmlformats.org/drawingml/2006/table">
            <a:tbl>
              <a:tblPr/>
              <a:tblGrid>
                <a:gridCol w="3570120"/>
                <a:gridCol w="2754360"/>
                <a:gridCol w="2057400"/>
              </a:tblGrid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 відділ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рів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уктурн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ідрозділ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акт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соціальної допомоги вдома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алія Васил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денного перебування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МЯКО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ітлана Іван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організації надання адресної натуральної та грошової допомоги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РОДА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ітлана Володимир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32-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стаціонарного догляду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. Дере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ИРИДЕН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ія Іван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35-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ілія відділення стаціонарного догляду с. Велика Рублі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ИРИДЕН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ія Івані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35-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 algn="just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Ще з давніх часів благодійність утвердилася в традиціях нашого народу. Цілком природним і закономірним вважалося допомогти знедоленому, нещасному, поділитися шматком хліба, захистити старість і немічність, порятувати хворого чи скривдженого, підтримати їхню життєдіяльність. Для цієї місії в 1990 році при Котелевському райсоцзабезі було створене відділення соціальної допомоги вдома,  яким обслуговувалося понад 80 одиноких непрацездатних громадян. З роками  потреби у надомному обслуговуванні та у наданні нових видів соціальних послуг зростали, тому відповідно до Постанови Кабінету Міністрів України від 22.02.1995 року №136 «Про вдосконалення управління у сфері соціального захисту населення», з метою покращення організації обслуговування пенсіонерів, розширення видів послуг, за погодженням з Головним управлінням праці та соціального захисту населення,   районною державною адміністрацією  1 вересня 2000 року створено територіальний центр соціального обслуговування пенсіонерів та одиноких непрацездатних громадян  до структури якого входили два відділення - соціальної допомоги вдома та організації надання грошової та натуральної допомо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6920" indent="0" algn="just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01.07.2010 року керуючись Постановою Кабінету Міністрів України від 29.12.2009 року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Деяк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 питання діяльності територіальних центрів соціального обслуговування (надання соціальних послуг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, розпорядженням голови Котелевської районної державної адміністрації від 01.03.2010 №33 проведена реорган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ція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ериторіального центру соціального обслуговування пенсіонерів та одиноких непрацездатних громадян  шляхом перетворення (перейменування) в територіальний центр надання соціальних послуг Котелевського рай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ідповідн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анови Каб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нету Міністрів України від 29.12.2009 року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Деяк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 питання діяльності територіальних центрів соціального обслуговування (надання соціальних послуг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 зі змінами, розпорядженням голови Котелевської районної державної адміністрації від 18.11.2020 №164 19.01.2021 року завершена реорган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ція шляхом перетворення територ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ального центру надання соціальних послуг Котелевського району в Комунальний заклад Територіальний центр надання соціальних послуг Котелевської селищної ра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Територіальним  центром  надаються  соціальні  послуги особам,  які опинились   у  складних  життєвих  ситуаціях,  пов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заних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похилим віком; 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хворобами, що  потребують  довготривалого  лікуванн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інвалідністю; 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малозабезпеченістю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ешканцям смт  Котельва, сіл  Деревки,  Млинки,  Більськ, Сидоряче,  Михайлівка Перша,  Михайлове,  Чернещина, Камінне. </a:t>
            </a: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Соціальні послуги надаються понад 1100 особам.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Працівниками територіального центру спільно з  головами ветеранських рад, старостами та працівниками відділу соціального захисту населення та надання соціальних послуг Котелевської селищної ради  вивчаються потреби жителів територіальної громади  у   наданні  різних  видів  соціальних послуг та розглядається потреба та  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ливість  впровадження нов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СНОВНІ ЦІЛІ НАДА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ИХ ПО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Соціальні послуги надаються для досягнення таких ці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78120">
              <a:lnSpc>
                <a:spcPct val="12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рофілактика складних життєвих обстав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78120">
              <a:lnSpc>
                <a:spcPct val="12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одолання складних життєвих обстав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78120">
              <a:lnSpc>
                <a:spcPct val="12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мінімізація негативних наслідків складних життєвих обстав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СНОВНІ ПРИНЦИПИ НАДА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ОЦІАЛЬНИХ ПО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тримання прав людини, прав особи з інвалідніст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Гуманізм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безпечення рівних прав та можливостей жінок і чоловік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ваги до честі та гідності, толерант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конності, соціальної справедлив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ступності та відкрит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еупередженості та безпеч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бровіль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Індивідуального підход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омплекс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онфіденцій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Максимальної ефективності та прозорості використання надавачами соціальних послуг бюджетних та інших  кошт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безпечення високого рівня якості соціальних послу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СНОВНІ ЗАВДАН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ТЕРИТОРІАЛЬНОГО ЦЕНТ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виявлення громадян, які потребують надання соціальних послуг, формування електронної бази даних таких громадян, визначення їх індивідуальних потреб у наданні соціальних послу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забезпечення якісного надання соціальних послу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- установлення зв’язків з підприємствами, установами та організаціями всіх форм власності, фізичними особами, родичами громадян, яким надає соціальні послуги територіальний центр, з метою сприяння в здійсненні надання соціальних послуг громадя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ecff"/>
                </a:solidFill>
                <a:latin typeface="Arial"/>
              </a:rPr>
              <a:t>Схема структури територіального центру надання соціальних послуг Котелевського району станом на 01.01.2021 рок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1600200"/>
            <a:ext cx="8305560" cy="4875120"/>
            <a:chOff x="457200" y="1600200"/>
            <a:chExt cx="8305560" cy="4875120"/>
          </a:xfrm>
        </p:grpSpPr>
        <p:cxnSp>
          <p:nvCxnSpPr>
            <p:cNvPr id="219" name="_s4129"/>
            <p:cNvCxnSpPr>
              <a:stCxn id="220" idx="0"/>
              <a:endCxn id="221" idx="2"/>
            </p:cNvCxnSpPr>
            <p:nvPr/>
          </p:nvCxnSpPr>
          <p:spPr>
            <a:xfrm flipV="1" rot="16200000">
              <a:off x="5832360" y="1940760"/>
              <a:ext cx="1097280" cy="339372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4123"/>
            <p:cNvCxnSpPr>
              <a:stCxn id="223" idx="0"/>
              <a:endCxn id="221" idx="2"/>
            </p:cNvCxnSpPr>
            <p:nvPr/>
          </p:nvCxnSpPr>
          <p:spPr>
            <a:xfrm flipV="1" rot="16200000">
              <a:off x="5032080" y="2741040"/>
              <a:ext cx="1097280" cy="179280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4" name="_s4121"/>
            <p:cNvCxnSpPr>
              <a:stCxn id="225" idx="0"/>
              <a:endCxn id="221" idx="2"/>
            </p:cNvCxnSpPr>
            <p:nvPr/>
          </p:nvCxnSpPr>
          <p:spPr>
            <a:xfrm flipV="1" rot="16200000">
              <a:off x="4250880" y="3522240"/>
              <a:ext cx="1097280" cy="23040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4113"/>
            <p:cNvCxnSpPr>
              <a:stCxn id="227" idx="0"/>
              <a:endCxn id="221" idx="2"/>
            </p:cNvCxnSpPr>
            <p:nvPr/>
          </p:nvCxnSpPr>
          <p:spPr>
            <a:xfrm flipH="1" flipV="1" rot="5400000">
              <a:off x="3547080" y="3048480"/>
              <a:ext cx="1097280" cy="117864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8" name="_s4112"/>
            <p:cNvCxnSpPr>
              <a:stCxn id="229" idx="0"/>
              <a:endCxn id="221" idx="2"/>
            </p:cNvCxnSpPr>
            <p:nvPr/>
          </p:nvCxnSpPr>
          <p:spPr>
            <a:xfrm flipH="1" flipV="1" rot="5400000">
              <a:off x="2895480" y="2428560"/>
              <a:ext cx="1129320" cy="2449800"/>
            </a:xfrm>
            <a:prstGeom prst="bentConnector3">
              <a:avLst>
                <a:gd name="adj1" fmla="val 10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0" name="_s4111"/>
            <p:cNvCxnSpPr>
              <a:stCxn id="231" idx="0"/>
              <a:endCxn id="221" idx="2"/>
            </p:cNvCxnSpPr>
            <p:nvPr/>
          </p:nvCxnSpPr>
          <p:spPr>
            <a:xfrm flipH="1" flipV="1" rot="5400000">
              <a:off x="2288880" y="1790280"/>
              <a:ext cx="1097280" cy="3694680"/>
            </a:xfrm>
            <a:prstGeom prst="bentConnector3">
              <a:avLst>
                <a:gd name="adj1" fmla="val 1037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1" name="_s4107"/>
            <p:cNvSpPr/>
            <p:nvPr/>
          </p:nvSpPr>
          <p:spPr>
            <a:xfrm>
              <a:off x="2895120" y="1600200"/>
              <a:ext cx="3578040" cy="14893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Апарат </a:t>
              </a:r>
              <a:r>
                <a:rPr b="1" lang="uk-UA" sz="1600" spc="-1" strike="noStrike">
                  <a:solidFill>
                    <a:srgbClr val="ffffff"/>
                  </a:solidFill>
                  <a:latin typeface="Arial"/>
                </a:rPr>
                <a:t>територіального</a:t>
              </a: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 центр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4108"/>
            <p:cNvSpPr/>
            <p:nvPr/>
          </p:nvSpPr>
          <p:spPr>
            <a:xfrm>
              <a:off x="457200" y="4186080"/>
              <a:ext cx="1067040" cy="225720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2257200"/>
                <a:gd name="textAreaBottom" fmla="*/ 2205360 h 2257200"/>
              </a:gdLst>
              <a:ahLst/>
              <a:rect l="textAreaLeft" t="textAreaTop" r="textAreaRight" b="textAreaBottom"/>
              <a:pathLst>
                <a:path w="21600" h="45684">
                  <a:moveTo>
                    <a:pt x="3600" y="0"/>
                  </a:moveTo>
                  <a:arcTo wR="3600" hR="3600" stAng="16200000" swAng="-5400000"/>
                  <a:lnTo>
                    <a:pt x="0" y="42084"/>
                  </a:lnTo>
                  <a:arcTo wR="3600" hR="3600" stAng="10800000" swAng="-5400000"/>
                  <a:lnTo>
                    <a:pt x="18000" y="456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оціально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опомог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дом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4109"/>
            <p:cNvSpPr/>
            <p:nvPr/>
          </p:nvSpPr>
          <p:spPr>
            <a:xfrm>
              <a:off x="1702080" y="4218120"/>
              <a:ext cx="1067040" cy="225720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2257200"/>
                <a:gd name="textAreaBottom" fmla="*/ 2205360 h 2257200"/>
              </a:gdLst>
              <a:ahLst/>
              <a:rect l="textAreaLeft" t="textAreaTop" r="textAreaRight" b="textAreaBottom"/>
              <a:pathLst>
                <a:path w="21600" h="45684">
                  <a:moveTo>
                    <a:pt x="3600" y="0"/>
                  </a:moveTo>
                  <a:arcTo wR="3600" hR="3600" stAng="16200000" swAng="-5400000"/>
                  <a:lnTo>
                    <a:pt x="0" y="42084"/>
                  </a:lnTo>
                  <a:arcTo wR="3600" hR="3600" stAng="10800000" swAng="-5400000"/>
                  <a:lnTo>
                    <a:pt x="18000" y="456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рганізаці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нада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адресно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натуральної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грошової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опомо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4110"/>
            <p:cNvSpPr/>
            <p:nvPr/>
          </p:nvSpPr>
          <p:spPr>
            <a:xfrm>
              <a:off x="2971800" y="4186080"/>
              <a:ext cx="1068480" cy="2257200"/>
            </a:xfrm>
            <a:custGeom>
              <a:avLst/>
              <a:gdLst>
                <a:gd name="textAreaLeft" fmla="*/ 51840 w 1068480"/>
                <a:gd name="textAreaRight" fmla="*/ 1016640 w 1068480"/>
                <a:gd name="textAreaTop" fmla="*/ 51840 h 2257200"/>
                <a:gd name="textAreaBottom" fmla="*/ 2205360 h 2257200"/>
              </a:gdLst>
              <a:ahLst/>
              <a:rect l="textAreaLeft" t="textAreaTop" r="textAreaRight" b="textAreaBottom"/>
              <a:pathLst>
                <a:path w="21600" h="45623">
                  <a:moveTo>
                    <a:pt x="3600" y="0"/>
                  </a:moveTo>
                  <a:arcTo wR="3600" hR="3600" stAng="16200000" swAng="-5400000"/>
                  <a:lnTo>
                    <a:pt x="0" y="42023"/>
                  </a:lnTo>
                  <a:arcTo wR="3600" hR="3600" stAng="10800000" swAng="-5400000"/>
                  <a:lnTo>
                    <a:pt x="18000" y="456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ен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еребув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4120"/>
            <p:cNvSpPr/>
            <p:nvPr/>
          </p:nvSpPr>
          <p:spPr>
            <a:xfrm>
              <a:off x="4267440" y="4186080"/>
              <a:ext cx="1295640" cy="225720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2257200"/>
                <a:gd name="textAreaBottom" fmla="*/ 2194200 h 2257200"/>
              </a:gdLst>
              <a:ahLst/>
              <a:rect l="textAreaLeft" t="textAreaTop" r="textAreaRight" b="textAreaBottom"/>
              <a:pathLst>
                <a:path w="21600" h="37626">
                  <a:moveTo>
                    <a:pt x="3600" y="0"/>
                  </a:moveTo>
                  <a:arcTo wR="3600" hR="3600" stAng="16200000" swAng="-5400000"/>
                  <a:lnTo>
                    <a:pt x="0" y="34026"/>
                  </a:lnTo>
                  <a:arcTo wR="3600" hR="3600" stAng="10800000" swAng="-5400000"/>
                  <a:lnTo>
                    <a:pt x="18000" y="376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таціонар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огляд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л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тійного ч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имчасов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оживання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. Деревки,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філі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4122"/>
            <p:cNvSpPr/>
            <p:nvPr/>
          </p:nvSpPr>
          <p:spPr>
            <a:xfrm>
              <a:off x="5791680" y="4186080"/>
              <a:ext cx="1370520" cy="2257200"/>
            </a:xfrm>
            <a:custGeom>
              <a:avLst/>
              <a:gdLst>
                <a:gd name="textAreaLeft" fmla="*/ 66600 w 1370520"/>
                <a:gd name="textAreaRight" fmla="*/ 1303920 w 1370520"/>
                <a:gd name="textAreaTop" fmla="*/ 66600 h 2257200"/>
                <a:gd name="textAreaBottom" fmla="*/ 2190600 h 2257200"/>
              </a:gdLst>
              <a:ahLst/>
              <a:rect l="textAreaLeft" t="textAreaTop" r="textAreaRight" b="textAreaBottom"/>
              <a:pathLst>
                <a:path w="21600" h="35571">
                  <a:moveTo>
                    <a:pt x="3600" y="0"/>
                  </a:moveTo>
                  <a:arcTo wR="3600" hR="3600" stAng="16200000" swAng="-5400000"/>
                  <a:lnTo>
                    <a:pt x="0" y="31971"/>
                  </a:lnTo>
                  <a:arcTo wR="3600" hR="3600" stAng="10800000" swAng="-5400000"/>
                  <a:lnTo>
                    <a:pt x="18000" y="355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Філі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е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стаціонарног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огляду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дл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остійного ч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тимчасов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проживанн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. Вел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Рублівка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4128"/>
            <p:cNvSpPr/>
            <p:nvPr/>
          </p:nvSpPr>
          <p:spPr>
            <a:xfrm>
              <a:off x="7390800" y="4186080"/>
              <a:ext cx="1371960" cy="2257200"/>
            </a:xfrm>
            <a:custGeom>
              <a:avLst/>
              <a:gdLst>
                <a:gd name="textAreaLeft" fmla="*/ 66960 w 1371960"/>
                <a:gd name="textAreaRight" fmla="*/ 1305000 w 1371960"/>
                <a:gd name="textAreaTop" fmla="*/ 66960 h 2257200"/>
                <a:gd name="textAreaBottom" fmla="*/ 2190240 h 2257200"/>
              </a:gdLst>
              <a:ahLst/>
              <a:rect l="textAreaLeft" t="textAreaTop" r="textAreaRight" b="textAreaBottom"/>
              <a:pathLst>
                <a:path w="21600" h="35533">
                  <a:moveTo>
                    <a:pt x="3600" y="0"/>
                  </a:moveTo>
                  <a:arcTo wR="3600" hR="3600" stAng="16200000" swAng="-5400000"/>
                  <a:lnTo>
                    <a:pt x="0" y="31933"/>
                  </a:lnTo>
                  <a:arcTo wR="3600" hR="3600" stAng="10800000" swAng="-5400000"/>
                  <a:lnTo>
                    <a:pt x="18000" y="35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Відділ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бухгалтерського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обліку т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ffffff"/>
                  </a:solidFill>
                  <a:latin typeface="Arial"/>
                </a:rPr>
                <a:t>звітності</a:t>
              </a:r>
              <a:r>
                <a:rPr b="0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ecff"/>
                </a:solidFill>
                <a:latin typeface="Arial"/>
              </a:rPr>
              <a:t>АПАРАТ ТЕРИТОРІАЛЬНОГО ЦЕНТР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143000"/>
          <a:ext cx="8229600" cy="5505480"/>
        </p:xfrm>
        <a:graphic>
          <a:graphicData uri="http://schemas.openxmlformats.org/drawingml/2006/table">
            <a:tbl>
              <a:tblPr/>
              <a:tblGrid>
                <a:gridCol w="3505320"/>
                <a:gridCol w="2590560"/>
                <a:gridCol w="213372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ректор територіального цент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ДЧЕН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алія Івані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20-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ступник директора-завідувач відділення соціальної допомоги вд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алія Василі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овний бухгал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ЕС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ина Олегі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20-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Інспектор з кадр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ВЧЕН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ітлана Миколаї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рисконсуль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ШУБ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лія Сергії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20-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Інженер з охорони пра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Ю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алія Михайлів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5350) 2-19-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1-02-26T06:51:4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