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049-D478-43E4-8FC3-1AD8A819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DE6-E990-4EC2-8E36-C4984312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BCB-0D1C-4578-951C-3EB2F6F5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FB7-A595-4D1E-9CB2-313463E9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7556-8603-4760-8582-B6FD1E75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6AE-DE56-421E-B640-DE60413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7221-B853-4C30-BFA9-29ABCD2F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43C-A512-4E6D-8CB5-B47C985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C48-D32C-4702-925B-E695EEC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0B1A-2F53-4E5F-9CF5-EA1A3FAD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2915-7949-4784-9E26-9507B99D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C3F-79C2-42A3-9F09-C32B4F7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F99-6B39-4B56-9D42-9FF1C34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6BFA-C1F6-48D5-BAD8-A4BD4F8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FB9D-A8F0-4B13-A56B-7093B49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23D-E8FC-4D5A-98D6-FBAEF85C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451-3CA8-401C-8A6C-F788900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CFB-9869-4E98-BC81-5AA5716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840-7B1A-4AED-80F7-D052042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EEE-D6C5-4D54-B489-1D5882DF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B63-FD37-4E2A-979C-20ED36C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6A1-CD7E-47EE-A6E1-A9AEBEE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D62-02FE-4D01-B370-8F5468A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4A9-639C-47B8-98E0-5C1D2C5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761-301A-4BD8-A103-3974E969B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9C9-1C3B-4EC7-9CF4-DC471FABB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МУНАЛЬНИЙ ЗАКЛ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РИТОРІАЛЬН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АДАННЯ СОЦІАЛЬНИХ ПОСЛ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ТЕЛЕВСЬКОЇ СЕЛИЩНОЇ Р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ИЙ ЦЕНТР НАДА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І ПОСЛУ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гляд вдо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н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а адаптац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таціонар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едставництво інтересі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консультуван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туральна допом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ціальні послуги в територіальному центр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даються особ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5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хилого віку, у тому числі з когнітивними розлад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інвалідністю, у тому числі  з  психічними та  поведінковими  розладами (крім осіб, які страждають на психічні розлади і вчинили суспільно небезпечні діяння та отримують амбулаторну психіатричну допомогу в примусовому порядку за рішенням суду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невиліковними хворобами, хворобами, що потребують тривалого лікування (з числа осіб працездатного віку на період до встановлення їм групи інвалідності, але не більше як на чотири місяці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 які  перебувають у складній життєвій ситуації у зв’язку з безробіттям і  зареєстровані в державній службі зайнятості як такі, що  шукають  роботу,  а  також у зв’язку  зі шкодою,  завданою  стихійним лихом, катастрофою, бойовими діями, терористичним актом, збройним конфліктом, тимчасовою окупацією, якщо вони мають на своєму утриманні неповнолітніх дітей, дітей з інвалідністю, осіб похилого віку, осіб з інвалідніст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нутрішньо переміщеним особ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учасникам АТО та ОСС, особам, які постраждали внаслідок Чорнобильської катастрофи і віднесені до 1, 2 і 3 категорії, воїнам- інтернаціоналістам незалежно від ві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УМОВИ НАДАННЯ 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надаю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бюджетних коштів (безо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особам з інвалідністю І групи; отримувачам середньомісячний сукупний дохід  не перевищує двох прожиткових мінімуми для відповідної категорії осіб; іншим категоріям осіб- соціальні послуги з інформування, консультування, представництва інтересів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отримувача соціальних послуг або третіх осіб відповідно до законодавства (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 установленням диференційованої 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понад обсяг, визначений державними стандартами соціальних послуг надаються за пла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КУМЕНТИ НЕОБХІДНІ ДЛЯ ОТРИМ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 algn="just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ява особи або її законного представника до структурного підрозділу з питань соціального захисту населення Котелевської селищної ра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заяви додаються наступні документи: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опія паспорта громадянина України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2. Копія документа, що засвідчує реєстрацію у Державному реєстрі фізичних осіб - платників податків, у якому зазначено реєстраційний номер облікової картки платника податків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3. Копія довідки до акта огляду медико-соціальною експертною комісією за формою, затвердженою МОЗ (для осіб з інвалідністю)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4. Медичний висновок про здатність до самообслуговування та потребу в сторонній допомозі (для одержувачів послуги догляд вдома, стаціонарного догляду, денного догляду, соц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альна адаптаці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280" y="152280"/>
            <a:ext cx="8991360" cy="6091560"/>
            <a:chOff x="152280" y="152280"/>
            <a:chExt cx="8991360" cy="6091560"/>
          </a:xfrm>
        </p:grpSpPr>
        <p:cxnSp>
          <p:nvCxnSpPr>
            <p:cNvPr id="239" name="_s119812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6161040" y="1687320"/>
              <a:ext cx="910080" cy="40888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119813"/>
            <p:cNvCxnSpPr>
              <a:stCxn id="243" idx="0"/>
              <a:endCxn id="241" idx="2"/>
            </p:cNvCxnSpPr>
            <p:nvPr/>
          </p:nvCxnSpPr>
          <p:spPr>
            <a:xfrm flipV="1" rot="16200000">
              <a:off x="5538960" y="2309400"/>
              <a:ext cx="910080" cy="28450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119814"/>
            <p:cNvCxnSpPr>
              <a:stCxn id="245" idx="0"/>
              <a:endCxn id="241" idx="2"/>
            </p:cNvCxnSpPr>
            <p:nvPr/>
          </p:nvCxnSpPr>
          <p:spPr>
            <a:xfrm flipV="1" rot="16200000">
              <a:off x="4969800" y="2878560"/>
              <a:ext cx="892080" cy="168876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119815"/>
            <p:cNvCxnSpPr>
              <a:stCxn id="247" idx="0"/>
              <a:endCxn id="241" idx="2"/>
            </p:cNvCxnSpPr>
            <p:nvPr/>
          </p:nvCxnSpPr>
          <p:spPr>
            <a:xfrm flipV="1" rot="16200000">
              <a:off x="4408200" y="3440160"/>
              <a:ext cx="892080" cy="56520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119816"/>
            <p:cNvCxnSpPr>
              <a:stCxn id="249" idx="0"/>
              <a:endCxn id="241" idx="2"/>
            </p:cNvCxnSpPr>
            <p:nvPr/>
          </p:nvCxnSpPr>
          <p:spPr>
            <a:xfrm flipH="1" flipV="1" rot="5400000">
              <a:off x="3786480" y="3401280"/>
              <a:ext cx="910080" cy="66132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119817"/>
            <p:cNvCxnSpPr/>
            <p:nvPr/>
          </p:nvCxnSpPr>
          <p:spPr>
            <a:xfrm flipH="1" flipV="1" rot="5400000">
              <a:off x="2984760" y="2572920"/>
              <a:ext cx="1506240" cy="168624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1" name="_s119818"/>
            <p:cNvCxnSpPr/>
            <p:nvPr/>
          </p:nvCxnSpPr>
          <p:spPr>
            <a:xfrm flipH="1" flipV="1" rot="5400000">
              <a:off x="2403720" y="2010240"/>
              <a:ext cx="1506240" cy="281160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119819"/>
            <p:cNvCxnSpPr/>
            <p:nvPr/>
          </p:nvCxnSpPr>
          <p:spPr>
            <a:xfrm flipH="1" flipV="1" rot="5400000">
              <a:off x="1824480" y="1447560"/>
              <a:ext cx="1506240" cy="393696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3" name="_s119820"/>
            <p:cNvCxnSpPr>
              <a:stCxn id="241" idx="0"/>
              <a:endCxn id="254" idx="2"/>
            </p:cNvCxnSpPr>
            <p:nvPr/>
          </p:nvCxnSpPr>
          <p:spPr>
            <a:xfrm flipV="1">
              <a:off x="4571640" y="1245240"/>
              <a:ext cx="1800" cy="89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119821"/>
            <p:cNvSpPr/>
            <p:nvPr/>
          </p:nvSpPr>
          <p:spPr>
            <a:xfrm>
              <a:off x="2209680" y="152280"/>
              <a:ext cx="4723560" cy="1093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соціальної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 вдо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19822"/>
            <p:cNvSpPr/>
            <p:nvPr/>
          </p:nvSpPr>
          <p:spPr>
            <a:xfrm>
              <a:off x="2209680" y="2135520"/>
              <a:ext cx="4723560" cy="1141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Соціальна послуг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« догляд вдом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119823"/>
            <p:cNvSpPr/>
            <p:nvPr/>
          </p:nvSpPr>
          <p:spPr>
            <a:xfrm>
              <a:off x="152280" y="4186800"/>
              <a:ext cx="965520" cy="20570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10">
                  <a:moveTo>
                    <a:pt x="3600" y="0"/>
                  </a:moveTo>
                  <a:arcTo wR="3600" hR="3600" stAng="16200000" swAng="-5400000"/>
                  <a:lnTo>
                    <a:pt x="0" y="42410"/>
                  </a:lnTo>
                  <a:arcTo wR="3600" hR="3600" stAng="10800000" swAng="-5400000"/>
                  <a:lnTo>
                    <a:pt x="18000" y="460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дб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ставка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дукт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мисл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оварів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кі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119824"/>
            <p:cNvSpPr/>
            <p:nvPr/>
          </p:nvSpPr>
          <p:spPr>
            <a:xfrm>
              <a:off x="1219320" y="4186800"/>
              <a:ext cx="964440" cy="20570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61">
                  <a:moveTo>
                    <a:pt x="3600" y="0"/>
                  </a:moveTo>
                  <a:arcTo wR="3600" hR="3600" stAng="16200000" swAng="-5400000"/>
                  <a:lnTo>
                    <a:pt x="0" y="42461"/>
                  </a:lnTo>
                  <a:arcTo wR="3600" hR="3600" stAng="10800000" swAng="-5400000"/>
                  <a:lnTo>
                    <a:pt x="18000" y="46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еде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машньог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сподарст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119825"/>
            <p:cNvSpPr/>
            <p:nvPr/>
          </p:nvSpPr>
          <p:spPr>
            <a:xfrm>
              <a:off x="23616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готуван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їжі,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дув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жко хвор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119826"/>
            <p:cNvSpPr/>
            <p:nvPr/>
          </p:nvSpPr>
          <p:spPr>
            <a:xfrm>
              <a:off x="34290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ремонт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житлових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допоміжних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міщен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119827"/>
            <p:cNvSpPr/>
            <p:nvPr/>
          </p:nvSpPr>
          <p:spPr>
            <a:xfrm>
              <a:off x="4653720" y="4168800"/>
              <a:ext cx="964440" cy="20012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12">
                  <a:moveTo>
                    <a:pt x="3600" y="0"/>
                  </a:moveTo>
                  <a:arcTo wR="3600" hR="3600" stAng="16200000" swAng="-5400000"/>
                  <a:lnTo>
                    <a:pt x="0" y="41212"/>
                  </a:lnTo>
                  <a:arcTo wR="3600" hR="3600" stAng="10800000" swAng="-5400000"/>
                  <a:lnTo>
                    <a:pt x="18000" y="44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оплаті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комуналь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119828"/>
            <p:cNvSpPr/>
            <p:nvPr/>
          </p:nvSpPr>
          <p:spPr>
            <a:xfrm>
              <a:off x="5778000" y="4168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анітарно 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ігієніч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19829"/>
            <p:cNvSpPr/>
            <p:nvPr/>
          </p:nvSpPr>
          <p:spPr>
            <a:xfrm>
              <a:off x="6933600" y="4186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обробітк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садиб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ілян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(0,02 га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119830"/>
            <p:cNvSpPr/>
            <p:nvPr/>
          </p:nvSpPr>
          <p:spPr>
            <a:xfrm>
              <a:off x="8178120" y="4186800"/>
              <a:ext cx="965520" cy="20012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762">
                  <a:moveTo>
                    <a:pt x="3600" y="0"/>
                  </a:moveTo>
                  <a:arcTo wR="3600" hR="3600" stAng="16200000" swAng="-5400000"/>
                  <a:lnTo>
                    <a:pt x="0" y="41162"/>
                  </a:lnTo>
                  <a:arcTo wR="3600" hR="3600" stAng="10800000" swAng="-5400000"/>
                  <a:lnTo>
                    <a:pt x="18000" y="44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рганізаці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взаємодії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з інши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фахівця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лужба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28600" y="533520"/>
            <a:ext cx="8762760" cy="6399360"/>
            <a:chOff x="228600" y="533520"/>
            <a:chExt cx="8762760" cy="6399360"/>
          </a:xfrm>
        </p:grpSpPr>
        <p:cxnSp>
          <p:nvCxnSpPr>
            <p:cNvPr id="259" name="_s11296"/>
            <p:cNvCxnSpPr>
              <a:stCxn id="260" idx="0"/>
              <a:endCxn id="261" idx="2"/>
            </p:cNvCxnSpPr>
            <p:nvPr/>
          </p:nvCxnSpPr>
          <p:spPr>
            <a:xfrm flipV="1" rot="16200000">
              <a:off x="6888960" y="3492720"/>
              <a:ext cx="1167120" cy="208188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2" name="_s11294"/>
            <p:cNvCxnSpPr>
              <a:stCxn id="263" idx="0"/>
              <a:endCxn id="261" idx="2"/>
            </p:cNvCxnSpPr>
            <p:nvPr/>
          </p:nvCxnSpPr>
          <p:spPr>
            <a:xfrm flipV="1" rot="16200000">
              <a:off x="6332040" y="4049640"/>
              <a:ext cx="1167120" cy="96804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11292"/>
            <p:cNvCxnSpPr>
              <a:stCxn id="265" idx="0"/>
              <a:endCxn id="261" idx="2"/>
            </p:cNvCxnSpPr>
            <p:nvPr/>
          </p:nvCxnSpPr>
          <p:spPr>
            <a:xfrm flipH="1" flipV="1" rot="5400000">
              <a:off x="5773680" y="4458960"/>
              <a:ext cx="1167120" cy="14976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11290"/>
            <p:cNvCxnSpPr>
              <a:stCxn id="267" idx="0"/>
              <a:endCxn id="261" idx="2"/>
            </p:cNvCxnSpPr>
            <p:nvPr/>
          </p:nvCxnSpPr>
          <p:spPr>
            <a:xfrm flipH="1" flipV="1" rot="5400000">
              <a:off x="5217120" y="3902040"/>
              <a:ext cx="1167120" cy="126360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1288"/>
            <p:cNvCxnSpPr>
              <a:stCxn id="269" idx="0"/>
              <a:endCxn id="261" idx="2"/>
            </p:cNvCxnSpPr>
            <p:nvPr/>
          </p:nvCxnSpPr>
          <p:spPr>
            <a:xfrm flipH="1" flipV="1" rot="5400000">
              <a:off x="4659480" y="3344400"/>
              <a:ext cx="1167120" cy="237852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1284"/>
            <p:cNvCxnSpPr>
              <a:stCxn id="271" idx="0"/>
              <a:endCxn id="272" idx="2"/>
            </p:cNvCxnSpPr>
            <p:nvPr/>
          </p:nvCxnSpPr>
          <p:spPr>
            <a:xfrm flipV="1" rot="16200000">
              <a:off x="1816200" y="3994920"/>
              <a:ext cx="1154520" cy="108972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11282"/>
            <p:cNvCxnSpPr>
              <a:stCxn id="274" idx="0"/>
              <a:endCxn id="272" idx="2"/>
            </p:cNvCxnSpPr>
            <p:nvPr/>
          </p:nvCxnSpPr>
          <p:spPr>
            <a:xfrm flipH="1" flipV="1" rot="5400000">
              <a:off x="1258560" y="4526280"/>
              <a:ext cx="1154520" cy="2700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5" name="_s11280"/>
            <p:cNvCxnSpPr>
              <a:stCxn id="276" idx="0"/>
              <a:endCxn id="272" idx="2"/>
            </p:cNvCxnSpPr>
            <p:nvPr/>
          </p:nvCxnSpPr>
          <p:spPr>
            <a:xfrm flipH="1" flipV="1" rot="5400000">
              <a:off x="700200" y="3968640"/>
              <a:ext cx="1154520" cy="114264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1277"/>
            <p:cNvCxnSpPr>
              <a:stCxn id="261" idx="0"/>
              <a:endCxn id="278" idx="2"/>
            </p:cNvCxnSpPr>
            <p:nvPr/>
          </p:nvCxnSpPr>
          <p:spPr>
            <a:xfrm flipV="1" rot="16200000">
              <a:off x="5214960" y="917280"/>
              <a:ext cx="649800" cy="1784880"/>
            </a:xfrm>
            <a:prstGeom prst="bentConnector3">
              <a:avLst>
                <a:gd name="adj1" fmla="val 175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11276"/>
            <p:cNvCxnSpPr>
              <a:stCxn id="272" idx="0"/>
              <a:endCxn id="278" idx="2"/>
            </p:cNvCxnSpPr>
            <p:nvPr/>
          </p:nvCxnSpPr>
          <p:spPr>
            <a:xfrm flipH="1" flipV="1" rot="5400000">
              <a:off x="2810160" y="524160"/>
              <a:ext cx="876960" cy="279936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11272"/>
            <p:cNvSpPr/>
            <p:nvPr/>
          </p:nvSpPr>
          <p:spPr>
            <a:xfrm>
              <a:off x="2286360" y="533520"/>
              <a:ext cx="4723560" cy="952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організації наданн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адресної  натуральної та грошової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11273"/>
            <p:cNvSpPr/>
            <p:nvPr/>
          </p:nvSpPr>
          <p:spPr>
            <a:xfrm>
              <a:off x="1371960" y="2361960"/>
              <a:ext cx="955440" cy="16012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601280"/>
                <a:gd name="textAreaBottom" fmla="*/ 1554840 h 1601280"/>
              </a:gdLst>
              <a:ahLst/>
              <a:rect l="textAreaLeft" t="textAreaTop" r="textAreaRight" b="textAreaBottom"/>
              <a:pathLst>
                <a:path w="21600" h="36195">
                  <a:moveTo>
                    <a:pt x="3600" y="0"/>
                  </a:moveTo>
                  <a:arcTo wR="3600" hR="3600" stAng="16200000" swAng="-5400000"/>
                  <a:lnTo>
                    <a:pt x="0" y="32595"/>
                  </a:lnTo>
                  <a:arcTo wR="3600" hR="3600" stAng="10800000" swAng="-5400000"/>
                  <a:lnTo>
                    <a:pt x="18000" y="36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Соціальн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економічні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11274"/>
            <p:cNvSpPr/>
            <p:nvPr/>
          </p:nvSpPr>
          <p:spPr>
            <a:xfrm>
              <a:off x="5791320" y="2134800"/>
              <a:ext cx="1280520" cy="1815480"/>
            </a:xfrm>
            <a:custGeom>
              <a:avLst/>
              <a:gdLst>
                <a:gd name="textAreaLeft" fmla="*/ 62280 w 1280520"/>
                <a:gd name="textAreaRight" fmla="*/ 1218240 w 1280520"/>
                <a:gd name="textAreaTop" fmla="*/ 62280 h 1815480"/>
                <a:gd name="textAreaBottom" fmla="*/ 1753200 h 1815480"/>
              </a:gdLst>
              <a:ahLst/>
              <a:rect l="textAreaLeft" t="textAreaTop" r="textAreaRight" b="textAreaBottom"/>
              <a:pathLst>
                <a:path w="21600" h="30621">
                  <a:moveTo>
                    <a:pt x="3600" y="0"/>
                  </a:moveTo>
                  <a:arcTo wR="3600" hR="3600" stAng="16200000" swAng="-5400000"/>
                  <a:lnTo>
                    <a:pt x="0" y="27021"/>
                  </a:lnTo>
                  <a:arcTo wR="3600" hR="3600" stAng="10800000" swAng="-5400000"/>
                  <a:lnTo>
                    <a:pt x="18000" y="30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Натураль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опомог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11279"/>
            <p:cNvSpPr/>
            <p:nvPr/>
          </p:nvSpPr>
          <p:spPr>
            <a:xfrm>
              <a:off x="22860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к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ехніч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інш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асобі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абілітаці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11281"/>
            <p:cNvSpPr/>
            <p:nvPr/>
          </p:nvSpPr>
          <p:spPr>
            <a:xfrm>
              <a:off x="1344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втотран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рт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1283"/>
            <p:cNvSpPr/>
            <p:nvPr/>
          </p:nvSpPr>
          <p:spPr>
            <a:xfrm>
              <a:off x="2460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ийо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идач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чей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що бул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у вжит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1287"/>
            <p:cNvSpPr/>
            <p:nvPr/>
          </p:nvSpPr>
          <p:spPr>
            <a:xfrm>
              <a:off x="357624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укарськ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11289"/>
            <p:cNvSpPr/>
            <p:nvPr/>
          </p:nvSpPr>
          <p:spPr>
            <a:xfrm>
              <a:off x="469116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і поши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зутт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11291"/>
            <p:cNvSpPr/>
            <p:nvPr/>
          </p:nvSpPr>
          <p:spPr>
            <a:xfrm>
              <a:off x="580572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точни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с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11293"/>
            <p:cNvSpPr/>
            <p:nvPr/>
          </p:nvSpPr>
          <p:spPr>
            <a:xfrm>
              <a:off x="69206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ільськ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оспо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арськ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11295"/>
            <p:cNvSpPr/>
            <p:nvPr/>
          </p:nvSpPr>
          <p:spPr>
            <a:xfrm>
              <a:off x="803628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анітар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ігієн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(купання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ілизни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57200" y="277920"/>
            <a:ext cx="8228160" cy="5876640"/>
            <a:chOff x="457200" y="277920"/>
            <a:chExt cx="8228160" cy="5876640"/>
          </a:xfrm>
        </p:grpSpPr>
        <p:cxnSp>
          <p:nvCxnSpPr>
            <p:cNvPr id="281" name="_s7266"/>
            <p:cNvCxnSpPr>
              <a:stCxn id="282" idx="0"/>
              <a:endCxn id="283" idx="2"/>
            </p:cNvCxnSpPr>
            <p:nvPr/>
          </p:nvCxnSpPr>
          <p:spPr>
            <a:xfrm flipV="1" rot="16200000">
              <a:off x="6915960" y="3630240"/>
              <a:ext cx="98640" cy="111240"/>
            </a:xfrm>
            <a:prstGeom prst="bentConnector3">
              <a:avLst>
                <a:gd name="adj1" fmla="val 505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7252"/>
            <p:cNvCxnSpPr>
              <a:stCxn id="285" idx="0"/>
              <a:endCxn id="283" idx="2"/>
            </p:cNvCxnSpPr>
            <p:nvPr/>
          </p:nvCxnSpPr>
          <p:spPr>
            <a:xfrm flipH="1" flipV="1" rot="5400000">
              <a:off x="5769000" y="3354120"/>
              <a:ext cx="858960" cy="14241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7240"/>
            <p:cNvCxnSpPr>
              <a:stCxn id="287" idx="0"/>
              <a:endCxn id="288" idx="2"/>
            </p:cNvCxnSpPr>
            <p:nvPr/>
          </p:nvCxnSpPr>
          <p:spPr>
            <a:xfrm flipV="1" rot="16200000">
              <a:off x="4590000" y="1116720"/>
              <a:ext cx="830160" cy="89172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7238"/>
            <p:cNvCxnSpPr>
              <a:stCxn id="290" idx="0"/>
              <a:endCxn id="288" idx="2"/>
            </p:cNvCxnSpPr>
            <p:nvPr/>
          </p:nvCxnSpPr>
          <p:spPr>
            <a:xfrm flipH="1" flipV="1" rot="5400000">
              <a:off x="3725280" y="1143000"/>
              <a:ext cx="830160" cy="839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1" name="_s7236"/>
            <p:cNvCxnSpPr>
              <a:stCxn id="292" idx="0"/>
              <a:endCxn id="293" idx="2"/>
            </p:cNvCxnSpPr>
            <p:nvPr/>
          </p:nvCxnSpPr>
          <p:spPr>
            <a:xfrm flipV="1" rot="16200000">
              <a:off x="2440440" y="3430080"/>
              <a:ext cx="858960" cy="127188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7182"/>
            <p:cNvCxnSpPr>
              <a:stCxn id="295" idx="0"/>
              <a:endCxn id="283" idx="2"/>
            </p:cNvCxnSpPr>
            <p:nvPr/>
          </p:nvCxnSpPr>
          <p:spPr>
            <a:xfrm flipV="1" rot="16200000">
              <a:off x="7102080" y="3444120"/>
              <a:ext cx="858960" cy="124344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7183"/>
            <p:cNvCxnSpPr>
              <a:stCxn id="297" idx="0"/>
              <a:endCxn id="283" idx="2"/>
            </p:cNvCxnSpPr>
            <p:nvPr/>
          </p:nvCxnSpPr>
          <p:spPr>
            <a:xfrm flipH="1" flipV="1" rot="5400000">
              <a:off x="6454800" y="4039920"/>
              <a:ext cx="858960" cy="525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7186"/>
            <p:cNvCxnSpPr>
              <a:stCxn id="299" idx="0"/>
              <a:endCxn id="293" idx="2"/>
            </p:cNvCxnSpPr>
            <p:nvPr/>
          </p:nvCxnSpPr>
          <p:spPr>
            <a:xfrm flipV="1" rot="16200000">
              <a:off x="1819080" y="4050720"/>
              <a:ext cx="830160" cy="1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7187"/>
            <p:cNvCxnSpPr>
              <a:stCxn id="301" idx="0"/>
              <a:endCxn id="293" idx="2"/>
            </p:cNvCxnSpPr>
            <p:nvPr/>
          </p:nvCxnSpPr>
          <p:spPr>
            <a:xfrm flipH="1" flipV="1" rot="5400000">
              <a:off x="1196640" y="3429720"/>
              <a:ext cx="830160" cy="1243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2" name="_s7188"/>
            <p:cNvCxnSpPr>
              <a:stCxn id="283" idx="0"/>
              <a:endCxn id="288" idx="2"/>
            </p:cNvCxnSpPr>
            <p:nvPr/>
          </p:nvCxnSpPr>
          <p:spPr>
            <a:xfrm flipV="1" rot="16200000">
              <a:off x="5319720" y="387000"/>
              <a:ext cx="830160" cy="2351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7189"/>
            <p:cNvCxnSpPr>
              <a:stCxn id="293" idx="0"/>
              <a:endCxn id="288" idx="2"/>
            </p:cNvCxnSpPr>
            <p:nvPr/>
          </p:nvCxnSpPr>
          <p:spPr>
            <a:xfrm flipH="1" flipV="1" rot="5400000">
              <a:off x="2981520" y="399240"/>
              <a:ext cx="830160" cy="232668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8" name="_s7190"/>
            <p:cNvSpPr/>
            <p:nvPr/>
          </p:nvSpPr>
          <p:spPr>
            <a:xfrm>
              <a:off x="2264400" y="277920"/>
              <a:ext cx="4588920" cy="870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ffffff"/>
                  </a:solidFill>
                  <a:latin typeface="Times New Roman"/>
                </a:rPr>
                <a:t>Відділення денного перебува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7191"/>
            <p:cNvSpPr/>
            <p:nvPr/>
          </p:nvSpPr>
          <p:spPr>
            <a:xfrm>
              <a:off x="1700280" y="197748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адаптація”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7192"/>
            <p:cNvSpPr/>
            <p:nvPr/>
          </p:nvSpPr>
          <p:spPr>
            <a:xfrm>
              <a:off x="6404040" y="1977480"/>
              <a:ext cx="1012320" cy="1659240"/>
            </a:xfrm>
            <a:custGeom>
              <a:avLst/>
              <a:gdLst>
                <a:gd name="textAreaLeft" fmla="*/ 49320 w 1012320"/>
                <a:gd name="textAreaRight" fmla="*/ 963000 w 1012320"/>
                <a:gd name="textAreaTop" fmla="*/ 49320 h 1659240"/>
                <a:gd name="textAreaBottom" fmla="*/ 1609920 h 1659240"/>
              </a:gdLst>
              <a:ahLst/>
              <a:rect l="textAreaLeft" t="textAreaTop" r="textAreaRight" b="textAreaBottom"/>
              <a:pathLst>
                <a:path w="21600" h="35399">
                  <a:moveTo>
                    <a:pt x="3600" y="0"/>
                  </a:moveTo>
                  <a:arcTo wR="3600" hR="3600" stAng="16200000" swAng="-5400000"/>
                  <a:lnTo>
                    <a:pt x="0" y="31799"/>
                  </a:lnTo>
                  <a:arcTo wR="3600" hR="3600" stAng="10800000" swAng="-5400000"/>
                  <a:lnTo>
                    <a:pt x="18000" y="35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денний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догляд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_s7193"/>
            <p:cNvSpPr/>
            <p:nvPr/>
          </p:nvSpPr>
          <p:spPr>
            <a:xfrm>
              <a:off x="45720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Ун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верс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реть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іку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7194"/>
            <p:cNvSpPr/>
            <p:nvPr/>
          </p:nvSpPr>
          <p:spPr>
            <a:xfrm>
              <a:off x="170136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Бібліоте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7197"/>
            <p:cNvSpPr/>
            <p:nvPr/>
          </p:nvSpPr>
          <p:spPr>
            <a:xfrm>
              <a:off x="6248520" y="4495320"/>
              <a:ext cx="1217160" cy="1659240"/>
            </a:xfrm>
            <a:custGeom>
              <a:avLst/>
              <a:gdLst>
                <a:gd name="textAreaLeft" fmla="*/ 59400 w 1217160"/>
                <a:gd name="textAreaRight" fmla="*/ 1157760 w 1217160"/>
                <a:gd name="textAreaTop" fmla="*/ 59400 h 1659240"/>
                <a:gd name="textAreaBottom" fmla="*/ 1599840 h 1659240"/>
              </a:gdLst>
              <a:ahLst/>
              <a:rect l="textAreaLeft" t="textAreaTop" r="textAreaRight" b="textAreaBottom"/>
              <a:pathLst>
                <a:path w="21600" h="29443">
                  <a:moveTo>
                    <a:pt x="3600" y="0"/>
                  </a:moveTo>
                  <a:arcTo wR="3600" hR="3600" stAng="16200000" swAng="-5400000"/>
                  <a:lnTo>
                    <a:pt x="0" y="25843"/>
                  </a:lnTo>
                  <a:arcTo wR="3600" hR="3600" stAng="10800000" swAng="-5400000"/>
                  <a:lnTo>
                    <a:pt x="18000" y="294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куваль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фізкультура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Скандинавсь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ходьба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7198"/>
            <p:cNvSpPr/>
            <p:nvPr/>
          </p:nvSpPr>
          <p:spPr>
            <a:xfrm>
              <a:off x="762012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інезіотерапі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роматерап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7235"/>
            <p:cNvSpPr/>
            <p:nvPr/>
          </p:nvSpPr>
          <p:spPr>
            <a:xfrm>
              <a:off x="297180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психологічно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7237"/>
            <p:cNvSpPr/>
            <p:nvPr/>
          </p:nvSpPr>
          <p:spPr>
            <a:xfrm>
              <a:off x="29448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консультування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7239"/>
            <p:cNvSpPr/>
            <p:nvPr/>
          </p:nvSpPr>
          <p:spPr>
            <a:xfrm>
              <a:off x="46746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представництво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інтерес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ів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7250"/>
            <p:cNvSpPr/>
            <p:nvPr/>
          </p:nvSpPr>
          <p:spPr>
            <a:xfrm>
              <a:off x="4953240" y="44953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и 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аж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пар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електр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рапевтичний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ераге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те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G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350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265"/>
            <p:cNvSpPr/>
            <p:nvPr/>
          </p:nvSpPr>
          <p:spPr>
            <a:xfrm>
              <a:off x="6095160" y="3735000"/>
              <a:ext cx="1851840" cy="909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имірювання цукру 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рові, артеріаль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ис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52280" y="304920"/>
            <a:ext cx="8811720" cy="6640560"/>
            <a:chOff x="152280" y="304920"/>
            <a:chExt cx="8811720" cy="6640560"/>
          </a:xfrm>
        </p:grpSpPr>
        <p:cxnSp>
          <p:nvCxnSpPr>
            <p:cNvPr id="305" name="_s35878"/>
            <p:cNvCxnSpPr>
              <a:stCxn id="306" idx="0"/>
              <a:endCxn id="307" idx="2"/>
            </p:cNvCxnSpPr>
            <p:nvPr/>
          </p:nvCxnSpPr>
          <p:spPr>
            <a:xfrm flipH="1" flipV="1" rot="5400000">
              <a:off x="4667400" y="3559320"/>
              <a:ext cx="115560" cy="7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8" name="_s35876"/>
            <p:cNvCxnSpPr>
              <a:stCxn id="309" idx="1"/>
              <a:endCxn id="310" idx="2"/>
            </p:cNvCxnSpPr>
            <p:nvPr/>
          </p:nvCxnSpPr>
          <p:spPr>
            <a:xfrm flipV="1" rot="10800000">
              <a:off x="5407560" y="5601240"/>
              <a:ext cx="764640" cy="1111320"/>
            </a:xfrm>
            <a:prstGeom prst="bentConnector4">
              <a:avLst>
                <a:gd name="adj1" fmla="val 10174"/>
                <a:gd name="adj2" fmla="val 1205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1" name="_s35872"/>
            <p:cNvCxnSpPr/>
            <p:nvPr/>
          </p:nvCxnSpPr>
          <p:spPr>
            <a:xfrm flipV="1" rot="10800000">
              <a:off x="4571280" y="5557680"/>
              <a:ext cx="1066680" cy="1155600"/>
            </a:xfrm>
            <a:prstGeom prst="bentConnector4">
              <a:avLst>
                <a:gd name="adj1" fmla="val 10702"/>
                <a:gd name="adj2" fmla="val 1200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35860"/>
            <p:cNvCxnSpPr>
              <a:stCxn id="307" idx="0"/>
              <a:endCxn id="313" idx="2"/>
            </p:cNvCxnSpPr>
            <p:nvPr/>
          </p:nvCxnSpPr>
          <p:spPr>
            <a:xfrm flipV="1" rot="16200000">
              <a:off x="4685040" y="1825920"/>
              <a:ext cx="115560" cy="39240"/>
            </a:xfrm>
            <a:prstGeom prst="bentConnector3">
              <a:avLst>
                <a:gd name="adj1" fmla="val 506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35856"/>
            <p:cNvCxnSpPr>
              <a:stCxn id="315" idx="0"/>
            </p:cNvCxnSpPr>
            <p:nvPr/>
          </p:nvCxnSpPr>
          <p:spPr>
            <a:xfrm flipV="1" rot="16200000">
              <a:off x="5517720" y="1676880"/>
              <a:ext cx="2106720" cy="352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35854"/>
            <p:cNvCxnSpPr>
              <a:stCxn id="317" idx="0"/>
              <a:endCxn id="313" idx="2"/>
            </p:cNvCxnSpPr>
            <p:nvPr/>
          </p:nvCxnSpPr>
          <p:spPr>
            <a:xfrm flipH="1" flipV="1" rot="5400000">
              <a:off x="2981160" y="2693880"/>
              <a:ext cx="2649240" cy="837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35853"/>
            <p:cNvCxnSpPr>
              <a:stCxn id="319" idx="0"/>
              <a:endCxn id="313" idx="2"/>
            </p:cNvCxnSpPr>
            <p:nvPr/>
          </p:nvCxnSpPr>
          <p:spPr>
            <a:xfrm flipH="1" flipV="1" rot="5400000">
              <a:off x="2227320" y="1922040"/>
              <a:ext cx="2631240" cy="2362680"/>
            </a:xfrm>
            <a:prstGeom prst="bentConnector3">
              <a:avLst>
                <a:gd name="adj1" fmla="val 4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35852"/>
            <p:cNvCxnSpPr>
              <a:stCxn id="321" idx="0"/>
              <a:endCxn id="313" idx="2"/>
            </p:cNvCxnSpPr>
            <p:nvPr/>
          </p:nvCxnSpPr>
          <p:spPr>
            <a:xfrm flipH="1" flipV="1" rot="5400000">
              <a:off x="1437480" y="1150200"/>
              <a:ext cx="2649240" cy="3924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3" name="_s35848"/>
            <p:cNvSpPr/>
            <p:nvPr/>
          </p:nvSpPr>
          <p:spPr>
            <a:xfrm>
              <a:off x="2743920" y="304920"/>
              <a:ext cx="3960360" cy="1483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Дерев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_s35849"/>
            <p:cNvSpPr/>
            <p:nvPr/>
          </p:nvSpPr>
          <p:spPr>
            <a:xfrm>
              <a:off x="152280" y="4437360"/>
              <a:ext cx="1296000" cy="2249640"/>
            </a:xfrm>
            <a:custGeom>
              <a:avLst/>
              <a:gdLst>
                <a:gd name="textAreaLeft" fmla="*/ 63000 w 1296000"/>
                <a:gd name="textAreaRight" fmla="*/ 1233000 w 1296000"/>
                <a:gd name="textAreaTop" fmla="*/ 63000 h 2249640"/>
                <a:gd name="textAreaBottom" fmla="*/ 2186640 h 2249640"/>
              </a:gdLst>
              <a:ahLst/>
              <a:rect l="textAreaLeft" t="textAreaTop" r="textAreaRight" b="textAreaBottom"/>
              <a:pathLst>
                <a:path w="21600" h="37490">
                  <a:moveTo>
                    <a:pt x="3600" y="0"/>
                  </a:moveTo>
                  <a:arcTo wR="3600" hR="3600" stAng="16200000" swAng="-5400000"/>
                  <a:lnTo>
                    <a:pt x="0" y="33890"/>
                  </a:lnTo>
                  <a:arcTo wR="3600" hR="3600" stAng="10800000" swAng="-5400000"/>
                  <a:lnTo>
                    <a:pt x="18000" y="374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 ліжк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ісця з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муналь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бутов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ами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ціонар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умов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35850"/>
            <p:cNvSpPr/>
            <p:nvPr/>
          </p:nvSpPr>
          <p:spPr>
            <a:xfrm>
              <a:off x="1752480" y="4419000"/>
              <a:ext cx="1218600" cy="2267640"/>
            </a:xfrm>
            <a:custGeom>
              <a:avLst/>
              <a:gdLst>
                <a:gd name="textAreaLeft" fmla="*/ 59400 w 1218600"/>
                <a:gd name="textAreaRight" fmla="*/ 1159200 w 1218600"/>
                <a:gd name="textAreaTop" fmla="*/ 59400 h 2267640"/>
                <a:gd name="textAreaBottom" fmla="*/ 2208240 h 2267640"/>
              </a:gdLst>
              <a:ahLst/>
              <a:rect l="textAreaLeft" t="textAreaTop" r="textAreaRight" b="textAreaBottom"/>
              <a:pathLst>
                <a:path w="21600" h="40189">
                  <a:moveTo>
                    <a:pt x="3600" y="0"/>
                  </a:moveTo>
                  <a:arcTo wR="3600" hR="3600" stAng="16200000" swAng="-5400000"/>
                  <a:lnTo>
                    <a:pt x="0" y="36589"/>
                  </a:lnTo>
                  <a:arcTo wR="3600" hR="3600" stAng="10800000" swAng="-5400000"/>
                  <a:lnTo>
                    <a:pt x="18000" y="401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харчуванням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вердим, м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ки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вентаре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_s35851"/>
            <p:cNvSpPr/>
            <p:nvPr/>
          </p:nvSpPr>
          <p:spPr>
            <a:xfrm>
              <a:off x="3200760" y="4437360"/>
              <a:ext cx="1373400" cy="2267640"/>
            </a:xfrm>
            <a:custGeom>
              <a:avLst/>
              <a:gdLst>
                <a:gd name="textAreaLeft" fmla="*/ 66960 w 1373400"/>
                <a:gd name="textAreaRight" fmla="*/ 1306440 w 1373400"/>
                <a:gd name="textAreaTop" fmla="*/ 66960 h 2267640"/>
                <a:gd name="textAreaBottom" fmla="*/ 2200680 h 2267640"/>
              </a:gdLst>
              <a:ahLst/>
              <a:rect l="textAreaLeft" t="textAreaTop" r="textAreaRight" b="textAreaBottom"/>
              <a:pathLst>
                <a:path w="21600" h="35660">
                  <a:moveTo>
                    <a:pt x="3600" y="0"/>
                  </a:moveTo>
                  <a:arcTo wR="3600" hR="3600" stAng="16200000" swAng="-5400000"/>
                  <a:lnTo>
                    <a:pt x="0" y="32060"/>
                  </a:lnTo>
                  <a:arcTo wR="3600" hR="3600" stAng="10800000" swAng="-5400000"/>
                  <a:lnTo>
                    <a:pt x="18000" y="35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амообслуговува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(дотрим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собистої гігієн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ухового режим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рийом ліків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год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35855"/>
            <p:cNvSpPr/>
            <p:nvPr/>
          </p:nvSpPr>
          <p:spPr>
            <a:xfrm>
              <a:off x="7695360" y="4491720"/>
              <a:ext cx="1268640" cy="2176920"/>
            </a:xfrm>
            <a:custGeom>
              <a:avLst/>
              <a:gdLst>
                <a:gd name="textAreaLeft" fmla="*/ 61920 w 1268640"/>
                <a:gd name="textAreaRight" fmla="*/ 1206720 w 1268640"/>
                <a:gd name="textAreaTop" fmla="*/ 61920 h 2176920"/>
                <a:gd name="textAreaBottom" fmla="*/ 2115000 h 2176920"/>
              </a:gdLst>
              <a:ahLst/>
              <a:rect l="textAreaLeft" t="textAreaTop" r="textAreaRight" b="textAreaBottom"/>
              <a:pathLst>
                <a:path w="21600" h="37060">
                  <a:moveTo>
                    <a:pt x="3600" y="0"/>
                  </a:moveTo>
                  <a:arcTo wR="3600" hR="3600" stAng="16200000" swAng="-5400000"/>
                  <a:lnTo>
                    <a:pt x="0" y="33460"/>
                  </a:lnTo>
                  <a:arcTo wR="3600" hR="3600" stAng="10800000" swAng="-5400000"/>
                  <a:lnTo>
                    <a:pt x="18000" y="370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хнічним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соб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ї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вч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рист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35859"/>
            <p:cNvSpPr/>
            <p:nvPr/>
          </p:nvSpPr>
          <p:spPr>
            <a:xfrm>
              <a:off x="2743920" y="1903320"/>
              <a:ext cx="4035240" cy="1636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Велика Рублів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35871"/>
            <p:cNvSpPr/>
            <p:nvPr/>
          </p:nvSpPr>
          <p:spPr>
            <a:xfrm>
              <a:off x="4801320" y="4491720"/>
              <a:ext cx="1213920" cy="2221200"/>
            </a:xfrm>
            <a:custGeom>
              <a:avLst/>
              <a:gdLst>
                <a:gd name="textAreaLeft" fmla="*/ 59040 w 1213920"/>
                <a:gd name="textAreaRight" fmla="*/ 1154880 w 121392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518">
                  <a:moveTo>
                    <a:pt x="3600" y="0"/>
                  </a:moveTo>
                  <a:arcTo wR="3600" hR="3600" stAng="16200000" swAng="-5400000"/>
                  <a:lnTo>
                    <a:pt x="0" y="35918"/>
                  </a:lnTo>
                  <a:arcTo wR="3600" hR="3600" stAng="10800000" swAng="-5400000"/>
                  <a:lnTo>
                    <a:pt x="18000" y="39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постереж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ном здор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й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а медичн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_s35875"/>
            <p:cNvSpPr/>
            <p:nvPr/>
          </p:nvSpPr>
          <p:spPr>
            <a:xfrm>
              <a:off x="6172200" y="4491720"/>
              <a:ext cx="1216080" cy="2221200"/>
            </a:xfrm>
            <a:custGeom>
              <a:avLst/>
              <a:gdLst>
                <a:gd name="textAreaLeft" fmla="*/ 59040 w 1216080"/>
                <a:gd name="textAreaRight" fmla="*/ 1157040 w 121608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ен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йнятості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звілл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35877"/>
            <p:cNvSpPr/>
            <p:nvPr/>
          </p:nvSpPr>
          <p:spPr>
            <a:xfrm>
              <a:off x="2361960" y="3655080"/>
              <a:ext cx="4649040" cy="612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Соціальна послуга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«стац</a:t>
              </a: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іонарний догляд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57200" y="152280"/>
          <a:ext cx="8381880" cy="5850000"/>
        </p:xfrm>
        <a:graphic>
          <a:graphicData uri="http://schemas.openxmlformats.org/drawingml/2006/table">
            <a:tbl>
              <a:tblPr/>
              <a:tblGrid>
                <a:gridCol w="3570120"/>
                <a:gridCol w="2754360"/>
                <a:gridCol w="2057400"/>
              </a:tblGrid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 відділ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рі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розді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акт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оціальної допомоги вдома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енного перебуванн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МЯК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організації надання адресної натуральної та грошової допомоги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РОД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Володимир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32-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таціонарного догляду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. Дере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ілія відділення стаціонарного догляду с. Велика Рублі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Ще з давніх часів благодійність утвердилася в традиціях нашого народу. Цілком природним і закономірним вважалося допомогти знедоленому, нещасному, поділитися шматком хліба, захистити старість і немічність, порятувати хворого чи скривдженого, підтримати їхню життєдіяльність. Для цієї місії в 1990 році при Котелевському райсоцзабезі було створене відділення соціальної допомоги вдома,  яким обслуговувалося понад 80 одиноких непрацездатних громадян. З роками  потреби у надомному обслуговуванні та у наданні нових видів соціальних послуг зростали, тому відповідно до Постанови Кабінету Міністрів України від 22.02.1995 року №136 «Про вдосконалення управління у сфері соціального захисту населення», з метою покращення організації обслуговування пенсіонерів, розширення видів послуг, за погодженням з Головним управлінням праці та соціального захисту населення,   районною державною адміністрацією  1 вересня 2000 року створено територіальний центр соціального обслуговування пенсіонерів та одиноких непрацездатних громадян  до структури якого входили два відділення - соціальної допомоги вдома та організації надання грошової та натуральної допом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01.07.2010 року керуючись Постановою Каб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, розпорядженням голови Котелевської районної державної адміністрації від 01.03.2010 №33 провед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риторіального центру соціального обслуговування пенсіонерів та одиноких непрацездатних громадян  шляхом перетворення (перейменування) в територіальний центр надання соціальних послуг Котелевського рай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и Каб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 зі змінами, розпорядженням голови Котелевської районної державної адміністрації від 18.11.2020 №164 19.01.2021 року заверш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шляхом перетворення територ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ального центру надання соціальних послуг Котелевського району в Комунальний заклад Територіальний центр надання соціальних послуг Котелевської селищної 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риторіальним  центром  надаються  соціальні  послуги особам,  які опинились   у  складних  життєвих  ситуаціях,  по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аних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похилим віком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хворобами, що  потребують  довготривалого  лікуванн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інвалідністю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малозабезпеченіст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шканцям смт  Котельва, сіл  Деревки,  Млинки,  Більськ, Сидоряче,  Михайлівка Перша,  Михайлове,  Чернещина, Камінне. 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Соціальні послуги надаються понад 1100 особам.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Працівниками територіального центру спільно з  головами ветеранських рад, старостами та працівниками відділу соціального захисту населення та надання соціальних послуг Котелевської селищної ради  вивчаються потреби жителів територіальної громади  у   наданні  різних  видів  соціальних послуг та розглядається потреба та 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 впровадження нов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ЦІЛІ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ціальні послуги надаються для досягнення таких ці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філактика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одолання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мінімізація негативних наслідків складних життєвих обстав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ПРИНЦИПИ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тримання прав людини, прав особи з інвалідніст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Гуманізм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рівних прав та можливостей жінок і чолові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ваги до честі та гідності, толерант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конності, соціальної справедлив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ступності та відкрит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упередженості та безпеч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бровіль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дивідуального підход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плекс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нфіденцій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ксимальної ефективності та прозорості використання надавачами соціальних послуг бюджетних та інших  кошт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високого рівня якості соціальних послу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ЗАВ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ОГО ЦЕНТ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виявлення громадян, які потребують надання соціальних послуг, формування електронної бази даних таких громадян, визначення їх індивідуальних потреб у наданні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забезпечення якісного надання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установлення зв’язків з підприємствами, установами та організаціями всіх форм власності, фізичними особами, родичами громадян, яким надає соціальні послуги територіальний центр, з метою сприяння в здійсненні надання соціальних послуг громадя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Схема структури територіального центру надання соціальних послуг Котелевського району станом на 01.01.2021 рок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1600200"/>
            <a:ext cx="8305560" cy="4875120"/>
            <a:chOff x="457200" y="1600200"/>
            <a:chExt cx="8305560" cy="4875120"/>
          </a:xfrm>
        </p:grpSpPr>
        <p:cxnSp>
          <p:nvCxnSpPr>
            <p:cNvPr id="219" name="_s4129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832360" y="1940760"/>
              <a:ext cx="1097280" cy="339372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4123"/>
            <p:cNvCxnSpPr>
              <a:stCxn id="223" idx="0"/>
              <a:endCxn id="221" idx="2"/>
            </p:cNvCxnSpPr>
            <p:nvPr/>
          </p:nvCxnSpPr>
          <p:spPr>
            <a:xfrm flipV="1" rot="16200000">
              <a:off x="5032080" y="2741040"/>
              <a:ext cx="1097280" cy="17928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4121"/>
            <p:cNvCxnSpPr>
              <a:stCxn id="225" idx="0"/>
              <a:endCxn id="221" idx="2"/>
            </p:cNvCxnSpPr>
            <p:nvPr/>
          </p:nvCxnSpPr>
          <p:spPr>
            <a:xfrm flipV="1" rot="16200000">
              <a:off x="4250880" y="3522240"/>
              <a:ext cx="1097280" cy="2304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4113"/>
            <p:cNvCxnSpPr>
              <a:stCxn id="227" idx="0"/>
              <a:endCxn id="221" idx="2"/>
            </p:cNvCxnSpPr>
            <p:nvPr/>
          </p:nvCxnSpPr>
          <p:spPr>
            <a:xfrm flipH="1" flipV="1" rot="5400000">
              <a:off x="3547080" y="3048480"/>
              <a:ext cx="1097280" cy="117864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4112"/>
            <p:cNvCxnSpPr>
              <a:stCxn id="229" idx="0"/>
              <a:endCxn id="221" idx="2"/>
            </p:cNvCxnSpPr>
            <p:nvPr/>
          </p:nvCxnSpPr>
          <p:spPr>
            <a:xfrm flipH="1" flipV="1" rot="5400000">
              <a:off x="2895480" y="2428560"/>
              <a:ext cx="1129320" cy="2449800"/>
            </a:xfrm>
            <a:prstGeom prst="bentConnector3">
              <a:avLst>
                <a:gd name="adj1" fmla="val 10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4111"/>
            <p:cNvCxnSpPr>
              <a:stCxn id="231" idx="0"/>
              <a:endCxn id="221" idx="2"/>
            </p:cNvCxnSpPr>
            <p:nvPr/>
          </p:nvCxnSpPr>
          <p:spPr>
            <a:xfrm flipH="1" flipV="1" rot="5400000">
              <a:off x="2288880" y="1790280"/>
              <a:ext cx="1097280" cy="369468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4107"/>
            <p:cNvSpPr/>
            <p:nvPr/>
          </p:nvSpPr>
          <p:spPr>
            <a:xfrm>
              <a:off x="2895120" y="1600200"/>
              <a:ext cx="3578040" cy="1489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Апарат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територіального</a:t>
              </a: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 центр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108"/>
            <p:cNvSpPr/>
            <p:nvPr/>
          </p:nvSpPr>
          <p:spPr>
            <a:xfrm>
              <a:off x="457200" y="418608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оціаль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дом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4109"/>
            <p:cNvSpPr/>
            <p:nvPr/>
          </p:nvSpPr>
          <p:spPr>
            <a:xfrm>
              <a:off x="1702080" y="421812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рганізаці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дрес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турально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рошов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0"/>
            <p:cNvSpPr/>
            <p:nvPr/>
          </p:nvSpPr>
          <p:spPr>
            <a:xfrm>
              <a:off x="2971800" y="4186080"/>
              <a:ext cx="1068480" cy="2257200"/>
            </a:xfrm>
            <a:custGeom>
              <a:avLst/>
              <a:gdLst>
                <a:gd name="textAreaLeft" fmla="*/ 51840 w 1068480"/>
                <a:gd name="textAreaRight" fmla="*/ 1016640 w 106848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23">
                  <a:moveTo>
                    <a:pt x="3600" y="0"/>
                  </a:moveTo>
                  <a:arcTo wR="3600" hR="3600" stAng="16200000" swAng="-5400000"/>
                  <a:lnTo>
                    <a:pt x="0" y="42023"/>
                  </a:lnTo>
                  <a:arcTo wR="3600" hR="3600" stAng="10800000" swAng="-5400000"/>
                  <a:lnTo>
                    <a:pt x="18000" y="45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е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еб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120"/>
            <p:cNvSpPr/>
            <p:nvPr/>
          </p:nvSpPr>
          <p:spPr>
            <a:xfrm>
              <a:off x="4267440" y="4186080"/>
              <a:ext cx="1295640" cy="225720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2257200"/>
                <a:gd name="textAreaBottom" fmla="*/ 2194200 h 2257200"/>
              </a:gdLst>
              <a:ahLst/>
              <a:rect l="textAreaLeft" t="textAreaTop" r="textAreaRight" b="textAreaBottom"/>
              <a:pathLst>
                <a:path w="21600" h="37626">
                  <a:moveTo>
                    <a:pt x="3600" y="0"/>
                  </a:moveTo>
                  <a:arcTo wR="3600" hR="3600" stAng="16200000" swAng="-5400000"/>
                  <a:lnTo>
                    <a:pt x="0" y="34026"/>
                  </a:lnTo>
                  <a:arcTo wR="3600" hR="3600" stAng="10800000" swAng="-5400000"/>
                  <a:lnTo>
                    <a:pt x="18000" y="376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. Деревки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122"/>
            <p:cNvSpPr/>
            <p:nvPr/>
          </p:nvSpPr>
          <p:spPr>
            <a:xfrm>
              <a:off x="5791680" y="4186080"/>
              <a:ext cx="1370520" cy="2257200"/>
            </a:xfrm>
            <a:custGeom>
              <a:avLst/>
              <a:gdLst>
                <a:gd name="textAreaLeft" fmla="*/ 66600 w 1370520"/>
                <a:gd name="textAreaRight" fmla="*/ 1303920 w 1370520"/>
                <a:gd name="textAreaTop" fmla="*/ 66600 h 2257200"/>
                <a:gd name="textAreaBottom" fmla="*/ 2190600 h 2257200"/>
              </a:gdLst>
              <a:ahLst/>
              <a:rect l="textAreaLeft" t="textAreaTop" r="textAreaRight" b="textAreaBottom"/>
              <a:pathLst>
                <a:path w="21600" h="35571">
                  <a:moveTo>
                    <a:pt x="3600" y="0"/>
                  </a:moveTo>
                  <a:arcTo wR="3600" hR="3600" stAng="16200000" swAng="-5400000"/>
                  <a:lnTo>
                    <a:pt x="0" y="31971"/>
                  </a:lnTo>
                  <a:arcTo wR="3600" hR="3600" stAng="10800000" swAng="-5400000"/>
                  <a:lnTo>
                    <a:pt x="18000" y="355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. Вел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ублівка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128"/>
            <p:cNvSpPr/>
            <p:nvPr/>
          </p:nvSpPr>
          <p:spPr>
            <a:xfrm>
              <a:off x="7390800" y="4186080"/>
              <a:ext cx="1371960" cy="2257200"/>
            </a:xfrm>
            <a:custGeom>
              <a:avLst/>
              <a:gdLst>
                <a:gd name="textAreaLeft" fmla="*/ 66960 w 1371960"/>
                <a:gd name="textAreaRight" fmla="*/ 1305000 w 1371960"/>
                <a:gd name="textAreaTop" fmla="*/ 66960 h 2257200"/>
                <a:gd name="textAreaBottom" fmla="*/ 2190240 h 2257200"/>
              </a:gdLst>
              <a:ahLst/>
              <a:rect l="textAreaLeft" t="textAreaTop" r="textAreaRight" b="textAreaBottom"/>
              <a:pathLst>
                <a:path w="21600" h="35533">
                  <a:moveTo>
                    <a:pt x="3600" y="0"/>
                  </a:moveTo>
                  <a:arcTo wR="3600" hR="3600" stAng="16200000" swAng="-5400000"/>
                  <a:lnTo>
                    <a:pt x="0" y="31933"/>
                  </a:lnTo>
                  <a:arcTo wR="3600" hR="3600" stAng="10800000" swAng="-5400000"/>
                  <a:lnTo>
                    <a:pt x="18000" y="35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ухгалтерськ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бліку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вітності</a:t>
              </a:r>
              <a:r>
                <a:rPr b="0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АПАРАТ ТЕРИТОРІАЛЬНОГО ЦЕНТР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143000"/>
          <a:ext cx="8229600" cy="5505480"/>
        </p:xfrm>
        <a:graphic>
          <a:graphicData uri="http://schemas.openxmlformats.org/drawingml/2006/table">
            <a:tbl>
              <a:tblPr/>
              <a:tblGrid>
                <a:gridCol w="3505320"/>
                <a:gridCol w="2590560"/>
                <a:gridCol w="213372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 територіального цент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Д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Іван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ступник директора-завідувач відділення соціальної допомоги вд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ний бухгал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С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на Олег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спектор з кад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В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Микола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консуль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ШУ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лія Сергі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женер з охорони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Ю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Михай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2-26T06:51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