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DA8-110B-4111-89A1-4CF905FCEC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281-4B54-4220-8B46-10EB7E669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084-4571-4FA1-81D5-6708EA3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18D-C375-423F-B1BE-3C7AD310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3BE-45B6-42C8-9996-5376C8F2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312-CBDB-45E6-B083-59E0C27C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E5FC-59E4-4080-AE0F-870945CC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9B44-5338-41FF-8889-23824205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A98C-2482-4FDC-9980-7B83E8E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2EDD-876B-4DF7-81E1-8A367B20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1288-C8AB-453A-9435-68EEA1B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2752-E126-47BF-9B30-8A655F88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8A93-1F1E-4431-BF04-0B72F51C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D444-9B64-4A36-9DB6-83031009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B2F0-4A9E-4CEA-A6CD-CB00D6A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BA62-68C9-468D-B40F-F11AB9E3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3755-0214-4481-9A3F-17397A3C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B965-69A7-4F1A-AB76-9F3674C3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0241-59BB-4EAF-870E-A707FC24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A6B1-C0DD-44DC-9747-0A3F1AF9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8273-87E5-483E-8DA2-1019FF9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FD0F-1EAE-4CAF-B0BF-D78014DD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25E1-E6B3-416C-BDDC-576B2672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9CF2-7229-492B-B11D-2F33EAA7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B6B-E214-4750-A727-461040A2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24AB-4D80-461A-91C5-BE16B8E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E8A2-5E49-41BC-849A-E2E42E5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CD32-A339-468A-A5A9-8537207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99BF-3BC3-43A3-8F05-2897E81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9EB7-ECD2-4018-B157-40DED1F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EC09-FE25-407D-8E88-1D7EA65A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EB6E-B60D-47FB-A968-CFDDCE47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B5FF-D604-42A5-B96F-B7D8C61B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64DD-9826-428F-93D7-933A19F6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7B50-881D-4FB7-99E8-D0A52770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8D9-AD6A-4190-BEC3-EE62A300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2834-8493-469C-A84D-85226694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A2F1-FBAD-4BC5-A11C-A9549BA9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42C0-A807-4F30-B58C-E88B12C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B8E0-25F2-477F-935A-7BF6FE9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055D-C457-4AD5-8D64-BFA2EEA9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1C15-CCDF-41F2-AFB3-133E029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F0D5B-C7CF-4C1C-A733-67B96654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7385-0066-45CE-9523-D829816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291E-E39B-48D5-A0A9-F111812D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DBC71-BB50-4643-B096-2874E864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5857-2C0B-4E16-8C88-647F2E9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8D3F-498C-42BE-9D09-478C1E6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886FD-6C86-4AF3-9B95-D630CFA3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2F91-0A28-4DF7-BE7A-4372E57D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EDB8-D5F0-40B4-9B06-2B1B399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7718-5011-4941-8C5C-C4735AC4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4BA5-B6AF-457D-9885-FA4D343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6EF2-B975-4679-A66C-33545474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5359-55BB-4B53-A2DD-F7442AA7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CF3BE-04C6-4B48-89AB-CD8F516B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7824-E1DD-4AC7-8CFB-276D5211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E9F-6634-461D-9B53-9378D428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72BC-0ADE-45EF-BC56-ECE296DD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7C9-EB32-4D31-8222-C6D99940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D61-8275-450C-961A-13F6456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045-8A56-46A6-942B-3D2410B6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1344-F262-4B93-BC10-D941042A8FC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554-EF10-413D-80E7-A04B201C02E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709-F82F-47F8-B791-3BFFE459780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B930-16CB-4454-AABB-4840A9D5BF4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094-99F3-4394-8A33-38C85A73076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859120" y="487440"/>
            <a:ext cx="6321240" cy="5541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-73080" y="1047600"/>
            <a:ext cx="2712960" cy="2140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-36360" y="3925800"/>
            <a:ext cx="2706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0"/>
            <a:ext cx="727884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07640" y="1267920"/>
            <a:ext cx="8064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Державну соціальну допомогу призначають особам з інвалідністю з дитинства та дітям з інвалідністю віком до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18 років. Група інвалідності та її строк визначаються органом медико-соціальної експертизи згідно із законодавством Украї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Допомога виплачується з дня звернення за її призначенням та протягом всього строку інвалідност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Якщо особа з інвалідністю з дитинства або дитина з інвалідністю має право на пенсію у зв’язку з втратою годувальника і державну соціальну допомогу відповідно до Закону України «Про державну соціальну допомогу особам з інвалідністю з дитинства та дітям з інвалідністю», ці виплати призначаються одночас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Якщо встановлений розмір допомоги менше ніж прожитковий мінімум для осіб, які втратили працездатність, допомоги виплачується в розмірі такого прожиткового мініму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7255080" cy="11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179280" y="1125360"/>
          <a:ext cx="7607520" cy="5904000"/>
        </p:xfrm>
        <a:graphic>
          <a:graphicData uri="http://schemas.openxmlformats.org/drawingml/2006/table">
            <a:tbl>
              <a:tblPr/>
              <a:tblGrid>
                <a:gridCol w="3635640"/>
                <a:gridCol w="1274760"/>
                <a:gridCol w="1349280"/>
                <a:gridCol w="1347840"/>
              </a:tblGrid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7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12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4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 групи підгрупи А з надбавкою на догля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89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906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13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 групи підгрупи Б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86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5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18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2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І груп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иноким особам з інвалідністю з дитинства ІІ групи, які за висновком медико-соціальної експертної комісії потребують постійного стороннього догляду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97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41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244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11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м з інвалідністю з дитинства ІІІ груп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иноким особам з інвалідністю з дитинства ІІІ групи, які за висновком медико-соціальної експертної комісії потребують постійного стороннього догляду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3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82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ком до 18 рок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3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55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82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09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0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19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0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589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906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131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66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9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88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7255080" cy="10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250920" y="1413000"/>
          <a:ext cx="7777080" cy="4464000"/>
        </p:xfrm>
        <a:graphic>
          <a:graphicData uri="http://schemas.openxmlformats.org/drawingml/2006/table">
            <a:tbl>
              <a:tblPr/>
              <a:tblGrid>
                <a:gridCol w="3708360"/>
                <a:gridCol w="1406520"/>
                <a:gridCol w="1404720"/>
                <a:gridCol w="1257480"/>
              </a:tblGrid>
              <a:tr h="62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1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07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.12.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88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віком до 18 років, захворювання яких пов’язане з Чорнобильською катастрофо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8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7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, захворювання яких пов’язане з Чорнобильською катастрофою, віком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3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41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, захворювання яких пов’язане з Чорнобильською катастрофою, віком до 6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8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3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8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 підгрупи А, захворювання яких пов’язане з Чорнобильською катастрофою, віком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6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6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63,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8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ітей з інвалідністю, захворювання яких пов’язане з Чорнобильською катастрофою, віком від 6 до 18 років з надбавкою на догля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9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4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255080" cy="1103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78920" y="1267920"/>
            <a:ext cx="799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Narrow"/>
              </a:rPr>
              <a:t>Необхідні документи для призначення допомо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заява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паспорт або  в разі його відсутності інший документ, що може засвідчувати особу, яка  подає заяву; { довідка про присвоєння ідентифікаційного номера  Єдиного державного реєстру  фізичних  осіб; оригінал та копія свідоцтва про народження дитини з інвалідністю; довідка про місце проживання особи з інвалідністю з дитинства або дитини з інвалідністю чи копія паспорта особи з інвалідністю з дитинства або дитини з інвалідністю з  відомостями  про  постійне  місце  проживання;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відка про місце проживання батьків усиновителів, опікуна, піклувальника, який подав заяву, чи копія паспорта з відомостями про  постійне  місце  проживанн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Іноземці та особи без громадянства  додатково  подають  копію посвідки  на  постійне  або  тимчасове  проживання.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Заява про призначення державної соціальної допомоги подається особою з інвалідністю з дитинства до органу праці т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соціального захисту населення за місцем постійного проживання або за місцем фактичного проживання, при  умові подання довідки про неодержання цієї допомоги в органі праці та соціального захисту населення за місцем  постійного  проживання.</a:t>
            </a:r>
            <a:r>
              <a:rPr b="0" lang="uk-UA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255080" cy="1103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78920" y="1267920"/>
            <a:ext cx="799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Narrow"/>
              </a:rPr>
              <a:t>Необхідні документи для призначення допомог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З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ява про призначення державної соціальної допомоги особи з інвалідністю з дитинства, який визнаний недієздатним, а також на дитину з інвалідністю подається одним із батьків, усиновителів, опікуном, піклувальником за місцем постійного проживання  або  замісцем фактичного проживання особи, яка подає заяву, при умові подання довідки про неодержання цієї допомоги в органі праці та соціального захисту населення за місцем постійного проживання. 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Якщо один з  батьків, усиновителів  постійно  проживає за інакшою адресою, ніж дитина з інвалідністю, то разом із заявою він подає довідку органу праці та соціального захисту населення про те, що другий з батьків, усиновителів не отримує державну соціальну допомогу на дитину з інвалідністю за місцем свого постійного проживання.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Державна соціальна допомога призначається з дня звернення за її призначенням.</a:t>
            </a:r>
            <a:r>
              <a:rPr b="0" lang="uk-UA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У тих випадках,  коли  до  заяви  про  призначення  державної соціальної  допомоги  додані не всі необхідні документи, заявнику повідомляється,  які документи повинні бути подані додатково. Якщо вони  будуть  подані  не  пізніше  3  місяців  з  дня відправлення повідомлення про необхідність подання  додаткових  документів,  то днем  звернення  за  призначенням  державної  соціальної  допомоги вважається день прийняття або відправлення заяви  про  призначення такої допомоги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Одному з батьків, прийомних батьків, батьків-вихователів дитячого будинку сімейного типу, усиновителів, опікуну, піклувальнику надбавка на догляд за дитиною з інвалідністю підгрупи А, а також одинокій матері (одинокому батьку) надбавка на догляд за дитиною з інвалідністю призначається незалежно від факту роботи, навчання, служб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4T07:35:15Z</dcterms:created>
  <dc:creator>XTreme</dc:creator>
  <dc:description/>
  <dc:language>en-US</dc:language>
  <cp:lastModifiedBy>92</cp:lastModifiedBy>
  <dcterms:modified xsi:type="dcterms:W3CDTF">2022-02-04T13:41:42Z</dcterms:modified>
  <cp:revision>31</cp:revision>
  <dc:subject/>
  <dc:title>Слайд 1</dc:title>
</cp:coreProperties>
</file>