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42F7-22D9-438D-B8AC-0C42F5D7BB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B883-3AC5-4857-8B3D-17149AF1DB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693-AF95-4571-B841-A69CE862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E6F-0745-43A2-BBFF-335FC1D2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CA0-C8B7-402E-882D-4E150BCC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525-1D2D-44C7-9E51-882C6C53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84E7-A7AA-4659-BB10-0DBB5812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7D0F-053A-4BCA-8930-B60731C3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311E-3F16-43BF-A53D-5666B889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A7B9-BA8D-41AC-9407-E3990A1E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6D07-3339-4E3D-9FA0-1FC35B8C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EAC1-467A-46A0-8660-A89B1B65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977C-D38B-4F68-9DCA-DDC50164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A77-E195-451F-9E06-6FEC58EF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18FB-5906-4718-B23E-76DA9A1B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E12F-5008-46A7-AFAA-51D8B295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F260-BE5E-40CE-A30B-A2CE4AF4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EA12-2A04-40A1-8D59-8F8D03D0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B8AC-072D-4216-93BA-620B1CBE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192FD-E239-465F-8F3E-B19DD0CD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7D47-96E6-44D7-8AA9-31212189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BB8AF-EC32-46C9-93B3-9D3A1459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B06DB-16C3-4170-9065-1F091BBE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5A719-96F7-40A6-AA3D-2C428D3F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021-68B9-4843-B2B0-E8F54ED3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0DED-3F35-4AA1-848D-B32FF1FB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6D3B3-9B11-4E3D-B203-8DAF54C9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D0130-0979-49AB-B479-20549C15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8E60-2D34-49FF-8B65-AB3FB914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F193F-C2A0-4EDE-BC72-71A8D3FF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5E36-2FB0-491D-9535-B7097A25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E030F-7CDD-465D-9A27-8A4FB16E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0E69B-1A17-4AA4-8FC7-87F18D7B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711EE-2362-41CC-9E22-683DCDA7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C1518-E171-46FD-BAAB-8BEC0EF6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A65-3112-4F00-ADD8-7BBF3193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C9488-5AEA-4C99-9A26-62F8F329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AEBBF-FB7A-4C96-829D-8E45BF99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50970-F4B0-42B6-AE77-3968ACAD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F1C15-8C65-4C6B-8FA3-0EF3D715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498AD-3BF9-4AA2-A3DB-AFD706C8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F46FA-13EA-4C1D-8161-BEE8030B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D89F7-1EC4-47FA-AD99-22AC5BD1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58231-FCA9-4FEB-AFC0-9134807D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57597-FA2D-4C28-8575-1B5856B1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6F0B6-0880-49CA-9AD0-740104FF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F97-B335-4669-8491-F6BF052D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6B254-8799-4A0D-A3A2-802749C1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BC93C-2A92-47AE-94F9-A0283DB7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2E360-60A1-4849-87A5-7D110403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C35FF-54F3-47AC-9A8C-419759BC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4E996-8488-45D5-BB65-50A2C4DB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DC24E-A30D-4E45-9F5E-76F8F671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76C68-2110-4F1D-9382-DF40E48B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C09E5-9A7C-46BD-84A4-FCEB99D7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0AEE4-AB64-4BCA-9A79-9493C1CA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00056-F6F7-4EF7-8C5E-EA964984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7A6-B788-4F44-8499-E23D4579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883B6-2A10-41DE-8831-3792092B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934-8B09-4042-A148-725B40B1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5484-D3B0-4020-A397-E13D70D2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400-499A-4B45-8806-32131068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23E3-6161-4649-9002-AD25AB3C3A5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BF96-8B15-432E-A623-70DB5CBA51BB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429E-D057-49D9-8EDB-384585832B1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E597-D3E3-4406-91C4-F4CA56395E24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03A8-74E1-4E4E-87B9-A0689F6E035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859120" y="487440"/>
            <a:ext cx="6321240" cy="5541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-73080" y="1047600"/>
            <a:ext cx="2712960" cy="2140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/>
          <a:stretch/>
        </p:blipFill>
        <p:spPr>
          <a:xfrm>
            <a:off x="-36360" y="3925800"/>
            <a:ext cx="27064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0"/>
            <a:ext cx="7278840" cy="1200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107640" y="1267920"/>
            <a:ext cx="80643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Державну соціальну допомогу призначають особам з інвалідністю з дитинства та дітям з інвалідністю віком до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18 років. Група інвалідності та її строк визначаються органом медико-соціальної експертизи згідно із законодавством Україн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Допомога виплачується з дня звернення за її призначенням та протягом всього строку інвалідності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Якщо особа з інвалідністю з дитинства або дитина з інвалідністю має право на пенсію у зв’язку з втратою годувальника і державну соціальну допомогу відповідно до Закону України «Про державну соціальну допомогу особам з інвалідністю з дитинства та дітям з інвалідністю», ці виплати призначаються одночасн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Якщо встановлений розмір допомоги менше ніж прожитковий мінімум для осіб, які втратили працездатність, допомоги виплачується в розмірі такого прожиткового мінімум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7255080" cy="11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179280" y="1125360"/>
          <a:ext cx="7607520" cy="5904000"/>
        </p:xfrm>
        <a:graphic>
          <a:graphicData uri="http://schemas.openxmlformats.org/drawingml/2006/table">
            <a:tbl>
              <a:tblPr/>
              <a:tblGrid>
                <a:gridCol w="3635640"/>
                <a:gridCol w="1274760"/>
                <a:gridCol w="1349280"/>
                <a:gridCol w="1347840"/>
              </a:tblGrid>
              <a:tr h="65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01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07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12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46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м з інвалідністю з дитинства І групи підгрупи А з надбавкою на догля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589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906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131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м з інвалідністю з дитинства І групи підгрупи Б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86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5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18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2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м з інвалідністю з дитинства ІІ груп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3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9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иноким особам з інвалідністю з дитинства ІІ групи, які за висновком медико-соціальної експертної комісії потребують постійного стороннього догляду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997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141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244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1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м з інвалідністю з дитинства ІІІ груп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3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9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иноким особам з інвалідністю з дитинства ІІІ групи, які за висновком медико-соціальної експертної комісії потребують постійного стороннього догляду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61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3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82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дітей з інвалідністю віком до 18 рокі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3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9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дітей з інвалідністю підгрупи А до 6 років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553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82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09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дітей з інвалідністю до 6 років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403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519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601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дітей з інвалідністю підгрупи А від 6 до 18 років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589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906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131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дітей з інвалідністю від 6 до 18 років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662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9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88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7255080" cy="10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250920" y="1413000"/>
          <a:ext cx="7777080" cy="4464000"/>
        </p:xfrm>
        <a:graphic>
          <a:graphicData uri="http://schemas.openxmlformats.org/drawingml/2006/table">
            <a:tbl>
              <a:tblPr/>
              <a:tblGrid>
                <a:gridCol w="3708360"/>
                <a:gridCol w="1406520"/>
                <a:gridCol w="1404720"/>
                <a:gridCol w="1257480"/>
              </a:tblGrid>
              <a:tr h="62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01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07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12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88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ітей з інвалідністю віком до 18 років, захворювання яких пов’язане з Чорнобильською катастрофо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0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8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7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8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ітей з інвалідністю підгрупи А, захворювання яких пов’язане з Чорнобильською катастрофою, віком до 6 років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30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30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41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8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ітей з інвалідністю, захворювання яких пов’язане з Чорнобильською катастрофою, віком до 6 років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0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8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3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8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ітей з інвалідністю підгрупи А, захворювання яких пов’язане з Чорнобильською катастрофою, віком від 6 до 18 років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66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16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63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85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ітей з інвалідністю, захворювання яких пов’язане з Чорнобильською катастрофою, віком від 6 до 18 років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9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4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7255080" cy="1103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78920" y="1267920"/>
            <a:ext cx="7993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 Narrow"/>
              </a:rPr>
              <a:t>Необхідні документи для призначення допомог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Narrow"/>
              </a:rPr>
              <a:t>заява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Narrow"/>
              </a:rPr>
              <a:t>паспорт або  в разі його відсутності інший документ, що може засвідчувати особу, яка  подає заяву; { довідка про присвоєння ідентифікаційного номера  Єдиного державного реєстру  фізичних  осіб; оригінал та копія свідоцтва про народження дитини з інвалідністю; довідка про місце проживання особи з інвалідністю з дитинства або дитини з інвалідністю чи копія паспорта особи з інвалідністю з дитинства або дитини з інвалідністю з  відомостями  про  постійне  місце  проживання;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овідка про місце проживання батьків усиновителів, опікуна, піклувальника, який подав заяву, чи копія паспорта з відомостями про  постійне  місце  проживання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Іноземці та особи без громадянства  додатково  подають  копію посвідки  на  постійне  або  тимчасове  проживання.</a:t>
            </a:r>
            <a:r>
              <a:rPr b="0" lang="uk-UA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Заява про призначення державної соціальної допомоги подається особою з інвалідністю з дитинства до органу праці т</a:t>
            </a:r>
            <a:r>
              <a:rPr b="0" lang="uk-UA" sz="18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соціального захисту населення за місцем постійного проживання або за місцем фактичного проживання, при  умові подання довідки про неодержання цієї допомоги в органі праці та соціального захисту населення за місцем  постійного  проживання.</a:t>
            </a:r>
            <a:r>
              <a:rPr b="0" lang="uk-UA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7255080" cy="1103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178920" y="1267920"/>
            <a:ext cx="7993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 Narrow"/>
              </a:rPr>
              <a:t>Необхідні документи для призначення допомог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 Narrow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ява про призначення державної соціальної допомоги особи з інвалідністю з дитинства, який визнаний недієздатним, а також на дитину з інвалідністю подається одним із батьків, усиновителів, опікуном, піклувальником за місцем постійного проживання  або  замісцем фактичного проживання особи, яка подає заяву, при умові подання довідки про неодержання цієї допомоги в органі праці та соціального захисту населення за місцем постійного проживання. </a:t>
            </a:r>
            <a:r>
              <a:rPr b="0" lang="uk-UA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 Narrow"/>
              </a:rPr>
              <a:t>Якщо один з  батьків, усиновителів  постійно  проживає за інакшою адресою, ніж дитина з інвалідністю, то разом із заявою він подає довідку органу праці та соціального захисту населення про те, що другий з батьків, усиновителів не отримує державну соціальну допомогу на дитину з інвалідністю за місцем свого постійного проживання.</a:t>
            </a:r>
            <a:r>
              <a:rPr b="0" lang="uk-UA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Державна соціальна допомога призначається з дня звернення за її призначенням.</a:t>
            </a:r>
            <a:r>
              <a:rPr b="0" lang="uk-UA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У тих випадках,  коли  до  заяви  про  призначення  державної соціальної  допомоги  додані не всі необхідні документи, заявнику повідомляється,  які документи повинні бути подані додатково. Якщо вони  будуть  подані  не  пізніше  3  місяців  з  дня відправлення повідомлення про необхідність подання  додаткових  документів,  то днем  звернення  за  призначенням  державної  соціальної  допомоги вважається день прийняття або відправлення заяви  про  призначення такої допомоги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дному з батьків, прийомних батьків, батьків-вихователів дитячого будинку сімейного типу, усиновителів, опікуну, піклувальнику надбавка на догляд за дитиною з інвалідністю підгрупи А, а також одинокій матері (одинокому батьку) надбавка на догляд за дитиною з інвалідністю призначається незалежно від факту роботи, навчання, служб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07:35:15Z</dcterms:created>
  <dc:creator>XTreme</dc:creator>
  <dc:description/>
  <dc:language>en-US</dc:language>
  <cp:lastModifiedBy>92</cp:lastModifiedBy>
  <dcterms:modified xsi:type="dcterms:W3CDTF">2022-02-04T13:41:42Z</dcterms:modified>
  <cp:revision>31</cp:revision>
  <dc:subject/>
  <dc:title>Слайд 1</dc:title>
</cp:coreProperties>
</file>