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47B1-D544-4BBE-B9DD-F306B514B43F}"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1143000"/>
            <a:ext cx="41148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4"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51D7-4B24-42F8-A1F6-C490FC7BC5E7}" type="slidenum">
              <a:rPr b="0" lang="ru-RU"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1143000"/>
            <a:ext cx="41148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B7E4-D5F2-41BC-9515-7C787C147CB1}" type="slidenum">
              <a:rPr b="0" lang="ru-RU"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A37FB-A09C-46A8-B48D-7F0A7D1F7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6FD04-F50E-40AD-B0EA-F47AB9CD3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F42D3-FA60-4186-96D9-2952FE258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9CBFD-3431-4C6E-8BA5-77A6E4096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C831E-4926-4095-8233-ECB26A3A2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7D55B-7B4D-4181-843F-B953363FF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43F3D-E114-425A-B478-5CF1489D6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8CC0B-6332-46D2-AA3C-BC4259CBA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30875-344D-4515-A50C-CA8F96539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DC934-665D-45CC-B7E9-BB0555A37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FED25-2035-4025-941D-3B3B4F39E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1245B-E2C3-46F7-9E63-63BDB5C7D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926EE-132B-4D6D-B536-0DEEA6D1E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5CB71-4051-4AB2-9B67-C578F9809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CCE73-FA0A-4103-A17D-EA980EDA8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C9CD2-F1A8-4F8F-827E-2B71A1C6C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6E9C5-336B-4275-8386-534E83D2FD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AE351B-DC59-4373-99EF-9F3B3F3464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17321-BB03-4834-A86D-559AB15F39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B27EA-42A2-4017-8B88-60DB275D1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3D54A-6450-4955-B9A6-2DADDC0BB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5E0AE-74F8-4213-B977-65267DF00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06445-63C1-4871-B1AE-36B205AB5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809F7-DE65-4C34-9010-65513F3F5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74D23-9C0E-4641-8BF3-A97BAA3ED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E0B72-C7A4-4C3D-A493-79E79042A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2B4FE-F9FD-4851-9F6C-5A998EC0C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5A9DD1-0327-44AD-9EF0-DDEBDF2719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5858C-E937-4DB8-A036-15234D4B25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80A815-C599-41F7-9058-F228A01A6F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70207F-E0C6-4204-9BC3-E18F6B51AD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9B066-0402-462E-B058-0DF776D09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A537C-A2A9-4C01-89F5-DD53F84D57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95C67-CD93-4608-ACFC-A0FF8ADBD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E3DFA-6101-4296-AFE0-AFE8EE49FA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9F6065-1564-4908-B90C-7AD8FABF33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B4951-0E0A-4580-82F1-7B4E66E41D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93B32-F1C2-4905-B360-A9CFF40BB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2DF4E-1FE9-4EA6-9A27-A8BBDA930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A4D0F-DC13-422A-8372-97CAF679A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EA5B8-CB25-412C-A8EA-66A6F57A5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EC12EE-8301-4DB0-B406-8E22A000E7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92F57-4841-4AE4-A9B0-3E777BAEF6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9C8C5-58D7-4FA3-9898-F928AA309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63548-B45E-45E9-AAB5-4858E5A25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E5570-8A6D-4E8D-AE1E-B1840499B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3BB2D-A921-4A19-AF3E-1F0A440A7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540D-A10A-4479-B3AE-86C6B65A6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CA37-2A35-4281-B61A-8CE4C9B21946}"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8B44-51E0-474D-872B-644087937689}"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1530-59BD-4731-B462-D7571782075A}"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fontScale="88000"/>
          </a:bodyPr>
          <a:p>
            <a:pPr marL="301680" indent="-3016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AB4B-B5E2-4FE6-9C33-B9659A639A49}"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eeee"/>
            </a:gs>
            <a:gs pos="100000">
              <a:srgbClr val="f0d578"/>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1699920"/>
            <a:ext cx="7466040" cy="411012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8000" spc="-1" strike="noStrike" u="sng">
                <a:solidFill>
                  <a:srgbClr val="680000"/>
                </a:solidFill>
                <a:uFillTx/>
                <a:latin typeface="Georgia"/>
              </a:rPr>
              <a:t>Пільги</a:t>
            </a:r>
            <a:br>
              <a:rPr sz="4900"/>
            </a:br>
            <a:r>
              <a:rPr b="0" i="1" lang="uk-UA" sz="6600" spc="-1" strike="noStrike">
                <a:solidFill>
                  <a:srgbClr val="680000"/>
                </a:solidFill>
                <a:latin typeface="Georgia"/>
              </a:rPr>
              <a:t>умови їх надання, категорії пільговиків</a:t>
            </a:r>
            <a:endParaRPr b="0" lang="en-US" sz="6600" spc="-1" strike="noStrike">
              <a:solidFill>
                <a:srgbClr val="90c226"/>
              </a:solidFill>
              <a:latin typeface="Trebuchet MS"/>
            </a:endParaRPr>
          </a:p>
        </p:txBody>
      </p:sp>
      <p:pic>
        <p:nvPicPr>
          <p:cNvPr id="220" name="Picture 3" descr="71555655-main"/>
          <p:cNvPicPr/>
          <p:nvPr/>
        </p:nvPicPr>
        <p:blipFill>
          <a:blip r:embed="rId1"/>
          <a:stretch/>
        </p:blipFill>
        <p:spPr>
          <a:xfrm>
            <a:off x="0" y="0"/>
            <a:ext cx="191448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51" name=""/>
          <p:cNvGraphicFramePr/>
          <p:nvPr/>
        </p:nvGraphicFramePr>
        <p:xfrm>
          <a:off x="2058840" y="1017720"/>
          <a:ext cx="6348600" cy="1272960"/>
        </p:xfrm>
        <a:graphic>
          <a:graphicData uri="http://schemas.openxmlformats.org/drawingml/2006/table">
            <a:tbl>
              <a:tblPr/>
              <a:tblGrid>
                <a:gridCol w="5464440"/>
                <a:gridCol w="884160"/>
              </a:tblGrid>
              <a:tr h="7048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на  внутрішніх  лініях (маршрутах) повітряного, залізничного, річкового та автомобільного транспорту в період з 1жовтня по 15 травня</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5680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у пасажирському міському транспорті </a:t>
                      </a:r>
                      <a:r>
                        <a:rPr b="0" lang="uk-UA" sz="1500" spc="-1" strike="noStrike">
                          <a:solidFill>
                            <a:srgbClr val="2a5010"/>
                          </a:solidFill>
                          <a:latin typeface="Times New Roman"/>
                          <a:ea typeface="Times New Roman"/>
                        </a:rPr>
                        <a:t>(крім таксі)</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10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bl>
          </a:graphicData>
        </a:graphic>
      </p:graphicFrame>
      <p:pic>
        <p:nvPicPr>
          <p:cNvPr id="252" name="Рисунок 2" descr="http://s00.yaplakal.com/pics/pics_original/3/2/1/8030123.jpg"/>
          <p:cNvPicPr/>
          <p:nvPr/>
        </p:nvPicPr>
        <p:blipFill>
          <a:blip r:embed="rId1"/>
          <a:stretch/>
        </p:blipFill>
        <p:spPr>
          <a:xfrm>
            <a:off x="-19080" y="0"/>
            <a:ext cx="2085840" cy="1560600"/>
          </a:xfrm>
          <a:prstGeom prst="rect">
            <a:avLst/>
          </a:prstGeom>
          <a:ln w="0">
            <a:noFill/>
          </a:ln>
        </p:spPr>
      </p:pic>
      <p:sp>
        <p:nvSpPr>
          <p:cNvPr id="253" name="Прямоугольник 3"/>
          <p:cNvSpPr/>
          <p:nvPr/>
        </p:nvSpPr>
        <p:spPr>
          <a:xfrm>
            <a:off x="108000" y="155736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Діти з інвалідністю</a:t>
            </a:r>
            <a:endParaRPr b="0" lang="en-US" sz="1800" spc="-1" strike="noStrike">
              <a:solidFill>
                <a:srgbClr val="000000"/>
              </a:solidFill>
              <a:latin typeface="Trebuchet MS"/>
            </a:endParaRPr>
          </a:p>
        </p:txBody>
      </p:sp>
      <p:sp>
        <p:nvSpPr>
          <p:cNvPr id="254" name="TextBox 4"/>
          <p:cNvSpPr/>
          <p:nvPr/>
        </p:nvSpPr>
        <p:spPr>
          <a:xfrm>
            <a:off x="1798560" y="189000"/>
            <a:ext cx="601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ро основи соціальної захищеності</a:t>
            </a:r>
            <a:endParaRPr b="0"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осіб з інвалідністю в Україні»</a:t>
            </a:r>
            <a:endParaRPr b="0" lang="en-US" sz="1800" spc="-1" strike="noStrike">
              <a:solidFill>
                <a:srgbClr val="000000"/>
              </a:solidFill>
              <a:latin typeface="Trebuchet MS"/>
            </a:endParaRPr>
          </a:p>
        </p:txBody>
      </p:sp>
      <p:graphicFrame>
        <p:nvGraphicFramePr>
          <p:cNvPr id="255" name=""/>
          <p:cNvGraphicFramePr/>
          <p:nvPr/>
        </p:nvGraphicFramePr>
        <p:xfrm>
          <a:off x="2058840" y="2658960"/>
          <a:ext cx="6348600" cy="1589040"/>
        </p:xfrm>
        <a:graphic>
          <a:graphicData uri="http://schemas.openxmlformats.org/drawingml/2006/table">
            <a:tbl>
              <a:tblPr/>
              <a:tblGrid>
                <a:gridCol w="5464440"/>
                <a:gridCol w="884160"/>
              </a:tblGrid>
              <a:tr h="7635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на  внутрішніх  лініях (маршрутах) повітряного, залізничного, річкового та автомобільного транспорту в період з 1жовтня по 15 травня</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5781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у пасажирському міському транспорті </a:t>
                      </a:r>
                      <a:r>
                        <a:rPr b="0" lang="uk-UA" sz="1500" spc="-1" strike="noStrike">
                          <a:solidFill>
                            <a:srgbClr val="2a5010"/>
                          </a:solidFill>
                          <a:latin typeface="Times New Roman"/>
                          <a:ea typeface="Times New Roman"/>
                        </a:rPr>
                        <a:t>(крім таксі)</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10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4732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Одержання ліків за рецептами лікарів</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56" name="Прямоугольник 6"/>
          <p:cNvSpPr/>
          <p:nvPr/>
        </p:nvSpPr>
        <p:spPr>
          <a:xfrm>
            <a:off x="196920" y="2779560"/>
            <a:ext cx="165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Особи з інвалідністю з дитинства І та ІІ групи</a:t>
            </a:r>
            <a:endParaRPr b="0" lang="en-US" sz="1800" spc="-1" strike="noStrike">
              <a:solidFill>
                <a:srgbClr val="000000"/>
              </a:solidFill>
              <a:latin typeface="Trebuchet MS"/>
            </a:endParaRPr>
          </a:p>
        </p:txBody>
      </p:sp>
      <p:graphicFrame>
        <p:nvGraphicFramePr>
          <p:cNvPr id="257" name=""/>
          <p:cNvGraphicFramePr/>
          <p:nvPr/>
        </p:nvGraphicFramePr>
        <p:xfrm>
          <a:off x="2058840" y="4967280"/>
          <a:ext cx="6348600" cy="1444680"/>
        </p:xfrm>
        <a:graphic>
          <a:graphicData uri="http://schemas.openxmlformats.org/drawingml/2006/table">
            <a:tbl>
              <a:tblPr/>
              <a:tblGrid>
                <a:gridCol w="5464440"/>
                <a:gridCol w="884160"/>
              </a:tblGrid>
              <a:tr h="7509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на  внутрішніх  лініях (маршрутах) повітряного, залізничного, річкового та автомобільного транспорту в період з 1жовтня по 15 травня</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5760" rIns="5760" tIns="5760" bIns="57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5760" marR="57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43812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Проїзд </a:t>
                      </a:r>
                      <a:r>
                        <a:rPr b="0" lang="ru-RU" sz="1500" spc="-1" strike="noStrike">
                          <a:solidFill>
                            <a:srgbClr val="2a5010"/>
                          </a:solidFill>
                          <a:latin typeface="Times New Roman"/>
                          <a:ea typeface="Times New Roman"/>
                        </a:rPr>
                        <a:t>у пасажирському міському транспорті </a:t>
                      </a:r>
                      <a:r>
                        <a:rPr b="0" lang="uk-UA" sz="1500" spc="-1" strike="noStrike">
                          <a:solidFill>
                            <a:srgbClr val="2a5010"/>
                          </a:solidFill>
                          <a:latin typeface="Times New Roman"/>
                          <a:ea typeface="Times New Roman"/>
                        </a:rPr>
                        <a:t>(крім таксі)</a:t>
                      </a:r>
                      <a:endParaRPr b="0" lang="en-US" sz="15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5760" rIns="5760" tIns="5760" bIns="57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100%</a:t>
                      </a:r>
                      <a:endParaRPr b="0" lang="en-US" sz="1500" spc="-1" strike="noStrike">
                        <a:solidFill>
                          <a:srgbClr val="000000"/>
                        </a:solidFill>
                        <a:latin typeface="Trebuchet MS"/>
                      </a:endParaRPr>
                    </a:p>
                  </a:txBody>
                  <a:tcPr anchor="ctr" marL="5760" marR="57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255600">
                <a:tc>
                  <a:txBody>
                    <a:bodyPr lIns="5760" rIns="5760" tIns="5760" bIns="57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Одержання ліків за рецептами лікарів</a:t>
                      </a:r>
                      <a:endParaRPr b="0" lang="en-US" sz="1500" spc="-1" strike="noStrike">
                        <a:solidFill>
                          <a:srgbClr val="000000"/>
                        </a:solidFill>
                        <a:latin typeface="Trebuchet MS"/>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5760" rIns="5760" tIns="5760" bIns="57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500" spc="-1" strike="noStrike">
                          <a:solidFill>
                            <a:srgbClr val="2a5010"/>
                          </a:solidFill>
                          <a:latin typeface="Times New Roman"/>
                          <a:ea typeface="Times New Roman"/>
                        </a:rPr>
                        <a:t>  </a:t>
                      </a:r>
                      <a:r>
                        <a:rPr b="0" lang="uk-UA" sz="1500" spc="-1" strike="noStrike">
                          <a:solidFill>
                            <a:srgbClr val="2a5010"/>
                          </a:solidFill>
                          <a:latin typeface="Times New Roman"/>
                          <a:ea typeface="Times New Roman"/>
                        </a:rPr>
                        <a:t>50%</a:t>
                      </a:r>
                      <a:endParaRPr b="0" lang="en-US" sz="1500" spc="-1" strike="noStrike">
                        <a:solidFill>
                          <a:srgbClr val="000000"/>
                        </a:solidFill>
                        <a:latin typeface="Trebuchet MS"/>
                      </a:endParaRPr>
                    </a:p>
                  </a:txBody>
                  <a:tcPr anchor="ctr" marL="5760" marR="57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58" name="Прямоугольник 9"/>
          <p:cNvSpPr/>
          <p:nvPr/>
        </p:nvSpPr>
        <p:spPr>
          <a:xfrm>
            <a:off x="212760" y="4906800"/>
            <a:ext cx="169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Особи з інвалідністю по зору І та ІІ групи</a:t>
            </a:r>
            <a:endParaRPr b="0" lang="en-US" sz="1800" spc="-1" strike="noStrike">
              <a:solidFill>
                <a:srgbClr val="000000"/>
              </a:solidFill>
              <a:latin typeface="Trebuchet MS"/>
            </a:endParaRPr>
          </a:p>
        </p:txBody>
      </p:sp>
      <p:sp>
        <p:nvSpPr>
          <p:cNvPr id="259" name="Rectangle 46"/>
          <p:cNvSpPr/>
          <p:nvPr/>
        </p:nvSpPr>
        <p:spPr>
          <a:xfrm>
            <a:off x="3845880" y="105480"/>
            <a:ext cx="1451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Unicode MS"/>
              </a:rPr>
              <a:t>осіб з інвалідністю</a:t>
            </a:r>
            <a:r>
              <a:rPr b="0" lang="ru-RU" sz="700" spc="-1" strike="noStrike">
                <a:solidFill>
                  <a:srgbClr val="000000"/>
                </a:solidFill>
                <a:latin typeface="Trebuchet MS"/>
              </a:rPr>
              <a:t> </a:t>
            </a:r>
            <a:endParaRPr b="0" lang="en-US" sz="700" spc="-1" strike="noStrike">
              <a:solidFill>
                <a:srgbClr val="000000"/>
              </a:solidFill>
              <a:latin typeface="Trebuchet MS"/>
            </a:endParaRPr>
          </a:p>
        </p:txBody>
      </p:sp>
      <p:sp>
        <p:nvSpPr>
          <p:cNvPr id="260" name="Rectangle 47"/>
          <p:cNvSpPr/>
          <p:nvPr/>
        </p:nvSpPr>
        <p:spPr>
          <a:xfrm>
            <a:off x="4046400" y="257760"/>
            <a:ext cx="1355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Unicode MS"/>
              </a:rPr>
              <a:t>діти з інвалідністю</a:t>
            </a:r>
            <a:r>
              <a:rPr b="0" lang="ru-RU" sz="700" spc="-1" strike="noStrike">
                <a:solidFill>
                  <a:srgbClr val="000000"/>
                </a:solidFill>
                <a:latin typeface="Trebuchet MS"/>
              </a:rPr>
              <a:t> </a:t>
            </a:r>
            <a:endParaRPr b="0" lang="en-US" sz="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61" name="Рисунок 2" descr="http://s00.yaplakal.com/pics/pics_original/3/2/1/8030123.jpg"/>
          <p:cNvPicPr/>
          <p:nvPr/>
        </p:nvPicPr>
        <p:blipFill>
          <a:blip r:embed="rId1"/>
          <a:stretch/>
        </p:blipFill>
        <p:spPr>
          <a:xfrm>
            <a:off x="-19080" y="0"/>
            <a:ext cx="2085840" cy="1560600"/>
          </a:xfrm>
          <a:prstGeom prst="rect">
            <a:avLst/>
          </a:prstGeom>
          <a:ln w="0">
            <a:noFill/>
          </a:ln>
        </p:spPr>
      </p:pic>
      <p:graphicFrame>
        <p:nvGraphicFramePr>
          <p:cNvPr id="262" name=""/>
          <p:cNvGraphicFramePr/>
          <p:nvPr/>
        </p:nvGraphicFramePr>
        <p:xfrm>
          <a:off x="2046240" y="1111320"/>
          <a:ext cx="6858000" cy="5646600"/>
        </p:xfrm>
        <a:graphic>
          <a:graphicData uri="http://schemas.openxmlformats.org/drawingml/2006/table">
            <a:tbl>
              <a:tblPr/>
              <a:tblGrid>
                <a:gridCol w="6066000"/>
                <a:gridCol w="792000"/>
              </a:tblGrid>
              <a:tr h="220680">
                <a:tc gridSpan="2">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86004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  в межах норми, передбаченої чинним законодавством (21 кв. метр загальної площі житла на кожну </a:t>
                      </a:r>
                      <a:r>
                        <a:rPr b="0" lang="ru-RU" sz="1400" spc="-1" strike="noStrike">
                          <a:solidFill>
                            <a:srgbClr val="2a5010"/>
                          </a:solidFill>
                          <a:latin typeface="Times New Roman"/>
                          <a:ea typeface="Times New Roman"/>
                        </a:rPr>
                        <a:t>особу, яка постійно проживє у житловому приміщені </a:t>
                      </a:r>
                      <a:r>
                        <a:rPr b="0" lang="uk-UA" sz="1400" spc="-1" strike="noStrike">
                          <a:solidFill>
                            <a:srgbClr val="2a5010"/>
                          </a:solidFill>
                          <a:latin typeface="Times New Roman"/>
                          <a:ea typeface="Times New Roman"/>
                        </a:rPr>
                        <a:t>i має право на знижку плати, та додатково 10,5 кв. метра на сім'ю);</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380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33800">
                <a:tc gridSpan="2">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ове придбання твердого та рідкого пічного побутового палива і скрапленого газу  </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3380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та скраплений газ  (в межах норми споживання)</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gridSpan="2">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068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Встановлення квартирних телефонів</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20680">
                <a:tc gridSpan="2">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64692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Категорії 1: щорічне забезпечення санаторно-курортними путівками чи одержання за бажанням грошової компенсації у розмірі середньої вартості путівки в Україні</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86004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один раз на рік (туди і назад) залізничним, водним, повітряним або міжміським автомобільним транспортом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категорія 1</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категорія 2</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r>
                        <a:rPr b="0" lang="ru-RU"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r>
                        <a:rPr b="0" lang="ru-RU"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3380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всіма видами міського та приміського транспорту (крім таксі ) на території України</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068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20680">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600" rIns="3600" tIns="3600" bIns="36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600" marR="360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63" name="Прямоугольник 6"/>
          <p:cNvSpPr/>
          <p:nvPr/>
        </p:nvSpPr>
        <p:spPr>
          <a:xfrm>
            <a:off x="108000" y="1557360"/>
            <a:ext cx="1950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Громадяни, які постраждали від аварії на ЧАЕС, віднесені до категорій 1 та 2 </a:t>
            </a:r>
            <a:endParaRPr b="0" lang="en-US" sz="1800" spc="-1" strike="noStrike">
              <a:solidFill>
                <a:srgbClr val="000000"/>
              </a:solidFill>
              <a:latin typeface="Trebuchet MS"/>
            </a:endParaRPr>
          </a:p>
        </p:txBody>
      </p:sp>
      <p:sp>
        <p:nvSpPr>
          <p:cNvPr id="264" name="TextBox 7"/>
          <p:cNvSpPr/>
          <p:nvPr/>
        </p:nvSpPr>
        <p:spPr>
          <a:xfrm>
            <a:off x="1798560" y="189000"/>
            <a:ext cx="601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a:t>
            </a:r>
            <a:r>
              <a:rPr b="1" lang="ru-RU" sz="1800" spc="-1" strike="noStrike">
                <a:solidFill>
                  <a:srgbClr val="2a5010"/>
                </a:solidFill>
                <a:latin typeface="Times New Roman"/>
                <a:ea typeface="Times New Roman"/>
              </a:rPr>
              <a:t>ро статус і соціальний захист громадян, які постраждали внаслідок Чорнобильської катастрофи</a:t>
            </a:r>
            <a:r>
              <a:rPr b="1" lang="uk-UA" sz="1800" spc="-1" strike="noStrike">
                <a:solidFill>
                  <a:srgbClr val="2a5010"/>
                </a:solidFill>
                <a:latin typeface="Times New Roman"/>
                <a:ea typeface="Times New Roman"/>
              </a:rPr>
              <a: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65" name=""/>
          <p:cNvGraphicFramePr/>
          <p:nvPr/>
        </p:nvGraphicFramePr>
        <p:xfrm>
          <a:off x="1778040" y="1341360"/>
          <a:ext cx="7041960" cy="577800"/>
        </p:xfrm>
        <a:graphic>
          <a:graphicData uri="http://schemas.openxmlformats.org/drawingml/2006/table">
            <a:tbl>
              <a:tblPr/>
              <a:tblGrid>
                <a:gridCol w="5386320"/>
                <a:gridCol w="1655640"/>
              </a:tblGrid>
              <a:tr h="30492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2728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вільнення від плати за землю та сплати земельного податку</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bl>
          </a:graphicData>
        </a:graphic>
      </p:graphicFrame>
      <p:pic>
        <p:nvPicPr>
          <p:cNvPr id="266" name="Рисунок 2" descr="http://s00.yaplakal.com/pics/pics_original/3/2/1/8030123.jpg"/>
          <p:cNvPicPr/>
          <p:nvPr/>
        </p:nvPicPr>
        <p:blipFill>
          <a:blip r:embed="rId1"/>
          <a:stretch/>
        </p:blipFill>
        <p:spPr>
          <a:xfrm>
            <a:off x="-19080" y="0"/>
            <a:ext cx="2085840" cy="1560600"/>
          </a:xfrm>
          <a:prstGeom prst="rect">
            <a:avLst/>
          </a:prstGeom>
          <a:ln w="0">
            <a:noFill/>
          </a:ln>
        </p:spPr>
      </p:pic>
      <p:sp>
        <p:nvSpPr>
          <p:cNvPr id="267" name="Прямоугольник 3"/>
          <p:cNvSpPr/>
          <p:nvPr/>
        </p:nvSpPr>
        <p:spPr>
          <a:xfrm>
            <a:off x="108000" y="1557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Ветерани </a:t>
            </a:r>
            <a:endParaRPr b="0" lang="en-US" sz="18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праці</a:t>
            </a:r>
            <a:endParaRPr b="0" lang="en-US" sz="1800" spc="-1" strike="noStrike">
              <a:solidFill>
                <a:srgbClr val="000000"/>
              </a:solidFill>
              <a:latin typeface="Trebuchet MS"/>
            </a:endParaRPr>
          </a:p>
        </p:txBody>
      </p:sp>
      <p:sp>
        <p:nvSpPr>
          <p:cNvPr id="268" name="TextBox 4"/>
          <p:cNvSpPr/>
          <p:nvPr/>
        </p:nvSpPr>
        <p:spPr>
          <a:xfrm>
            <a:off x="1798560" y="189000"/>
            <a:ext cx="6013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a:t>
            </a:r>
            <a:r>
              <a:rPr b="1" lang="ru-RU" sz="1800" spc="-1" strike="noStrike">
                <a:solidFill>
                  <a:srgbClr val="2a5010"/>
                </a:solidFill>
                <a:latin typeface="Times New Roman"/>
                <a:ea typeface="Times New Roman"/>
              </a:rPr>
              <a:t>Про основні засади соціального захисту ветеранів праці та інших громадян похилого віку в Україні</a:t>
            </a:r>
            <a:r>
              <a:rPr b="1" lang="uk-UA" sz="1800" spc="-1" strike="noStrike">
                <a:solidFill>
                  <a:srgbClr val="2a5010"/>
                </a:solidFill>
                <a:latin typeface="Times New Roman"/>
                <a:ea typeface="Times New Roman"/>
              </a:rPr>
              <a:t>»</a:t>
            </a:r>
            <a:endParaRPr b="0" lang="en-US" sz="1800" spc="-1" strike="noStrike">
              <a:solidFill>
                <a:srgbClr val="000000"/>
              </a:solidFill>
              <a:latin typeface="Trebuchet MS"/>
            </a:endParaRPr>
          </a:p>
        </p:txBody>
      </p:sp>
      <p:sp>
        <p:nvSpPr>
          <p:cNvPr id="269" name="Прямоугольник 6"/>
          <p:cNvSpPr/>
          <p:nvPr/>
        </p:nvSpPr>
        <p:spPr>
          <a:xfrm>
            <a:off x="2058840" y="2309760"/>
            <a:ext cx="651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ро охорону дитинства»:</a:t>
            </a:r>
            <a:endParaRPr b="0" lang="en-US" sz="1800" spc="-1" strike="noStrike">
              <a:solidFill>
                <a:srgbClr val="000000"/>
              </a:solidFill>
              <a:latin typeface="Trebuchet MS"/>
            </a:endParaRPr>
          </a:p>
        </p:txBody>
      </p:sp>
      <p:graphicFrame>
        <p:nvGraphicFramePr>
          <p:cNvPr id="270" name=""/>
          <p:cNvGraphicFramePr/>
          <p:nvPr/>
        </p:nvGraphicFramePr>
        <p:xfrm>
          <a:off x="1849320" y="2857680"/>
          <a:ext cx="6970680" cy="3570120"/>
        </p:xfrm>
        <a:graphic>
          <a:graphicData uri="http://schemas.openxmlformats.org/drawingml/2006/table">
            <a:tbl>
              <a:tblPr/>
              <a:tblGrid>
                <a:gridCol w="5386680"/>
                <a:gridCol w="1584000"/>
              </a:tblGrid>
              <a:tr h="26964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07316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м в межах норми, передбаченої чинним законодавством (21 кв. метр загальної площі житла на кожну особу, яка постійно проживє у житловому приміщені i має право на знижку плати, та додатково 10,5 кв. метра на сім'ю);</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344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8728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дітям з багатодітних сімей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2068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r>
                        <a:rPr b="0" lang="ru-RU" sz="1400" spc="-1" strike="noStrike">
                          <a:solidFill>
                            <a:srgbClr val="2a5010"/>
                          </a:solidFill>
                          <a:latin typeface="Times New Roman"/>
                          <a:ea typeface="Times New Roman"/>
                        </a:rPr>
                        <a:t>Безоплатне одержання ліків за рецептами лікар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28592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   </a:t>
                      </a:r>
                      <a:r>
                        <a:rPr b="0" lang="ru-RU" sz="1400" spc="-1" strike="noStrike">
                          <a:solidFill>
                            <a:srgbClr val="2a5010"/>
                          </a:solidFill>
                          <a:latin typeface="Times New Roman"/>
                          <a:ea typeface="Times New Roman"/>
                        </a:rPr>
                        <a:t>Проїзд усіма видами міського пасажирського транспорту (крім таксі), автомобільним транспортом загального користування в сільській місцевості, а також залізничним і водним транспортом приміського сполучення та автобусами приміських і міжміських маршрутів, у тому числі внутрірайонних, внутрі- та міжобласних незалежно від відстані та місця проживання</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
        <p:nvSpPr>
          <p:cNvPr id="271" name="Прямоугольник 9"/>
          <p:cNvSpPr/>
          <p:nvPr/>
        </p:nvSpPr>
        <p:spPr>
          <a:xfrm>
            <a:off x="304920" y="357336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Багатодітні сім’ї</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21"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22" name="Прямоугольник 1"/>
          <p:cNvSpPr/>
          <p:nvPr/>
        </p:nvSpPr>
        <p:spPr>
          <a:xfrm>
            <a:off x="1835280" y="1063800"/>
            <a:ext cx="597672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a5010"/>
                </a:solidFill>
                <a:latin typeface="Times New Roman"/>
                <a:ea typeface="Times New Roman"/>
              </a:rPr>
              <a:t>У зв’язку з прийняттям Закону України від 28 грудня 2014 р. № 76-VIII “Про внесення змін та визнання такими, що втратили чинність, деяких законодавчих актів України” постановою Кабінету Міністрів України від 04.06.2015 року № 389 затверджено Порядок надання пільг окремим категоріям громадян з урахуванням середньомісячного сукупного доходу сім’ї, який  набирав чинності з 1 липня 2015 року. Дія цього Порядку поширюється на осіб, які мають право на пільги за соціальною ознакою.</a:t>
            </a:r>
            <a:endParaRPr b="0" lang="en-US" sz="1400" spc="-1" strike="noStrike">
              <a:solidFill>
                <a:srgbClr val="000000"/>
              </a:solidFill>
              <a:latin typeface="Trebuchet MS"/>
            </a:endParaRPr>
          </a:p>
        </p:txBody>
      </p:sp>
      <p:sp>
        <p:nvSpPr>
          <p:cNvPr id="223" name="Прямоугольник 2"/>
          <p:cNvSpPr/>
          <p:nvPr/>
        </p:nvSpPr>
        <p:spPr>
          <a:xfrm>
            <a:off x="179280" y="2655720"/>
            <a:ext cx="784872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Пільги надаються за умови, якщо середньомісячний сукупний дохід сім’ї пільговика в розрахунку на одну особу за попередні шість місяців не перевищує величини доходу, який дає право на податкову соціальну пільгу. </a:t>
            </a:r>
            <a:r>
              <a:rPr b="1" lang="uk-UA" sz="1600" spc="-1" strike="noStrike">
                <a:solidFill>
                  <a:srgbClr val="2a5010"/>
                </a:solidFill>
                <a:latin typeface="Times New Roman"/>
                <a:ea typeface="Times New Roman"/>
              </a:rPr>
              <a:t> У 2022 році це - 3473 гривні.</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До сукупного доходу сім’ї пільговика включаються нараховані  пенсія; заробітна плата;</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грошове забезпечення; стипендія; соціальна допомога (крім одноразової допомоги);</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доходи від підприємницької діяльності (для ФОП платників єдиного податку І групи 1 ПМ, ІІ групи – 2 ПМ, ІІІ групи – 3 ПМ для працездатних осіб);  допомога по безробіттю та інші виплати, що здійснюються фондами соціального страхування.</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Для працездатних осіб, у яких відсутні доходи (крім осіб, які навчаються за денною формою навчання, осіб, призваних на строкову військову службу), до сукупного доходу за кожний місяць враховується дохід на рівні прожиткового мінімуму, встановленого для працездатних осіб на відповідний місяць</a:t>
            </a:r>
            <a:r>
              <a:rPr b="1" lang="ru-RU" sz="1600" spc="-1" strike="noStrike">
                <a:solidFill>
                  <a:srgbClr val="2a5010"/>
                </a:solidFill>
                <a:latin typeface="Times New Roman"/>
                <a:ea typeface="Times New Roman"/>
              </a:rPr>
              <a:t>.</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2a5010"/>
                </a:solidFill>
                <a:latin typeface="Times New Roman"/>
                <a:ea typeface="Times New Roman"/>
              </a:rPr>
              <a:t>Залишено  без змін надання пільг</a:t>
            </a:r>
            <a:r>
              <a:rPr b="0" lang="uk-UA" sz="1600" spc="-1" strike="noStrike">
                <a:solidFill>
                  <a:srgbClr val="2a5010"/>
                </a:solidFill>
                <a:latin typeface="Times New Roman"/>
                <a:ea typeface="Times New Roman"/>
              </a:rPr>
              <a:t> для  учасників  бойових дій (75 %), осіб з інвалідністю внаслідок  війни (100 %), осіб постраждалих унаслідок Чорнобильської катастрофи 1,2 категорій (50 %), ветеранів військової служби та органів МВС, реабілітованих осіб, осіб з інвалідністю внаслідок військової служби та члени сім'ї померлих ветеранів війни.</a:t>
            </a:r>
            <a:endParaRPr b="0" lang="en-US" sz="1600" spc="-1" strike="noStrike">
              <a:solidFill>
                <a:srgbClr val="000000"/>
              </a:solidFill>
              <a:latin typeface="Trebuchet MS"/>
            </a:endParaRPr>
          </a:p>
        </p:txBody>
      </p:sp>
      <p:sp>
        <p:nvSpPr>
          <p:cNvPr id="224" name="TextBox 4"/>
          <p:cNvSpPr/>
          <p:nvPr/>
        </p:nvSpPr>
        <p:spPr>
          <a:xfrm>
            <a:off x="2627280" y="515880"/>
            <a:ext cx="35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2a5010"/>
                </a:solidFill>
                <a:latin typeface="Times New Roman"/>
                <a:ea typeface="Times New Roman"/>
              </a:rPr>
              <a:t>Пільги по доходах</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25"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26" name="Прямоугольник 1"/>
          <p:cNvSpPr/>
          <p:nvPr/>
        </p:nvSpPr>
        <p:spPr>
          <a:xfrm>
            <a:off x="179280" y="1557360"/>
            <a:ext cx="835344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У разі коли середньомісячний дохід сім’ї в розрахунку на одну особу не перевищує величину доходу, який дає право на податкову соціальну пільгу, пільговик має право на отримання пільг протягом дванадцяти місяців з місяця визначення відповідного права.</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Управління праці та соціального захисту населення подає організаціям надавачам послуг списки пільговиків, які мають право на отримання пільг, а також видає пільговикам довідки для отримання інших видів пільг, які надаються з урахуванням доходу (безоплатне одержання ліків, лікарських засобів, імунобіологічних препаратів, виробів медичного призначення, зубопротезування тощо), відповідно до законодавства.</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Підприємства надають у встановленому порядку протягом шести місяців пільги пільговикам, зазначеним у списках.</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2a5010"/>
                </a:solidFill>
                <a:latin typeface="Times New Roman"/>
                <a:ea typeface="Times New Roman"/>
              </a:rPr>
              <a:t>Надання пільг припиняється:</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якщо пільговиком приховано або навмисно подано недостовірні дані про доходи будь-кого із членів сім’ї пільговика, що вплинуло на визначення права на пільги, - з місяця, в якому виявлено порушення;</a:t>
            </a:r>
            <a:endParaRPr b="0" lang="en-US" sz="1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за заявою пільговика - з місяця, що настає за місяцем її подання, якщо інше не обумовлено заявою.</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Сума пільги, перерахованої (виплаченої) надміру внаслідок свідомого подання пільговиком документів з недостовірними відомостями, повертається ним на вимогу структурного підрозділу з питань соціального захисту населення.</a:t>
            </a:r>
            <a:endParaRPr b="0" lang="en-US" sz="16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2a5010"/>
                </a:solidFill>
                <a:latin typeface="Times New Roman"/>
                <a:ea typeface="Times New Roman"/>
              </a:rPr>
              <a:t>У разі коли пільговик добровільно не повернув надміру перераховану (виплачену) суму пільги, питання про її стягнення вирішується у судовому порядку.</a:t>
            </a:r>
            <a:endParaRPr b="0" lang="en-US" sz="1600" spc="-1" strike="noStrike">
              <a:solidFill>
                <a:srgbClr val="000000"/>
              </a:solidFill>
              <a:latin typeface="Trebuchet MS"/>
            </a:endParaRPr>
          </a:p>
        </p:txBody>
      </p:sp>
      <p:sp>
        <p:nvSpPr>
          <p:cNvPr id="227" name="Прямоугольник 2"/>
          <p:cNvSpPr/>
          <p:nvPr/>
        </p:nvSpPr>
        <p:spPr>
          <a:xfrm>
            <a:off x="2249640" y="-9360"/>
            <a:ext cx="6283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2a5010"/>
                </a:solidFill>
                <a:latin typeface="Times New Roman"/>
                <a:ea typeface="Times New Roman"/>
              </a:rPr>
              <a:t>Пільговики подають до структурного підрозділу з питань соціального захисту населення декларацію про доходи сім’ї пільговика, а також довідки про доходи свої та членів сім’ї (крім довідок про розмір пенсії та соціальної допомоги) за шість місяців, що передують місяцю звернення, або документи, що підтверджують відсутність доходів за такий період.</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28" name="Рисунок 2" descr="http://s00.yaplakal.com/pics/pics_original/3/2/1/8030123.jpg"/>
          <p:cNvPicPr/>
          <p:nvPr/>
        </p:nvPicPr>
        <p:blipFill>
          <a:blip r:embed="rId1"/>
          <a:stretch/>
        </p:blipFill>
        <p:spPr>
          <a:xfrm>
            <a:off x="0" y="0"/>
            <a:ext cx="2077920" cy="1560600"/>
          </a:xfrm>
          <a:prstGeom prst="rect">
            <a:avLst/>
          </a:prstGeom>
          <a:ln w="0">
            <a:noFill/>
          </a:ln>
        </p:spPr>
      </p:pic>
      <p:graphicFrame>
        <p:nvGraphicFramePr>
          <p:cNvPr id="229" name=""/>
          <p:cNvGraphicFramePr/>
          <p:nvPr/>
        </p:nvGraphicFramePr>
        <p:xfrm>
          <a:off x="1979640" y="905040"/>
          <a:ext cx="6769080" cy="2149200"/>
        </p:xfrm>
        <a:graphic>
          <a:graphicData uri="http://schemas.openxmlformats.org/drawingml/2006/table">
            <a:tbl>
              <a:tblPr/>
              <a:tblGrid>
                <a:gridCol w="5472000"/>
                <a:gridCol w="1297080"/>
              </a:tblGrid>
              <a:tr h="232200">
                <a:tc gridSpan="2">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0872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Плата за користування житлом (квартирна плата) в межах норми, передбаченої чинним законодавством (21 кв. метр загальної площі житла на кожну особу</a:t>
                      </a:r>
                      <a:r>
                        <a:rPr b="0" lang="ru-RU" sz="1400" spc="-1" strike="noStrike">
                          <a:solidFill>
                            <a:srgbClr val="2a5010"/>
                          </a:solidFill>
                          <a:latin typeface="Times New Roman"/>
                          <a:ea typeface="Times New Roman"/>
                        </a:rPr>
                        <a:t>, яка постійно проживє у житловому приміщені</a:t>
                      </a:r>
                      <a:r>
                        <a:rPr b="0" lang="uk-UA" sz="1400" spc="-1" strike="noStrike">
                          <a:solidFill>
                            <a:srgbClr val="2a5010"/>
                          </a:solidFill>
                          <a:latin typeface="Times New Roman"/>
                          <a:ea typeface="Times New Roman"/>
                        </a:rPr>
                        <a:t> i має право на знижку плати, та додатково 10,5 кв. метра на сім'ю);</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4604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Плата за користування комунальними послугами(в межах норми споживання)</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837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в межах норми споживання)</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graphicFrame>
        <p:nvGraphicFramePr>
          <p:cNvPr id="230" name=""/>
          <p:cNvGraphicFramePr/>
          <p:nvPr/>
        </p:nvGraphicFramePr>
        <p:xfrm>
          <a:off x="324000" y="3068640"/>
          <a:ext cx="8424720" cy="2976480"/>
        </p:xfrm>
        <a:graphic>
          <a:graphicData uri="http://schemas.openxmlformats.org/drawingml/2006/table">
            <a:tbl>
              <a:tblPr/>
              <a:tblGrid>
                <a:gridCol w="7056360"/>
                <a:gridCol w="1368360"/>
              </a:tblGrid>
              <a:tr h="232200">
                <a:tc gridSpan="2">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2a5010"/>
                          </a:solidFill>
                          <a:latin typeface="Times New Roman"/>
                          <a:ea typeface="Times New Roman"/>
                        </a:rPr>
                        <a:t>  </a:t>
                      </a:r>
                      <a:r>
                        <a:rPr b="1" lang="ru-RU"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70488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Інвалід війни</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Інвалід Великої Вітчизняної війни  та війни з Японією</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endParaRPr b="0" lang="en-US" sz="1400" spc="-1" strike="noStrike">
                        <a:solidFill>
                          <a:srgbClr val="000000"/>
                        </a:solidFill>
                        <a:latin typeface="Trebuchet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2a5010"/>
                          </a:solidFill>
                          <a:latin typeface="Times New Roman"/>
                          <a:ea typeface="Times New Roman"/>
                        </a:rPr>
                        <a:t>50%</a:t>
                      </a:r>
                      <a:endParaRPr b="0" lang="en-US" sz="1400" spc="-1" strike="noStrike">
                        <a:solidFill>
                          <a:srgbClr val="000000"/>
                        </a:solidFill>
                        <a:latin typeface="Trebuchet MS"/>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3804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Безплатне  встановлення квартирних телефонів</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32200">
                <a:tc gridSpan="2">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2a5010"/>
                          </a:solidFill>
                          <a:latin typeface="Times New Roman"/>
                          <a:ea typeface="Times New Roman"/>
                        </a:rPr>
                        <a:t>  </a:t>
                      </a:r>
                      <a:r>
                        <a:rPr b="1" lang="ru-RU" sz="1400" spc="-1" strike="noStrike">
                          <a:solidFill>
                            <a:srgbClr val="2a5010"/>
                          </a:solidFill>
                          <a:latin typeface="Times New Roman"/>
                          <a:ea typeface="Times New Roman"/>
                        </a:rPr>
                        <a:t>Інші передбачені законодавством пільги</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5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санаторно-курортним лікуванням</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200" spc="-1" strike="noStrike">
                          <a:solidFill>
                            <a:srgbClr val="2a5010"/>
                          </a:solidFill>
                          <a:latin typeface="Times New Roman"/>
                          <a:ea typeface="Times New Roman"/>
                        </a:rPr>
                        <a:t>Позачергово щороку</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5576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один раз на два роки (туди і назад) залізничним, водним, повітряним або міжміським автомобільним транспортом на території України та країн СНД</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5976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озачерговий безплатний капітальний ремонт власних жилих будинків (квартир)</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200" spc="-1" strike="noStrike">
                          <a:solidFill>
                            <a:srgbClr val="2a5010"/>
                          </a:solidFill>
                          <a:latin typeface="Times New Roman"/>
                          <a:ea typeface="Times New Roman"/>
                        </a:rPr>
                        <a:t>21 кв. метр загальної площі житла</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31" name="Прямоугольник 5"/>
          <p:cNvSpPr/>
          <p:nvPr/>
        </p:nvSpPr>
        <p:spPr>
          <a:xfrm>
            <a:off x="108000" y="1558800"/>
            <a:ext cx="1655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Осіби з інвалідністю внаслідок війни І, ІІ, ІІІ групи</a:t>
            </a:r>
            <a:endParaRPr b="0" lang="en-US" sz="1800" spc="-1" strike="noStrike">
              <a:solidFill>
                <a:srgbClr val="000000"/>
              </a:solidFill>
              <a:latin typeface="Trebuchet MS"/>
            </a:endParaRPr>
          </a:p>
        </p:txBody>
      </p:sp>
      <p:sp>
        <p:nvSpPr>
          <p:cNvPr id="232" name="Прямоугольник 7"/>
          <p:cNvSpPr/>
          <p:nvPr/>
        </p:nvSpPr>
        <p:spPr>
          <a:xfrm>
            <a:off x="1979640" y="270000"/>
            <a:ext cx="568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ро статус ветеранів війни, гарантії їх соціального захисту»</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33" name="Рисунок 2" descr="http://s00.yaplakal.com/pics/pics_original/3/2/1/8030123.jpg"/>
          <p:cNvPicPr/>
          <p:nvPr/>
        </p:nvPicPr>
        <p:blipFill>
          <a:blip r:embed="rId1"/>
          <a:stretch/>
        </p:blipFill>
        <p:spPr>
          <a:xfrm>
            <a:off x="0" y="0"/>
            <a:ext cx="2077920" cy="1560600"/>
          </a:xfrm>
          <a:prstGeom prst="rect">
            <a:avLst/>
          </a:prstGeom>
          <a:ln w="0">
            <a:noFill/>
          </a:ln>
        </p:spPr>
      </p:pic>
      <p:graphicFrame>
        <p:nvGraphicFramePr>
          <p:cNvPr id="234" name=""/>
          <p:cNvGraphicFramePr/>
          <p:nvPr/>
        </p:nvGraphicFramePr>
        <p:xfrm>
          <a:off x="539640" y="1484280"/>
          <a:ext cx="8136000" cy="4797360"/>
        </p:xfrm>
        <a:graphic>
          <a:graphicData uri="http://schemas.openxmlformats.org/drawingml/2006/table">
            <a:tbl>
              <a:tblPr/>
              <a:tblGrid>
                <a:gridCol w="5400720"/>
                <a:gridCol w="2735280"/>
              </a:tblGrid>
              <a:tr h="76536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Виплата грошової компенсації на транспортне обслуговування (для осіб з інвалідністю, які перебувають на обліку в органах соціального захисту населення  на забезпечення їх автомобілем)</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двічі на рік (у березні та вересні) </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r>
              <a:tr h="76500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Виплата грошової компенсації на бензин, ремонт та технічне обслуговування автомобілів (для інвалідів які забезпечені автомобілем через органи соціального захисту населення)</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двічі на рік (у березні та вересні) </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4136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Виплата грошової компенсації замість путівки на санаторно-курортне лікування</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ин раз на два роки</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5556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всіма видами міського пасажирського транспорту, автомобільним транспортом загального користування в сільській місцевості</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76536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залізничним і водним транспортом приміського сполучення та автобусами приміських маршрутів в межах області за місцем проживання</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2860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9204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9204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протезами та протезно-ортопедичними виробами</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92040">
                <a:tc>
                  <a:txBody>
                    <a:bodyPr lIns="7560" rIns="7560" tIns="7560" bIns="75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автомобілем з ручним керуванням</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560" rIns="7560" tIns="7560" bIns="7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endParaRPr b="0" lang="en-US" sz="1400" spc="-1" strike="noStrike">
                        <a:solidFill>
                          <a:srgbClr val="000000"/>
                        </a:solidFill>
                        <a:latin typeface="Trebuchet MS"/>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pic>
        <p:nvPicPr>
          <p:cNvPr id="235" name="Рисунок 2" descr="http://s00.yaplakal.com/pics/pics_original/3/2/1/8030123.jpg"/>
          <p:cNvPicPr/>
          <p:nvPr/>
        </p:nvPicPr>
        <p:blipFill>
          <a:blip r:embed="rId1"/>
          <a:stretch/>
        </p:blipFill>
        <p:spPr>
          <a:xfrm>
            <a:off x="0" y="0"/>
            <a:ext cx="2077920" cy="1560600"/>
          </a:xfrm>
          <a:prstGeom prst="rect">
            <a:avLst/>
          </a:prstGeom>
          <a:ln w="0">
            <a:noFill/>
          </a:ln>
        </p:spPr>
      </p:pic>
      <p:graphicFrame>
        <p:nvGraphicFramePr>
          <p:cNvPr id="236" name=""/>
          <p:cNvGraphicFramePr/>
          <p:nvPr/>
        </p:nvGraphicFramePr>
        <p:xfrm>
          <a:off x="1909800" y="115920"/>
          <a:ext cx="6840360" cy="3205080"/>
        </p:xfrm>
        <a:graphic>
          <a:graphicData uri="http://schemas.openxmlformats.org/drawingml/2006/table">
            <a:tbl>
              <a:tblPr/>
              <a:tblGrid>
                <a:gridCol w="6119640"/>
                <a:gridCol w="720720"/>
              </a:tblGrid>
              <a:tr h="222840">
                <a:tc gridSpan="2">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93780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м  в межах норми, передбаченої чинним законодавством (21 кв. метр загальної площі житла на кожну особу</a:t>
                      </a:r>
                      <a:r>
                        <a:rPr b="0" lang="ru-RU" sz="1400" spc="-1" strike="noStrike">
                          <a:solidFill>
                            <a:srgbClr val="2a5010"/>
                          </a:solidFill>
                          <a:latin typeface="Times New Roman"/>
                          <a:ea typeface="Times New Roman"/>
                        </a:rPr>
                        <a:t>, яка постійно проживє у житловому приміщені</a:t>
                      </a:r>
                      <a:r>
                        <a:rPr b="0" lang="uk-UA" sz="1400" spc="-1" strike="noStrike">
                          <a:solidFill>
                            <a:srgbClr val="2a5010"/>
                          </a:solidFill>
                          <a:latin typeface="Times New Roman"/>
                          <a:ea typeface="Times New Roman"/>
                        </a:rPr>
                        <a:t>  i має право на знижку плати, та додатково 10,5 кв. метра на сім'ю);</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75%</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596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75%</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54108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та скраплений газ (в межах норми споживання)</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75%</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34440">
                <a:tc gridSpan="2">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4516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408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основних робіт по встановленню квартирних телефонів</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80%</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43720">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додаткових робіт по встановленню квартирних телефонів</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4680" rIns="4680" tIns="4680" bIns="46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4680" marR="46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graphicFrame>
        <p:nvGraphicFramePr>
          <p:cNvPr id="237" name=""/>
          <p:cNvGraphicFramePr/>
          <p:nvPr/>
        </p:nvGraphicFramePr>
        <p:xfrm>
          <a:off x="328680" y="3400560"/>
          <a:ext cx="8426520" cy="3035160"/>
        </p:xfrm>
        <a:graphic>
          <a:graphicData uri="http://schemas.openxmlformats.org/drawingml/2006/table">
            <a:tbl>
              <a:tblPr/>
              <a:tblGrid>
                <a:gridCol w="7705800"/>
                <a:gridCol w="720720"/>
              </a:tblGrid>
              <a:tr h="230040">
                <a:tc gridSpan="2">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63180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санаторно-курортним лікуванням або одержання компенсації вартості самостійного санаторно-курортного ліку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щороку</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5556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один раз на два роки (туди і назад) залізничним, водним, повітряним або міжміським автомобільним транспортом або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проїзд один раз на рік (туди і назад) вказаними видами транспорту з 50-процентною знижкою</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endParaRPr b="0" lang="en-US" sz="14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8096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всіма видами міського пасажирського транспорту, автомобільним транспортом загального користування в сільській місцевості</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8132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роїзд залізничним і водним транспортом приміського сполучення та автобусами приміських маршрутів в межах області за місцем пр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3004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2544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
        <p:nvSpPr>
          <p:cNvPr id="238" name="Прямоугольник 4"/>
          <p:cNvSpPr/>
          <p:nvPr/>
        </p:nvSpPr>
        <p:spPr>
          <a:xfrm>
            <a:off x="108000" y="155736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Учасники бойових дій</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39" name=""/>
          <p:cNvGraphicFramePr/>
          <p:nvPr/>
        </p:nvGraphicFramePr>
        <p:xfrm>
          <a:off x="1979640" y="368280"/>
          <a:ext cx="6480000" cy="2916360"/>
        </p:xfrm>
        <a:graphic>
          <a:graphicData uri="http://schemas.openxmlformats.org/drawingml/2006/table">
            <a:tbl>
              <a:tblPr/>
              <a:tblGrid>
                <a:gridCol w="5662440"/>
                <a:gridCol w="817560"/>
              </a:tblGrid>
              <a:tr h="219240">
                <a:tc gridSpan="2">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132876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м в межах норми, передбаченої чинним законодавством (21 кв. метр загальної площі житла на кожну особу, яка постійно проживє у житловому приміщені i має право на знижку плати, та додатково 10,5 кв. метра на сім'ю);</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50%</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308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200" spc="-1" strike="noStrike">
                          <a:solidFill>
                            <a:srgbClr val="000000"/>
                          </a:solidFill>
                          <a:latin typeface="Times New Roman"/>
                          <a:ea typeface="Times New Roman"/>
                        </a:rPr>
                        <a:t>  </a:t>
                      </a:r>
                      <a:r>
                        <a:rPr b="0" lang="uk-UA" sz="1200" spc="-1" strike="noStrike">
                          <a:solidFill>
                            <a:srgbClr val="000000"/>
                          </a:solidFill>
                          <a:latin typeface="Times New Roman"/>
                          <a:ea typeface="Times New Roman"/>
                        </a:rPr>
                        <a:t>50%</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648000">
                <a:tc gridSpan="2">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ове придбання твердого та рідкого пічного побутового палива і скрапленого газу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8728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та скрапленого газу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pic>
        <p:nvPicPr>
          <p:cNvPr id="240"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41" name="Прямоугольник 3"/>
          <p:cNvSpPr/>
          <p:nvPr/>
        </p:nvSpPr>
        <p:spPr>
          <a:xfrm>
            <a:off x="108000" y="155736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Учасники війни</a:t>
            </a:r>
            <a:endParaRPr b="0" lang="en-US" sz="1800" spc="-1" strike="noStrike">
              <a:solidFill>
                <a:srgbClr val="000000"/>
              </a:solidFill>
              <a:latin typeface="Trebuchet MS"/>
            </a:endParaRPr>
          </a:p>
        </p:txBody>
      </p:sp>
      <p:graphicFrame>
        <p:nvGraphicFramePr>
          <p:cNvPr id="242" name=""/>
          <p:cNvGraphicFramePr/>
          <p:nvPr/>
        </p:nvGraphicFramePr>
        <p:xfrm>
          <a:off x="468360" y="3429000"/>
          <a:ext cx="7991280" cy="2952720"/>
        </p:xfrm>
        <a:graphic>
          <a:graphicData uri="http://schemas.openxmlformats.org/drawingml/2006/table">
            <a:tbl>
              <a:tblPr/>
              <a:tblGrid>
                <a:gridCol w="7199280"/>
                <a:gridCol w="792000"/>
              </a:tblGrid>
              <a:tr h="230040">
                <a:tc gridSpan="2">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7476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7800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основних робіт по встановленню квартирних телефонів</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8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7764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додаткових робіт по встановленню квартирних телефонів</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03120">
                <a:tc gridSpan="2">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60480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санаторно-курортним лікуванням або одержання компенсації вартості самостійного санаторно-курортного лікування</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 раз на два роки</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45432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3004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43" name=""/>
          <p:cNvGraphicFramePr/>
          <p:nvPr/>
        </p:nvGraphicFramePr>
        <p:xfrm>
          <a:off x="1979640" y="189000"/>
          <a:ext cx="6840360" cy="3255840"/>
        </p:xfrm>
        <a:graphic>
          <a:graphicData uri="http://schemas.openxmlformats.org/drawingml/2006/table">
            <a:tbl>
              <a:tblPr/>
              <a:tblGrid>
                <a:gridCol w="6048360"/>
                <a:gridCol w="792000"/>
              </a:tblGrid>
              <a:tr h="21996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85932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житлом (квартирна плата) та опаленням в межах норми, передбаченої чинним законодавством (21 кв. метр загальної площі житла на кожну </a:t>
                      </a:r>
                      <a:r>
                        <a:rPr b="0" lang="ru-RU" sz="1400" spc="-1" strike="noStrike">
                          <a:solidFill>
                            <a:srgbClr val="2a5010"/>
                          </a:solidFill>
                          <a:latin typeface="Times New Roman"/>
                          <a:ea typeface="Times New Roman"/>
                        </a:rPr>
                        <a:t>особу, яка постійно проживє у житловому приміщені </a:t>
                      </a:r>
                      <a:r>
                        <a:rPr b="0" lang="uk-UA" sz="1400" spc="-1" strike="noStrike">
                          <a:solidFill>
                            <a:srgbClr val="2a5010"/>
                          </a:solidFill>
                          <a:latin typeface="Times New Roman"/>
                          <a:ea typeface="Times New Roman"/>
                        </a:rPr>
                        <a:t>i має право на знижку плати, та додатково 10,5 кв. метра на сім'ю);</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43308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комунальними послугами (в межах норми споживання)</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43308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ове придбання твердого та рідкого пічного побутового палива і скрапленого газу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3308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тверде та рідке паливо та скраплений газ (в межах норми споживання)</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1996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послуг зв'язку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21996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Абонементна плата за користування телефоном</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1996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основних робіт по встановленню квартирних телефон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8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1996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плата додаткових робіт по встановленню квартирних телефон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5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pic>
        <p:nvPicPr>
          <p:cNvPr id="244"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45" name="Прямоугольник 3"/>
          <p:cNvSpPr/>
          <p:nvPr/>
        </p:nvSpPr>
        <p:spPr>
          <a:xfrm>
            <a:off x="108000" y="1557360"/>
            <a:ext cx="1655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a5010"/>
                </a:solidFill>
                <a:latin typeface="Times New Roman"/>
                <a:ea typeface="Times New Roman"/>
              </a:rPr>
              <a:t>Члени сім’ї загиблого (померлого) ветерана війни</a:t>
            </a:r>
            <a:endParaRPr b="0" lang="en-US" sz="1800" spc="-1" strike="noStrike">
              <a:solidFill>
                <a:srgbClr val="000000"/>
              </a:solidFill>
              <a:latin typeface="Trebuchet MS"/>
            </a:endParaRPr>
          </a:p>
        </p:txBody>
      </p:sp>
      <p:graphicFrame>
        <p:nvGraphicFramePr>
          <p:cNvPr id="246" name=""/>
          <p:cNvGraphicFramePr/>
          <p:nvPr/>
        </p:nvGraphicFramePr>
        <p:xfrm>
          <a:off x="324000" y="3649680"/>
          <a:ext cx="8496000" cy="2181240"/>
        </p:xfrm>
        <a:graphic>
          <a:graphicData uri="http://schemas.openxmlformats.org/drawingml/2006/table">
            <a:tbl>
              <a:tblPr/>
              <a:tblGrid>
                <a:gridCol w="7478640"/>
                <a:gridCol w="1017360"/>
              </a:tblGrid>
              <a:tr h="390600">
                <a:tc gridSpan="2">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Інші передбачені законодавством пільги  </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631800">
                <a:tc>
                  <a:txBody>
                    <a:bodyPr lIns="2880" rIns="2880" tIns="2880" bIns="28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абезпечення санаторно-курортним лікуванням або одержання компенсації вартості самостійного санаторно-курортного лікування</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2880" rIns="2880" tIns="2880" bIns="28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 раз на два роки</a:t>
                      </a:r>
                      <a:endParaRPr b="0" lang="en-US" sz="1400" spc="-1" strike="noStrike">
                        <a:solidFill>
                          <a:srgbClr val="000000"/>
                        </a:solidFill>
                        <a:latin typeface="Trebuchet MS"/>
                      </a:endParaRPr>
                    </a:p>
                  </a:txBody>
                  <a:tcPr anchor="ctr" marL="2880" marR="288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6588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озачерговий безплатний капітальний ремонт власних жилих будинків (квартир)</a:t>
                      </a:r>
                      <a:endParaRPr b="0" lang="en-US" sz="14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9360" rIns="936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200" spc="-1" strike="noStrike">
                          <a:solidFill>
                            <a:srgbClr val="2a5010"/>
                          </a:solidFill>
                          <a:latin typeface="Times New Roman"/>
                          <a:ea typeface="Times New Roman"/>
                        </a:rPr>
                        <a:t>21 кв. метр загальної площі житла</a:t>
                      </a:r>
                      <a:endParaRPr b="0" lang="en-US" sz="1200" spc="-1" strike="noStrike">
                        <a:solidFill>
                          <a:srgbClr val="000000"/>
                        </a:solidFill>
                        <a:latin typeface="Trebuchet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25884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Одержання ліків за рецептами лікар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241200">
                <a:tc>
                  <a:txBody>
                    <a:bodyPr lIns="3240" rIns="3240" tIns="3240" bIns="32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Зубопротезування (крім протезування з дорогоцінних металів)</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3240" rIns="3240" tIns="3240" bIns="32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100%</a:t>
                      </a:r>
                      <a:endParaRPr b="0" lang="en-US" sz="1400" spc="-1" strike="noStrike">
                        <a:solidFill>
                          <a:srgbClr val="000000"/>
                        </a:solidFill>
                        <a:latin typeface="Trebuchet MS"/>
                      </a:endParaRPr>
                    </a:p>
                  </a:txBody>
                  <a:tcPr anchor="ctr" marL="3240" marR="324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df3"/>
            </a:gs>
            <a:gs pos="100000">
              <a:srgbClr val="dff1b9"/>
            </a:gs>
          </a:gsLst>
          <a:lin ang="5400000"/>
        </a:gradFill>
      </p:bgPr>
    </p:bg>
    <p:spTree>
      <p:nvGrpSpPr>
        <p:cNvPr id="1" name=""/>
        <p:cNvGrpSpPr/>
        <p:nvPr/>
      </p:nvGrpSpPr>
      <p:grpSpPr>
        <a:xfrm>
          <a:off x="0" y="0"/>
          <a:ext cx="0" cy="0"/>
          <a:chOff x="0" y="0"/>
          <a:chExt cx="0" cy="0"/>
        </a:xfrm>
      </p:grpSpPr>
      <p:graphicFrame>
        <p:nvGraphicFramePr>
          <p:cNvPr id="247" name=""/>
          <p:cNvGraphicFramePr/>
          <p:nvPr/>
        </p:nvGraphicFramePr>
        <p:xfrm>
          <a:off x="468360" y="1581120"/>
          <a:ext cx="6878520" cy="3216240"/>
        </p:xfrm>
        <a:graphic>
          <a:graphicData uri="http://schemas.openxmlformats.org/drawingml/2006/table">
            <a:tbl>
              <a:tblPr/>
              <a:tblGrid>
                <a:gridCol w="5972040"/>
                <a:gridCol w="906480"/>
              </a:tblGrid>
              <a:tr h="229320">
                <a:tc gridSpan="2">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Пільги з оплати житлово-комунальних послуг  </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18720">
                      <a:solidFill>
                        <a:srgbClr val="ffffff"/>
                      </a:solidFill>
                    </a:lnB>
                    <a:solidFill>
                      <a:srgbClr val="90c226"/>
                    </a:solidFill>
                  </a:tcPr>
                </a:tc>
                <a:tc hMerge="1">
                  <a:txBody>
                    <a:bodyPr lIns="90000" rIns="90000" tIns="45000" bIns="45000" anchor="t">
                      <a:noAutofit/>
                    </a:bodyPr>
                    <a:p>
                      <a:endParaRPr b="0" lang="en-US" sz="18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1608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гарячою водою (в межах норми сп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1872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18720">
                      <a:solidFill>
                        <a:srgbClr val="ffffff"/>
                      </a:solidFill>
                    </a:lnT>
                    <a:lnB w="5760">
                      <a:solidFill>
                        <a:srgbClr val="ffffff"/>
                      </a:solidFill>
                    </a:lnB>
                    <a:solidFill>
                      <a:srgbClr val="dbe9cd"/>
                    </a:solidFill>
                  </a:tcPr>
                </a:tc>
              </a:tr>
              <a:tr h="31572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холодною водою (в межах норми сп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31752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природним газом (в межах норми сп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65556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електроенергією (в межах норми споживання(75 кВт на  сім’ю з одного – двох чолові та додатково на кожного наступного 15 кВа але не більше 150 кВт)</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r h="106704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користування опаленням(квартирна плата)  в межах норми, передбаченої чинним законодавством (21 кв. метр загальної площі житла на кожну </a:t>
                      </a:r>
                      <a:r>
                        <a:rPr b="0" lang="ru-RU" sz="1400" spc="-1" strike="noStrike">
                          <a:solidFill>
                            <a:srgbClr val="2a5010"/>
                          </a:solidFill>
                          <a:latin typeface="Times New Roman"/>
                          <a:ea typeface="Times New Roman"/>
                        </a:rPr>
                        <a:t>особу, яка постійно проживє у житловому приміщені</a:t>
                      </a:r>
                      <a:r>
                        <a:rPr b="0" lang="uk-UA" sz="1400" spc="-1" strike="noStrike">
                          <a:solidFill>
                            <a:srgbClr val="2a5010"/>
                          </a:solidFill>
                          <a:latin typeface="Times New Roman"/>
                          <a:ea typeface="Times New Roman"/>
                        </a:rPr>
                        <a:t>  i має право на знижку плати, та додатково 10,5 кв. метра на сім'ю);</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dbe9cd"/>
                    </a:solidFill>
                  </a:tcPr>
                </a:tc>
              </a:tr>
              <a:tr h="315000">
                <a:tc>
                  <a:txBody>
                    <a:bodyPr lIns="7920" rIns="7920" tIns="7920" bIns="792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2a5010"/>
                          </a:solidFill>
                          <a:latin typeface="Times New Roman"/>
                          <a:ea typeface="Times New Roman"/>
                        </a:rPr>
                        <a:t>  </a:t>
                      </a:r>
                      <a:r>
                        <a:rPr b="0" lang="uk-UA" sz="1400" spc="-1" strike="noStrike">
                          <a:solidFill>
                            <a:srgbClr val="2a5010"/>
                          </a:solidFill>
                          <a:latin typeface="Times New Roman"/>
                          <a:ea typeface="Times New Roman"/>
                        </a:rPr>
                        <a:t>Плата за водовідведення (в межах норми споживання)</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90c226"/>
                    </a:solidFill>
                  </a:tcPr>
                </a:tc>
                <a:tc>
                  <a:txBody>
                    <a:bodyPr lIns="7920" rIns="7920" tIns="7920" bIns="7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2a5010"/>
                          </a:solidFill>
                          <a:latin typeface="Times New Roman"/>
                          <a:ea typeface="Times New Roman"/>
                        </a:rPr>
                        <a:t>  </a:t>
                      </a:r>
                      <a:r>
                        <a:rPr b="1" lang="uk-UA" sz="1400" spc="-1" strike="noStrike">
                          <a:solidFill>
                            <a:srgbClr val="2a5010"/>
                          </a:solidFill>
                          <a:latin typeface="Times New Roman"/>
                          <a:ea typeface="Times New Roman"/>
                        </a:rPr>
                        <a:t>25%</a:t>
                      </a:r>
                      <a:endParaRPr b="0" lang="en-US" sz="1400" spc="-1" strike="noStrike">
                        <a:solidFill>
                          <a:srgbClr val="000000"/>
                        </a:solidFill>
                        <a:latin typeface="Trebuchet MS"/>
                      </a:endParaRPr>
                    </a:p>
                  </a:txBody>
                  <a:tcPr anchor="ctr" marL="7920" marR="7920">
                    <a:lnL w="5760">
                      <a:solidFill>
                        <a:srgbClr val="ffffff"/>
                      </a:solidFill>
                    </a:lnL>
                    <a:lnR w="5760">
                      <a:solidFill>
                        <a:srgbClr val="ffffff"/>
                      </a:solidFill>
                    </a:lnR>
                    <a:lnT w="5760">
                      <a:solidFill>
                        <a:srgbClr val="ffffff"/>
                      </a:solidFill>
                    </a:lnT>
                    <a:lnB w="5760">
                      <a:solidFill>
                        <a:srgbClr val="ffffff"/>
                      </a:solidFill>
                    </a:lnB>
                    <a:solidFill>
                      <a:srgbClr val="eef4e8"/>
                    </a:solidFill>
                  </a:tcPr>
                </a:tc>
              </a:tr>
            </a:tbl>
          </a:graphicData>
        </a:graphic>
      </p:graphicFrame>
      <p:pic>
        <p:nvPicPr>
          <p:cNvPr id="248" name="Рисунок 2" descr="http://s00.yaplakal.com/pics/pics_original/3/2/1/8030123.jpg"/>
          <p:cNvPicPr/>
          <p:nvPr/>
        </p:nvPicPr>
        <p:blipFill>
          <a:blip r:embed="rId1"/>
          <a:stretch/>
        </p:blipFill>
        <p:spPr>
          <a:xfrm>
            <a:off x="0" y="0"/>
            <a:ext cx="2077920" cy="1560600"/>
          </a:xfrm>
          <a:prstGeom prst="rect">
            <a:avLst/>
          </a:prstGeom>
          <a:ln w="0">
            <a:noFill/>
          </a:ln>
        </p:spPr>
      </p:pic>
      <p:sp>
        <p:nvSpPr>
          <p:cNvPr id="249" name="TextBox 3"/>
          <p:cNvSpPr/>
          <p:nvPr/>
        </p:nvSpPr>
        <p:spPr>
          <a:xfrm>
            <a:off x="2006640" y="398520"/>
            <a:ext cx="55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Закон України «Про соціальний захист дітей війни»</a:t>
            </a:r>
            <a:endParaRPr b="0" lang="en-US" sz="1800" spc="-1" strike="noStrike">
              <a:solidFill>
                <a:srgbClr val="000000"/>
              </a:solidFill>
              <a:latin typeface="Trebuchet MS"/>
            </a:endParaRPr>
          </a:p>
        </p:txBody>
      </p:sp>
      <p:sp>
        <p:nvSpPr>
          <p:cNvPr id="250" name="TextBox 5"/>
          <p:cNvSpPr/>
          <p:nvPr/>
        </p:nvSpPr>
        <p:spPr>
          <a:xfrm>
            <a:off x="1058400" y="6108840"/>
            <a:ext cx="544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a5010"/>
                </a:solidFill>
                <a:latin typeface="Times New Roman"/>
                <a:ea typeface="Times New Roman"/>
              </a:rPr>
              <a:t>Пільга не поширюється на членів сім’ї пільговика</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5T06:37:29Z</dcterms:created>
  <dc:creator>www.PHILka.RU</dc:creator>
  <dc:description/>
  <dc:language>en-US</dc:language>
  <cp:lastModifiedBy>92</cp:lastModifiedBy>
  <cp:lastPrinted>2017-01-18T10:53:46Z</cp:lastPrinted>
  <dcterms:modified xsi:type="dcterms:W3CDTF">2022-02-04T13:24:39Z</dcterms:modified>
  <cp:revision>103</cp:revision>
  <dc:subject/>
  <dc:title>Державні соціальні допомоги:  їх види та розміри</dc:title>
</cp:coreProperties>
</file>