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6152-819C-44D9-8BF9-AA0258744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B6225-7B88-4FCF-B132-650A3E36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C5B31-02AB-4EE7-9B98-61570F16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F0A28-E385-45B1-AF5C-C425C539E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481FE-F923-4BF3-AFC5-DB5550D8D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4BFD1-97F4-4803-B94B-4CE2E03CD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8692F-84C2-4F13-9AC9-2E3539459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CA92E-744F-428F-AFAE-20B5C5B11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21166-F298-46A1-9208-4073D3CE8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7C4F1-E960-4074-896B-027F64EB7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E4FA5-7635-4175-BB5E-8946C12D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7A937-1376-451E-98C7-742974528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F5C84-F5E6-4589-B358-29E9BE83D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064C-325C-4285-B73E-3708053A5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A839B-E8EA-4602-889E-2C8C91E44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774A8-95B9-4586-8CD5-6A1523528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AF132-C4F8-4116-B4CB-15CCE917C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16A6E62-0951-4BBA-B3F5-9594EAEE3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5053E3-0D0B-4BD5-B75E-E21F233BF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404560-2829-40E4-9B18-3DD153E6F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D2A1E1-150D-460F-A84B-4EDE73769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A5B8B7-5ECF-447A-80AE-884C6C6D9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E10F0-49E9-4528-8DC7-F1929A30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C70571-6CDA-43F8-8656-2F12B4E11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8C16D6-3FF6-49FD-866B-D3FE3C13D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7CB155-51A2-460B-A3DF-4F2F496FC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5E18EB-8178-4C10-8E5C-0ED5A4670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86DC35-8346-4607-B046-75D5A1688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DB53E78-D99D-4DD3-BD92-682440B39B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CD9EB3-6480-4583-9264-8D394E4CED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4FFCDE-C164-4034-8222-F5F9D06D93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52AE5-734B-443F-9A22-8380D1286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92B7C1-D8C5-4187-B6F7-80A7EA8F6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2FF1-AA20-4EFA-B658-8A67F023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9FC46-F898-4D86-8DA5-FFDCB064F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A1BF70-D078-4DDC-9BF4-D9B850150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A01F6-08D4-4F16-B12D-44388A8C7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3F21D-4D5D-4003-8AA2-4A5C4AED5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707A8-37DA-41A8-920E-14F02BAE5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2053C-A046-444B-A3BD-4A7A20270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52182-93C9-4362-983A-9CB731DCA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8C9F4C-9CB3-4782-A014-10A6643CC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3A030-88DB-43D1-8F70-982F7AD3F2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2BB07-0F58-4705-9281-8D106DA92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EBC69-7CC9-43FE-833E-5FDBA370C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5DAF-FE04-4FB1-B2CC-C751A31B6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47E8-AAD6-4F50-9CF6-7261A745D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7C51-95DA-476D-A18F-D44C2B7FF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B2AB-592B-4899-AF1B-CDF9666E3E3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2AED-093E-4213-A022-DED9F62164D0}"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E022-83EB-4018-A463-8C741F30D05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1FCD-A9C4-4883-A63C-05EDCDCF595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Arial"/>
                <a:ea typeface="Arial"/>
              </a:rPr>
              <a:t>Державна соціальна допомога на дітей-сиріт та дітей, позбавлених батьківського піклування, грошового забезпечення батькам-вихователям і прийомним батькам за надання соціальних послуг у дитячих будинках сімейного типу та прийомних сім'ях за принципом «гроші ходять за дитиною»</a:t>
            </a:r>
            <a:endParaRPr b="0" lang="en-US" sz="3000" spc="-1" strike="noStrike">
              <a:solidFill>
                <a:srgbClr val="424456"/>
              </a:solidFill>
              <a:latin typeface="Trebuchet MS"/>
            </a:endParaRPr>
          </a:p>
        </p:txBody>
      </p:sp>
      <p:pic>
        <p:nvPicPr>
          <p:cNvPr id="215" name="Picture 4" descr=""/>
          <p:cNvPicPr/>
          <p:nvPr/>
        </p:nvPicPr>
        <p:blipFill>
          <a:blip r:embed="rId1"/>
          <a:stretch/>
        </p:blipFill>
        <p:spPr>
          <a:xfrm>
            <a:off x="2620800" y="3870360"/>
            <a:ext cx="3865680" cy="29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108000" y="180720"/>
            <a:ext cx="8856720" cy="712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Державна соціальна допомога на дітей призначається в грошовій формі батькам-вихователям на кожну дитину-вихованця і прийомним батькам на кожну прийомну дитину.</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Структурні підрозділи з питань соціального захисту населення призначають соціальну допомогу та грошове забезпечення за заявою батьків-вихователів і одного з прийомних батьків, до якої додаються:</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рішення районної</a:t>
            </a:r>
            <a:r>
              <a:rPr b="0" lang="en-US" sz="1400" spc="-1" strike="noStrike">
                <a:solidFill>
                  <a:srgbClr val="000000"/>
                </a:solidFill>
                <a:latin typeface="Georgia"/>
                <a:ea typeface="Times New Roman"/>
              </a:rPr>
              <a:t> </a:t>
            </a:r>
            <a:r>
              <a:rPr b="0" lang="uk-UA" sz="1400" spc="-1" strike="noStrike">
                <a:solidFill>
                  <a:srgbClr val="000000"/>
                </a:solidFill>
                <a:latin typeface="Georgia"/>
                <a:ea typeface="Times New Roman"/>
              </a:rPr>
              <a:t>держадміністрації, виконавчого органу міської ради про влаштування дитини до дитячого будинку сімейного типу або прийомної сім’ї;</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документи, що підтверджують статус дитини;</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інформація органу державної виконавчої служби про розмір аліментів;</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довідка з місця навчання про розмір стипендії;</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копія висновку медико-соціальної експертної комісії або медичного висновку лікарсько-консультативної комісії лікувально-профілактичного закладу про дитину з інвалідністю, що видані в установленому МОЗ порядку</a:t>
            </a:r>
            <a:r>
              <a:rPr b="0" lang="uk-UA" sz="1400" spc="-1" strike="noStrike">
                <a:solidFill>
                  <a:srgbClr val="000000"/>
                </a:solidFill>
                <a:latin typeface="Georgia"/>
              </a:rPr>
              <a:t>.</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Якщо батьки, місце  перебування яких відоме, не сплачують аліменти, уповноважений орган призначає соціальну допомогу та грошове забезпечення без урахування їх суми. При цьому протягом 10 днів після подання батьками-вихователями або одним з прийомних батьків заяви уповноважений орган повідомляє відповідну службу у справах дітей про неотримання аліментів.</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Якщо особа з числа дітей-сиріт та дітей, позбавлених батьківського піклування, віком від 18 до 23 років або до закінчення відповідного закладу освіти навчається за денною формою навчання у закладі професійної (професійно-технічної), фахової передвищої та вищої освіти, подаються довідки про розмір стипендії та про те, що вона не перебуває на повному державному утриманні. </a:t>
            </a:r>
            <a:r>
              <a:rPr b="0" lang="uk-UA" sz="1400" spc="-1" strike="noStrike">
                <a:solidFill>
                  <a:srgbClr val="000000"/>
                </a:solidFill>
                <a:latin typeface="Georgia"/>
              </a:rPr>
              <a:t>Призначення державної соціальної допомоги та грошового забезпечення здійснюється з дати влаштування дитини у дитячий будинок сімейного типу або прийомну сім’ю включно до дня досягнення дитиною 18-річного віку, а у разі навчання у закладі загальної середньої освіти, за денною формою навчання у закладі професійної (професійно-технічної), фахової передвищої та вищої освіти - до 23 років або до закінчення відповідного закладу освіти.</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rPr>
              <a:t>У разі проживання у період навчання дитини-вихованця або прийомної дитини окремо від сім'ї в іншій місцевості соціальна допомога призначається на загальних  підставах за умови подання довідки з місця навчання про те, що дитина не перебуває на повному державному утриманні.</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108000" y="479160"/>
            <a:ext cx="8856720" cy="657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Times New Roman"/>
              </a:rPr>
              <a:t>Розмір державної соціальної допомоги </a:t>
            </a:r>
            <a:r>
              <a:rPr b="0" lang="uk-UA" sz="1700" spc="-1" strike="noStrike">
                <a:solidFill>
                  <a:srgbClr val="000000"/>
                </a:solidFill>
                <a:latin typeface="Times New Roman"/>
                <a:ea typeface="Times New Roman"/>
              </a:rPr>
              <a:t>становить 2,5 прожиткових мінімуми для дітей відповідного віку, для дітей з інвалідністю – 3,5 прожиткового мінімуму для дітей відповідного віку. Для осіб з числа дітей-сиріт та дітей, позбавлених батьківського піклування, віком від 18 до 23 років, які навчаються у закладі загальної середньої освіти, за денною формою навчання у закладі професійної (професійно-технічної), фахової передвищої та вищої освіти, до закінчення відповідного закладу освіти розмір державної соціальної допомоги становить 2,5 прожиткових мінімуми для дітей відповідного віку, для дітей з інвалідністю – 3,5 прожиткового мінімуму для дітей відповідного віку.</a:t>
            </a:r>
            <a:r>
              <a:rPr b="0" lang="uk-UA" sz="1700" spc="-1" strike="noStrike">
                <a:solidFill>
                  <a:srgbClr val="000000"/>
                </a:solidFill>
                <a:latin typeface="Times New Roman"/>
                <a:ea typeface="Times New Roman"/>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У разі коли дитині виплачуються призначені в установленому порядку пенсія, аліменти, стипендія чи державна допомога, розмір державної соціальної допомоги визначається як різниця між встановленим для дитини розміром державної соціальної допомоги та розміром зазначених виплат за попередній повний місяць на дату влаштування дитини у дитячий будинок сімейного типу або прийомну сім’ю (крім державної соціальної допомоги особам з інвалідністю з дитинства та дітям з інвалідністю).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У разі зміни розміру пенсії, аліментів, стипендії чи державної допомоги батьки-вихователі або прийомні батьки протягом трьох робочих днів з дати отримання відповідної інформації зобов’язані повідомити про це уповноваженому органу для проведення відповідного перерахунку розміру раніше призначеної державної соціальної допомоги.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Times New Roman"/>
              </a:rPr>
              <a:t>Розмір грошового забезпечення </a:t>
            </a:r>
            <a:r>
              <a:rPr b="0" lang="uk-UA" sz="1700" spc="-1" strike="noStrike">
                <a:solidFill>
                  <a:srgbClr val="000000"/>
                </a:solidFill>
                <a:latin typeface="Times New Roman"/>
                <a:ea typeface="Times New Roman"/>
              </a:rPr>
              <a:t>встановлюється на рівні одного прожиткового мінімуму для працездатної особи на кожну дитину-вихованця та кожну прийомну дитину і не залежить від пенсії, аліментів, стипендії чи державної допомоги на кожну дитину-вихованця та на кожну прийомну дитину.</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Щомісячний сумарний обсяг грошового забезпечення батькам-вихователям розподіляється між батьками-вихователями рівними частинами за їх згодою.</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78920" y="980640"/>
            <a:ext cx="4243320" cy="647640"/>
          </a:xfrm>
          <a:prstGeom prst="rect">
            <a:avLst/>
          </a:prstGeom>
          <a:solidFill>
            <a:srgbClr val="328e97">
              <a:alpha val="25000"/>
            </a:srgbClr>
          </a:solidFill>
          <a:ln w="12600">
            <a:solidFill>
              <a:srgbClr val="438086"/>
            </a:solidFill>
            <a:miter/>
          </a:ln>
        </p:spPr>
        <p:txBody>
          <a:bodyPr anchor="ctr">
            <a:normAutofit/>
          </a:bodyPr>
          <a:p>
            <a:pPr marL="442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f3f3f"/>
                </a:solidFill>
                <a:latin typeface="Times New Roman"/>
                <a:ea typeface="Times New Roman"/>
              </a:rPr>
              <a:t>Максимальний розмір допомоги</a:t>
            </a:r>
            <a:endParaRPr b="0" lang="en-US" sz="2000" spc="-1" strike="noStrike">
              <a:solidFill>
                <a:srgbClr val="000000"/>
              </a:solidFill>
              <a:latin typeface="Georgia"/>
            </a:endParaRPr>
          </a:p>
        </p:txBody>
      </p:sp>
      <p:sp>
        <p:nvSpPr>
          <p:cNvPr id="219" name="PlaceHolder 2"/>
          <p:cNvSpPr>
            <a:spLocks noGrp="1"/>
          </p:cNvSpPr>
          <p:nvPr>
            <p:ph/>
          </p:nvPr>
        </p:nvSpPr>
        <p:spPr>
          <a:xfrm>
            <a:off x="4787640" y="980640"/>
            <a:ext cx="4041720" cy="647640"/>
          </a:xfrm>
          <a:prstGeom prst="rect">
            <a:avLst/>
          </a:prstGeom>
          <a:solidFill>
            <a:srgbClr val="328e97">
              <a:alpha val="25000"/>
            </a:srgbClr>
          </a:solidFill>
          <a:ln w="12600">
            <a:solidFill>
              <a:srgbClr val="438086"/>
            </a:solidFill>
            <a:miter/>
          </a:ln>
        </p:spPr>
        <p:txBody>
          <a:bodyPr anchor="ctr">
            <a:normAutofit/>
          </a:bodyPr>
          <a:p>
            <a:pPr marL="44280" indent="0" algn="ctr">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f3f3f"/>
                </a:solidFill>
                <a:latin typeface="Times New Roman"/>
                <a:ea typeface="Times New Roman"/>
              </a:rPr>
              <a:t>Розмір грошового забезпечення</a:t>
            </a:r>
            <a:endParaRPr b="0" lang="en-US" sz="2000" spc="-1" strike="noStrike">
              <a:solidFill>
                <a:srgbClr val="000000"/>
              </a:solidFill>
              <a:latin typeface="Georgia"/>
            </a:endParaRPr>
          </a:p>
        </p:txBody>
      </p:sp>
      <p:graphicFrame>
        <p:nvGraphicFramePr>
          <p:cNvPr id="220" name=""/>
          <p:cNvGraphicFramePr/>
          <p:nvPr/>
        </p:nvGraphicFramePr>
        <p:xfrm>
          <a:off x="179280" y="1773360"/>
          <a:ext cx="4321440" cy="4535280"/>
        </p:xfrm>
        <a:graphic>
          <a:graphicData uri="http://schemas.openxmlformats.org/drawingml/2006/table">
            <a:tbl>
              <a:tblPr/>
              <a:tblGrid>
                <a:gridCol w="1079640"/>
                <a:gridCol w="984240"/>
                <a:gridCol w="1128600"/>
                <a:gridCol w="1128960"/>
              </a:tblGrid>
              <a:tr h="8078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1.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7.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12.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9795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д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6 років</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5205,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5502,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568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955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з інвалідністю до 6 ро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735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7703,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7952,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836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від 6 до 18 ро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65d"/>
                          </a:solidFill>
                          <a:latin typeface="Times New Roman"/>
                          <a:ea typeface="Times New Roman"/>
                        </a:rPr>
                        <a:t>65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68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65d"/>
                          </a:solidFill>
                          <a:latin typeface="Times New Roman"/>
                          <a:ea typeface="Times New Roman"/>
                        </a:rPr>
                        <a:t>7082,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955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з інвалідністю від 6 до 18 років</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9163,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9604,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9915,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graphicFrame>
        <p:nvGraphicFramePr>
          <p:cNvPr id="221" name=""/>
          <p:cNvGraphicFramePr/>
          <p:nvPr/>
        </p:nvGraphicFramePr>
        <p:xfrm>
          <a:off x="4788000" y="1844640"/>
          <a:ext cx="4032000" cy="1513080"/>
        </p:xfrm>
        <a:graphic>
          <a:graphicData uri="http://schemas.openxmlformats.org/drawingml/2006/table">
            <a:tbl>
              <a:tblPr/>
              <a:tblGrid>
                <a:gridCol w="787320"/>
                <a:gridCol w="1012680"/>
                <a:gridCol w="954360"/>
                <a:gridCol w="1277640"/>
              </a:tblGrid>
              <a:tr h="906480">
                <a:tc>
                  <a:txBody>
                    <a:bodyPr lIns="68400" rIns="6840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1.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7.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12.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6066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 кожну дитину</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68400" rIns="6840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481,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68400" rIns="6840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60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68400" rIns="6840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684,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bl>
          </a:graphicData>
        </a:graphic>
      </p:graphicFrame>
      <p:pic>
        <p:nvPicPr>
          <p:cNvPr id="222" name="Picture 3" descr=""/>
          <p:cNvPicPr/>
          <p:nvPr/>
        </p:nvPicPr>
        <p:blipFill>
          <a:blip r:embed="rId1"/>
          <a:stretch/>
        </p:blipFill>
        <p:spPr>
          <a:xfrm>
            <a:off x="5334120" y="4840200"/>
            <a:ext cx="293832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08:29:11Z</dcterms:created>
  <dc:creator>XTreme</dc:creator>
  <dc:description/>
  <dc:language>en-US</dc:language>
  <cp:lastModifiedBy>92</cp:lastModifiedBy>
  <dcterms:modified xsi:type="dcterms:W3CDTF">2021-12-28T09:23:48Z</dcterms:modified>
  <cp:revision>34</cp:revision>
  <dc:subject/>
  <dc:title>Слайд 1</dc:title>
</cp:coreProperties>
</file>