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CE7-A39C-47F3-9978-80DB8CF4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5A2-7EE9-446A-BAB4-972E579D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EAA-E5FE-41F6-90D6-CE18E6C9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E85-BE32-4707-B816-375F4E8F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3020-9F8E-4BCB-B94F-DD4AB3A2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1137-B098-4B87-BD45-6392282A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E987-C1FD-4F0F-97F5-36862FE9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EBC9-2A83-4D9D-B7F2-062F9468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B32-7586-4D57-8CF0-C2923CBE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9DCD-B07B-4D15-96D9-0E056707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CFDF-D72C-468A-9764-49416C5D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DFD-2BB5-450D-845F-317E1129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AEC3-D1D2-4187-863A-A6565ED8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B537-E354-4721-A58B-E01BB2F0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4133-0156-4B0F-83B8-1143E8E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8976-9E86-4B77-9E43-8A8A3E1D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CBF7-C108-42EC-A67D-55F95D79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4C80-DE65-445B-901A-D92AD75A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9B11B-3A1E-4E39-839A-030C7EB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5B62-4B49-43B0-83E1-BCE4BF5E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1189-392C-4DB2-84AE-C7894A50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B1BD-2F15-4A5A-A8A9-88695BAD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71F-EE44-4BFA-AC7F-FAE2A41D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0AD4-6FFF-4228-9812-51A0960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932B-F943-4E58-A2EF-7E61757B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2D0B-57D8-490B-993C-2D3A804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19F5-9C1C-475A-8FD7-B79479D4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5CB7-9B2C-438B-B56B-73EB9141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4D84-7A5D-4C21-A2E5-6216D548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AA55-7233-477A-92F3-83B8D02D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7255-48FA-4EF3-8238-5FAE0BF6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9668-FFD5-49FE-9ACE-670943CB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E5BD-517D-4DB5-ADBA-CE349E29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C02-2B9D-4F14-B7DC-227AC28F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6F80-CF35-4C08-9221-99CEA92A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AB48-2C65-4FBE-BCE2-DCE342AE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7600A-B2E8-43F7-89B9-FBC36FE7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E182E-9229-4E20-8916-A384B9C0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2A90-1489-4C37-9526-00A22848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A31FE-0CA3-4A6D-AF81-86754171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E1FF-9883-4AFF-8723-3D551F20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48B7-9D25-417F-8DCD-B457A9A1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59EB-513B-4B0C-8F31-B83A37B4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C1B-7564-4120-AA5D-04EE9F9D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6AC-4BE5-4890-804C-44685524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7B7-3A11-4FA4-B3CF-8B54914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E9A-F7E4-403D-8376-BF4D96E7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19B-0D55-4236-AD22-323C324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2F68-332E-4E50-BC50-2C90E67CE0B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6950-6814-4FFF-A4BE-981190A8570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C7EA-0761-4485-899F-A581AAFECF3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CBDE-D090-4973-88F0-DF72DD8454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55600" y="1311120"/>
            <a:ext cx="85168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98760" y="-360"/>
            <a:ext cx="60595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Тимчасова допомог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5564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4617b"/>
                </a:solidFill>
                <a:latin typeface="Constantia"/>
              </a:rPr>
              <a:t>Тимчасова допомога призначається у разі, коли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-                                - рішення суду про стягнення аліментів з одного з батьків не виконується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                                    </a:t>
            </a: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у зв'язку з ухиленням від сплати аліментів або відсутністю у боржника коштів та іншого майна, на які за законом може бути звернено стягнення;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- стосовно одного з батьків здійснюється кримінальне провадження або він перебуває на примусовому лікуванні, у місцях позбавлення волі, якого визнано в установленому порядку недієздатним, а також перебуває на строковій військовій службі; </a:t>
            </a:r>
            <a:br>
              <a:rPr sz="1500"/>
            </a:b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- місце проживання (перебування) одного з батьків не встановлено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Допомога призначається дитині віком до 18 років кожні шість місяців починаючи з місяця, в якому подані усі необхідні документи. в розмірі у  розмірі, що дорівнює  різниці  між  50 відсотками  прожиткового  мінімуму для дитини  відповідного  віку  та  ередньомісячним  сукупним доходом сім’ї  в  розрахунку  на  одну  особу  за попередні шість місяців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4617b"/>
                </a:solidFill>
                <a:latin typeface="Constantia"/>
              </a:rPr>
              <a:t>Необхідні документи для призначення допомог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заяв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копія свідоцтва про народження дитини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декларація про доходи та майновий стан осіб, що звернулися за призначенням  усіх  видів  соціальної  допомоги  (заповнюється  на підставі  довідок  про  доходи  кожного  члена  сім’ї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Constantia"/>
              </a:rPr>
              <a:t>Залежно від  підстав, на яких призначається тимчасова допомога, додатково подаються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рішення суду (виконавчий лист) про стягнення з одного з батьків  аліментів на дитину; довідка державної виконавчої служби, що підтверджує факт несплати аліментів одним з батьків протягом шести  місяців,  що  передують  місяцю  зверненн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довідка відповідної установи про перебування одного з батьків під арештом, слідством, на примусовому лікуванні, у місцях позбавлення волі, визнання його в установленому порядку недієздатним, а також перебування на строковій військовій службі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повідомлення органу внутрішніх справ про те, що місце проживання (перебування) одного з батьків дитини не встановлено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-165240"/>
            <a:ext cx="250524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56000" y="7045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Розміри тимчасової 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421000"/>
          <a:ext cx="7533000" cy="2257200"/>
        </p:xfrm>
        <a:graphic>
          <a:graphicData uri="http://schemas.openxmlformats.org/drawingml/2006/table">
            <a:tbl>
              <a:tblPr/>
              <a:tblGrid>
                <a:gridCol w="1882800"/>
                <a:gridCol w="1884600"/>
                <a:gridCol w="1882800"/>
                <a:gridCol w="1882800"/>
              </a:tblGrid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ксимальний розмір допом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 01.01.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 01.07.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 01.12.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3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ля дітей до 6 р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00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ід 6 до 18 р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0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16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5440" y="0"/>
            <a:ext cx="2505240" cy="185256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309600" y="5084640"/>
            <a:ext cx="856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onstantia"/>
              </a:rPr>
              <a:t>Якщо розмір аліментів,  визначений судом у  твердій  грошовій сумі, менший від мінімального розміру аліментів на одну дитину, що передбачений частиною другою статті 182 Сімейного кодексу  України,   тимчасова  допомога призначається в розмірі різниці між визначеним  розміром   аліментів   і   сумою,   що   становить 30 відсотків  прожиткового  мінімуму,  встановленого  законом  для дитини відповідного ві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27280" y="17640"/>
            <a:ext cx="6130800" cy="96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Тимчасова допомог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4617b"/>
                </a:solidFill>
                <a:latin typeface="Constantia"/>
              </a:rPr>
              <a:t>Виплата тимчасової допомоги припиняється у разі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становлення місця проживання (перебування) особи, яка зобов’язана сплачувати аліменти за рішенням суду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иявлення обставин, що свідчать про можливість одного з батьків утримувати свою дитину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досягнення дитиною 18-річного віку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иконання в повному обсязі зобов’язань одного з батьків щодо сплати аліментів у разі виїзду на постійне місце проживання за кордон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лаштування дитини до відповідної установи (закладу) на повне державне утримання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скасування або визнання усиновлення недійсни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усиновлення дитини (чоловіком матері або дружиною батька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ідмови від стягнення аліменті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добровільного виконання рішення суду особою, зобов'язаною сплачувати аліменти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скасування в установленому законодавством порядку рішення суду щодо стягнення аліментів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смерті дитини, якій була призначена тимчасова допомога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смерті одного з батьків, зобов’язаного сплачувати аліменти, або визнання його в установленому порядку безвісти відсутнім чи оголошення померли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позбавлення в установленому порядку одного з батьків, який утримує дитину, батьківських пра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ідібрання дитини від одного з батьків, який утримує дитину, без позбавлення батьківських пра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становлення над дитиною опіки чи піклуванн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Про виникнення зазначених у цьому пункті обставин одержувач зобов’язаний повідомити у десятиденний строк орган соціального захисту населенн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25052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14:03:28Z</dcterms:created>
  <dc:creator>XTreme</dc:creator>
  <dc:description/>
  <dc:language>en-US</dc:language>
  <cp:lastModifiedBy>92</cp:lastModifiedBy>
  <dcterms:modified xsi:type="dcterms:W3CDTF">2022-02-04T13:28:07Z</dcterms:modified>
  <cp:revision>18</cp:revision>
  <dc:subject/>
  <dc:title>Слайд 1</dc:title>
</cp:coreProperties>
</file>