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DA7-4BC8-4E8E-89C7-24EA4C3A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D0A-C07A-42A9-9283-5DBDAC80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D59-5305-4F0D-9EF7-C979A838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FA3-E21C-4C11-84EE-82814C8B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2CCC-DA38-4186-A016-C7A66C8D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3D16-9162-41BF-AA30-CCD1C891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05BA-30DC-44C8-85E0-CBC4AE18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C7E7-2F84-4408-874D-7E660F0A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C320-5BCC-427F-AC64-AF91D47B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794E-4DC0-4634-B4AD-D5E391DE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9A8B-F955-4C82-A6A2-A19EC3F8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540-A460-449E-BDCB-60FF1363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C37F-090C-428E-B3FF-3EF2CD6E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785F-E6DD-4040-9BE7-EA90B409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3700-ED3F-48FD-9689-034F5A9C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D040-7670-40C9-9C57-F5CE1A21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492D-F16F-46FB-B6C5-192C9652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5F50-6577-4B2E-957F-5A34B33D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D4E26-5C80-4AD2-8914-9F8C5E1B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F207-944A-4F6B-A534-E0434DCE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B665D-C3F9-4753-893E-EBC18E0D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A664-1AA8-442C-A792-558F3D4A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8B4-BEFB-40C9-A1BD-24637B12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DB4E-39C5-45D4-8AC5-44907F2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2D431-2A30-4FDF-816A-A8490BD2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321A-1DF7-4930-A2F7-5441902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2019-9935-4E14-BE22-28A55308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14212-A783-4B9E-B51C-5F4016BD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4423-757F-46A9-8A92-73C9E556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1BB4-E39B-46CD-B850-81BF6238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05B03-7EEB-40F6-84B4-62AD8E86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21716-94EE-4344-91D1-B737E3E8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C26F-2F13-44C5-B987-8DB0726B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242-FAD6-4E1F-90E9-CA40F53F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70D2-6A78-4852-8047-292A70A0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8ECC-8840-41BC-8127-78A4EA02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F380-C538-4B8B-9244-45D937D1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2EE2-727E-4D61-8355-E8BC1D9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314F-5BF1-4234-BA42-3E021675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9E47-D823-44AC-9783-7D08F63E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B55B-0CB5-4C9C-9BBF-589671F7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006A-AC6C-4695-9E3F-5FE76001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F709-0319-42B4-A2D3-2360680C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2F3-03A0-4BA9-8909-8A21127D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311-0464-4333-BE60-3D7C3431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9A5-DF28-42D7-901D-6A2BC9B5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5FA-D042-4DA0-8ED2-05F19B25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BF1-3E91-4401-BCBE-C368AC1F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A851-874E-4E6B-9EFF-66116EC78F5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F095-EBC4-4284-AB47-3F6F45790CA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341F-E3AC-49E7-A882-2C385B655F1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785A-D8ED-4C0F-9B3C-B6EB6C9B1AE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55600" y="1311120"/>
            <a:ext cx="85168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98760" y="-360"/>
            <a:ext cx="605952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Тимчасова допомог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5564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4617b"/>
                </a:solidFill>
                <a:latin typeface="Constantia"/>
              </a:rPr>
              <a:t>Тимчасова допомога призначається у разі, коли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-                                - рішення суду про стягнення аліментів з одного з батьків не виконується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                                    </a:t>
            </a: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у зв'язку з ухиленням від сплати аліментів або відсутністю у боржника коштів та іншого майна, на які за законом може бути звернено стягнення;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- стосовно одного з батьків здійснюється кримінальне провадження або він перебуває на примусовому лікуванні, у місцях позбавлення волі, якого визнано в установленому порядку недієздатним, а також перебуває на строковій військовій службі; </a:t>
            </a:r>
            <a:br>
              <a:rPr sz="1500"/>
            </a:b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- місце проживання (перебування) одного з батьків не встановлено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onstantia"/>
              </a:rPr>
              <a:t>Допомога призначається дитині віком до 18 років кожні шість місяців починаючи з місяця, в якому подані усі необхідні документи. в розмірі у  розмірі, що дорівнює  різниці  між  50 відсотками  прожиткового  мінімуму для дитини  відповідного  віку  та  ередньомісячним  сукупним доходом сім’ї  в  розрахунку  на  одну  особу  за попередні шість місяців.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4617b"/>
                </a:solidFill>
                <a:latin typeface="Constantia"/>
              </a:rPr>
              <a:t>Необхідні документи для призначення допомог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заяв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копія свідоцтва про народження дитини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декларація про доходи та майновий стан осіб, що звернулися за призначенням  усіх  видів  соціальної  допомоги  (заповнюється  на підставі  довідок  про  доходи  кожного  члена  сім’ї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Constantia"/>
              </a:rPr>
              <a:t>Залежно від  підстав, на яких призначається тимчасова допомога, додатково подаються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рішення суду (виконавчий лист) про стягнення з одного з батьків  аліментів на дитину; довідка державної виконавчої служби, що підтверджує факт несплати аліментів одним з батьків протягом шести  місяців,  що  передують  місяцю  зверненн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довідка відповідної установи про перебування одного з батьків під арештом, слідством, на примусовому лікуванні, у місцях позбавлення волі, визнання його в установленому порядку недієздатним, а також перебування на строковій військовій службі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4617b"/>
                </a:solidFill>
                <a:latin typeface="Constantia"/>
              </a:rPr>
              <a:t>повідомлення органу внутрішніх справ про те, що місце проживання (перебування) одного з батьків дитини не встановлено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-165240"/>
            <a:ext cx="250524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56000" y="7045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Розміри тимчасової  допомог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421000"/>
          <a:ext cx="7533000" cy="2257200"/>
        </p:xfrm>
        <a:graphic>
          <a:graphicData uri="http://schemas.openxmlformats.org/drawingml/2006/table">
            <a:tbl>
              <a:tblPr/>
              <a:tblGrid>
                <a:gridCol w="1882800"/>
                <a:gridCol w="1884600"/>
                <a:gridCol w="1882800"/>
                <a:gridCol w="1882800"/>
              </a:tblGrid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ксимальний розмір допом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 01.01.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 01.07.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 01.12.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3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ля дітей до 6 р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00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6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ід 6 до 18 р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09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16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5440" y="0"/>
            <a:ext cx="2505240" cy="185256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309600" y="5084640"/>
            <a:ext cx="856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onstantia"/>
              </a:rPr>
              <a:t>Якщо розмір аліментів,  визначений судом у  твердій  грошовій сумі, менший від мінімального розміру аліментів на одну дитину, що передбачений частиною другою статті 182 Сімейного кодексу  України,   тимчасова  допомога призначається в розмірі різниці між визначеним  розміром   аліментів   і   сумою,   що   становить 30 відсотків  прожиткового  мінімуму,  встановленого  законом  для дитини відповідного ві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27280" y="17640"/>
            <a:ext cx="6130800" cy="96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Тимчасова допомог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4617b"/>
                </a:solidFill>
                <a:latin typeface="Constantia"/>
              </a:rPr>
              <a:t>Виплата тимчасової допомоги припиняється у разі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становлення місця проживання (перебування) особи, яка зобов’язана сплачувати аліменти за рішенням суду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иявлення обставин, що свідчать про можливість одного з батьків утримувати свою дитину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досягнення дитиною 18-річного віку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иконання в повному обсязі зобов’язань одного з батьків щодо сплати аліментів у разі виїзду на постійне місце проживання за кордон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лаштування дитини до відповідної установи (закладу) на повне державне утримання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скасування або визнання усиновлення недійсни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усиновлення дитини (чоловіком матері або дружиною батька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ідмови від стягнення аліменті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добровільного виконання рішення суду особою, зобов'язаною сплачувати аліменти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скасування в установленому законодавством порядку рішення суду щодо стягнення аліментів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смерті дитини, якій була призначена тимчасова допомога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смерті одного з батьків, зобов’язаного сплачувати аліменти, або визнання його в установленому порядку безвісти відсутнім чи оголошення померли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позбавлення в установленому порядку одного з батьків, який утримує дитину, батьківських пра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ідібрання дитини від одного з батьків, який утримує дитину, без позбавлення батьківських пра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встановлення над дитиною опіки чи піклуванн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uk-UA" sz="1400" spc="-1" strike="noStrike">
                <a:solidFill>
                  <a:srgbClr val="04617b"/>
                </a:solidFill>
                <a:latin typeface="Constantia"/>
              </a:rPr>
              <a:t>Про виникнення зазначених у цьому пункті обставин одержувач зобов’язаний повідомити у десятиденний строк орган соціального захисту населенн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25052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14:03:28Z</dcterms:created>
  <dc:creator>XTreme</dc:creator>
  <dc:description/>
  <dc:language>en-US</dc:language>
  <cp:lastModifiedBy>92</cp:lastModifiedBy>
  <dcterms:modified xsi:type="dcterms:W3CDTF">2022-02-04T13:28:07Z</dcterms:modified>
  <cp:revision>18</cp:revision>
  <dc:subject/>
  <dc:title>Слайд 1</dc:title>
</cp:coreProperties>
</file>