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6EDC-A487-47D6-9BF8-64E7386AD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9419-7E7C-4ABB-8EF3-720A01691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60A5-3386-4840-942F-43EC4C2A7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BA39-53BB-44F9-BDBA-58716EB0F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236FB8-565A-4D82-BBF5-EDD28D96C8D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87EB4A-0136-4F99-BD92-318CB7457EA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209772-D8D5-4591-BE47-8B59750ED8A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DCE395-E268-4B29-A1BB-E5F35B5D48A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0662B1-5B5C-40B4-A18A-A0337E8CBD7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AB0354-AD84-4A69-9B41-C861317BA30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2C48BB-BC4D-42FB-88F1-B82AEDCCAC2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6610-66FB-411E-80BC-0CACDAA8E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348BD3-6700-41DD-B562-F3AED559F19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2833F5-CF9E-4DA2-8C7D-361B075E961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35AC71-D624-4607-A5C2-B9BDEB399B4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C5654E-36F2-4B69-B36F-43BB05A7088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AF2D47-CDAD-4E63-82EC-F48B35A5ED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E874-CE39-4288-8079-9CA968CDE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78D1-3306-4CED-B4EB-A8CB62FB6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4B94-6E8D-4784-9050-20EDB335E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2CB9-5E22-44FF-90EC-5872D7AF9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819A-7506-4275-97F8-FE39D3614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7FAD-8D81-47AF-BBE7-ED8E77793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C6E6-0FF1-45FA-AD62-5C9D4A1E9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AFBCA-50BA-4292-8249-52CBE8D6ADE0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4497120" y="6341760"/>
            <a:ext cx="152280" cy="22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F03EF-4F20-497D-B709-CC380FB1C2E3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Прямокутник 6"/>
          <p:cNvSpPr/>
          <p:nvPr/>
        </p:nvSpPr>
        <p:spPr>
          <a:xfrm>
            <a:off x="611280" y="1125360"/>
            <a:ext cx="7921440" cy="46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Прямокутник 5"/>
          <p:cNvSpPr/>
          <p:nvPr/>
        </p:nvSpPr>
        <p:spPr>
          <a:xfrm>
            <a:off x="684360" y="1628640"/>
            <a:ext cx="7920000" cy="44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1f497d"/>
                </a:solidFill>
                <a:latin typeface="e-Ukraine Head Light"/>
              </a:rPr>
              <a:t>Фізичні особи-підприємці, в тому числі платники Єдиного податку ІІ-І</a:t>
            </a:r>
            <a:r>
              <a:rPr b="1" lang="en-US" sz="1800" spc="-1" strike="noStrike">
                <a:solidFill>
                  <a:srgbClr val="1f497d"/>
                </a:solidFill>
                <a:latin typeface="e-Ukraine Head Light"/>
              </a:rPr>
              <a:t>V </a:t>
            </a:r>
            <a:r>
              <a:rPr b="1" lang="ru-RU" sz="1800" spc="-1" strike="noStrike">
                <a:solidFill>
                  <a:srgbClr val="1f497d"/>
                </a:solidFill>
                <a:latin typeface="e-Ukraine Head Light"/>
              </a:rPr>
              <a:t>групи, зобов’язані застосовувати РРО/ПРРО у випадку здійснення «розрахункових операцій» у розумінні Закону «Про застосування реєстраторів розрахункових операцій у сфері торгівлі, громадського харчування та послуг» від 06.07.1995 № 265/95-ВР.</a:t>
            </a:r>
            <a:r>
              <a:rPr b="1" lang="ru-RU" sz="1800" spc="-1" strike="noStrike">
                <a:solidFill>
                  <a:srgbClr val="254061"/>
                </a:solidFill>
                <a:latin typeface="e-Ukraine Head Ligh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50"/>
                </a:solidFill>
                <a:latin typeface="e-Ukraine Head Light"/>
              </a:rPr>
              <a:t>Розрахункова операція це приймання від покупця готівкових коштів, платіжних карток, платіжних чеків, жетонів тощо за місцем реалізації товарів (послуг), видача готівкових коштів за повернутий покупцем товар (ненадану послугу), а у разі застосування банківської платіжної картки - оформлення відповідного розрахункового документа щодо оплати в безготівковій формі товару (послуги) банком покупця або, у разі повернення товару (відмови від послуги), оформлення розрахункових документів щодо перерахування коштів у банк покупця.</a:t>
            </a:r>
            <a:r>
              <a:rPr b="1" lang="ru-RU" sz="1600" spc="-1" strike="noStrike">
                <a:solidFill>
                  <a:srgbClr val="254061"/>
                </a:solidFill>
                <a:latin typeface="e-Ukraine Head Light"/>
              </a:rPr>
              <a:t> </a:t>
            </a:r>
            <a:r>
              <a:rPr b="1" lang="ru-RU" sz="2000" spc="-1" strike="noStrike">
                <a:solidFill>
                  <a:srgbClr val="254061"/>
                </a:solidFill>
                <a:latin typeface="e-Ukraine Head Light"/>
              </a:rPr>
              <a:t> </a:t>
            </a:r>
            <a:r>
              <a:rPr b="1" lang="ru-RU" sz="2000" spc="-1" strike="noStrike">
                <a:solidFill>
                  <a:srgbClr val="254061"/>
                </a:solidFill>
                <a:latin typeface="Open Sans Bold"/>
              </a:rPr>
              <a:t> </a:t>
            </a:r>
            <a:r>
              <a:rPr b="1" lang="uk-UA" sz="2000" spc="-1" strike="noStrike">
                <a:solidFill>
                  <a:srgbClr val="254061"/>
                </a:solidFill>
                <a:latin typeface="Open Sans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Image" descr="Image"/>
          <p:cNvPicPr/>
          <p:nvPr/>
        </p:nvPicPr>
        <p:blipFill>
          <a:blip r:embed="rId1"/>
          <a:stretch/>
        </p:blipFill>
        <p:spPr>
          <a:xfrm>
            <a:off x="539640" y="260280"/>
            <a:ext cx="3456000" cy="1008000"/>
          </a:xfrm>
          <a:prstGeom prst="rect">
            <a:avLst/>
          </a:prstGeom>
          <a:ln w="0">
            <a:noFill/>
          </a:ln>
        </p:spPr>
      </p:pic>
      <p:pic>
        <p:nvPicPr>
          <p:cNvPr id="83" name="Заголовок 1" descr=""/>
          <p:cNvPicPr/>
          <p:nvPr/>
        </p:nvPicPr>
        <p:blipFill>
          <a:blip r:embed="rId2"/>
          <a:stretch/>
        </p:blipFill>
        <p:spPr>
          <a:xfrm>
            <a:off x="4479840" y="231840"/>
            <a:ext cx="426240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а сполучна лінія 11"/>
          <p:cNvSpPr/>
          <p:nvPr/>
        </p:nvSpPr>
        <p:spPr>
          <a:xfrm flipH="1">
            <a:off x="5293800" y="2087640"/>
            <a:ext cx="868680" cy="159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Заголовок 1"/>
          <p:cNvSpPr/>
          <p:nvPr/>
        </p:nvSpPr>
        <p:spPr>
          <a:xfrm>
            <a:off x="395280" y="4989600"/>
            <a:ext cx="4824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Заголовок 1"/>
          <p:cNvSpPr/>
          <p:nvPr/>
        </p:nvSpPr>
        <p:spPr>
          <a:xfrm>
            <a:off x="646200" y="3300480"/>
            <a:ext cx="7958160" cy="30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b050"/>
                </a:solidFill>
                <a:latin typeface="e-Ukraine Light"/>
              </a:rPr>
              <a:t>діяльність на загальній системі оподаткування;</a:t>
            </a:r>
            <a:r>
              <a:rPr b="1" lang="uk-UA" sz="1600" spc="-1" strike="noStrike">
                <a:solidFill>
                  <a:srgbClr val="1f497d"/>
                </a:solidFill>
                <a:latin typeface="e-Ukraine Ligh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1f497d"/>
                </a:solidFill>
                <a:latin typeface="e-Ukraine Light"/>
              </a:rPr>
              <a:t>діяльність з використанням ІІІ групи Єдиного податку та зареєстровані платниками ПДВ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b050"/>
                </a:solidFill>
                <a:latin typeface="e-Ukraine Light"/>
              </a:rPr>
              <a:t>Також, серед платників ІІ-І</a:t>
            </a:r>
            <a:r>
              <a:rPr b="1" lang="arn-CL" sz="1600" spc="-1" strike="noStrike">
                <a:solidFill>
                  <a:srgbClr val="00b050"/>
                </a:solidFill>
                <a:latin typeface="e-Ukraine Light"/>
              </a:rPr>
              <a:t>V </a:t>
            </a:r>
            <a:r>
              <a:rPr b="1" lang="uk-UA" sz="1600" spc="-1" strike="noStrike">
                <a:solidFill>
                  <a:srgbClr val="00b050"/>
                </a:solidFill>
                <a:latin typeface="e-Ukraine Light"/>
              </a:rPr>
              <a:t>групи Єдиного податку, Порядок № 496 поширює свою дію на тих, які здійснюють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1f497d"/>
                </a:solidFill>
                <a:latin typeface="e-Ukraine Light"/>
              </a:rPr>
              <a:t>реалізацію технічно-складних побутових товарів, що підлягають гарантійному ремонту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b050"/>
                </a:solidFill>
                <a:latin typeface="e-Ukraine Light"/>
              </a:rPr>
              <a:t>реалізацію лікарських засобів, виробів медичного призначення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1f497d"/>
                </a:solidFill>
                <a:latin typeface="e-Ukraine Light"/>
              </a:rPr>
              <a:t>реалізацію ювелірних та побутових виробів з дорогоцінних металів, дорогоцінного каміння, дорогоцінного каміння органогенного утворення та напівдорогоцінного каміння.</a:t>
            </a:r>
            <a:r>
              <a:rPr b="1" lang="uk-UA" sz="1600" spc="-1" strike="noStrike">
                <a:solidFill>
                  <a:srgbClr val="00b050"/>
                </a:solidFill>
                <a:latin typeface="e-Ukraine Ligh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1859c"/>
                </a:solidFill>
                <a:latin typeface="Open Sans Bold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Заголовок 1" descr=""/>
          <p:cNvPicPr/>
          <p:nvPr/>
        </p:nvPicPr>
        <p:blipFill>
          <a:blip r:embed="rId1"/>
          <a:stretch/>
        </p:blipFill>
        <p:spPr>
          <a:xfrm>
            <a:off x="4280040" y="96840"/>
            <a:ext cx="4327560" cy="927000"/>
          </a:xfrm>
          <a:prstGeom prst="rect">
            <a:avLst/>
          </a:prstGeom>
          <a:ln w="0">
            <a:noFill/>
          </a:ln>
        </p:spPr>
      </p:pic>
      <p:pic>
        <p:nvPicPr>
          <p:cNvPr id="88" name="Image" descr="Image"/>
          <p:cNvPicPr/>
          <p:nvPr/>
        </p:nvPicPr>
        <p:blipFill>
          <a:blip r:embed="rId2"/>
          <a:stretch/>
        </p:blipFill>
        <p:spPr>
          <a:xfrm>
            <a:off x="396720" y="93600"/>
            <a:ext cx="3456000" cy="100800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кутник 1"/>
          <p:cNvSpPr/>
          <p:nvPr/>
        </p:nvSpPr>
        <p:spPr>
          <a:xfrm>
            <a:off x="646200" y="1268280"/>
            <a:ext cx="792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1f497d"/>
                </a:solidFill>
                <a:latin typeface="e-Ukraine Head Thin"/>
              </a:rPr>
              <a:t>Обов’язок вести облік товарних запасів, відповідно до Порядку ведення обліку товарних запасів для фізичних осіб – підприємців, у тому числі платників єдиного податку, затвердженого наказом Міністерства фінансів України від 03.09.2021 № 496, поширюється на платників податків, фізичних осіб-підприємців, які здійснюють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Заголовок 1"/>
          <p:cNvSpPr/>
          <p:nvPr/>
        </p:nvSpPr>
        <p:spPr>
          <a:xfrm>
            <a:off x="566640" y="1989000"/>
            <a:ext cx="8137800" cy="37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76092"/>
                </a:solidFill>
                <a:latin typeface="e-Ukraine Head Thin"/>
              </a:rPr>
              <a:t>Платники І групи Єдиного податку з 01.01.2022 не зобов’язані реєструвати та застосовувати РРО/ПРРО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b050"/>
                </a:solidFill>
                <a:latin typeface="e-Ukraine Head Thin"/>
              </a:rPr>
              <a:t>Уряд України та органи виконавчої влади не планують запровадження РРО/ПРРО для платників І групи Єдиного податку з 01.01.2022 року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76092"/>
                </a:solidFill>
                <a:latin typeface="e-Ukraine Head Thin"/>
              </a:rPr>
              <a:t>Ведення обліку товарних запасів або якогось іншого додаткового обліку з 01.01.2022 року для платників Єдиного податку І групи не передбачається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Заголовок 1"/>
          <p:cNvSpPr/>
          <p:nvPr/>
        </p:nvSpPr>
        <p:spPr>
          <a:xfrm>
            <a:off x="4664160" y="2241720"/>
            <a:ext cx="4238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Заголовок 1"/>
          <p:cNvSpPr/>
          <p:nvPr/>
        </p:nvSpPr>
        <p:spPr>
          <a:xfrm>
            <a:off x="225360" y="2241720"/>
            <a:ext cx="414972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Заголовок 1" descr=""/>
          <p:cNvPicPr/>
          <p:nvPr/>
        </p:nvPicPr>
        <p:blipFill>
          <a:blip r:embed="rId1"/>
          <a:stretch/>
        </p:blipFill>
        <p:spPr>
          <a:xfrm>
            <a:off x="4479840" y="353880"/>
            <a:ext cx="4262400" cy="1067040"/>
          </a:xfrm>
          <a:prstGeom prst="rect">
            <a:avLst/>
          </a:prstGeom>
          <a:ln w="0">
            <a:noFill/>
          </a:ln>
        </p:spPr>
      </p:pic>
      <p:pic>
        <p:nvPicPr>
          <p:cNvPr id="94" name="Image" descr="Image"/>
          <p:cNvPicPr/>
          <p:nvPr/>
        </p:nvPicPr>
        <p:blipFill>
          <a:blip r:embed="rId2"/>
          <a:stretch/>
        </p:blipFill>
        <p:spPr>
          <a:xfrm>
            <a:off x="539640" y="260280"/>
            <a:ext cx="345600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кутник 17"/>
          <p:cNvSpPr/>
          <p:nvPr/>
        </p:nvSpPr>
        <p:spPr>
          <a:xfrm>
            <a:off x="5940360" y="464328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рямокутник 19"/>
          <p:cNvSpPr/>
          <p:nvPr/>
        </p:nvSpPr>
        <p:spPr>
          <a:xfrm>
            <a:off x="5796000" y="4605480"/>
            <a:ext cx="288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Заголовок 1" descr=""/>
          <p:cNvPicPr/>
          <p:nvPr/>
        </p:nvPicPr>
        <p:blipFill>
          <a:blip r:embed="rId1"/>
          <a:stretch/>
        </p:blipFill>
        <p:spPr>
          <a:xfrm>
            <a:off x="4206960" y="182520"/>
            <a:ext cx="4595760" cy="10731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"/>
          <p:cNvPicPr/>
          <p:nvPr/>
        </p:nvPicPr>
        <p:blipFill>
          <a:blip r:embed="rId2"/>
          <a:stretch/>
        </p:blipFill>
        <p:spPr>
          <a:xfrm>
            <a:off x="446040" y="244440"/>
            <a:ext cx="3765600" cy="1006560"/>
          </a:xfrm>
          <a:prstGeom prst="rect">
            <a:avLst/>
          </a:prstGeom>
          <a:ln w="0">
            <a:noFill/>
          </a:ln>
        </p:spPr>
      </p:pic>
      <p:sp>
        <p:nvSpPr>
          <p:cNvPr id="99" name="Заголовок 1"/>
          <p:cNvSpPr/>
          <p:nvPr/>
        </p:nvSpPr>
        <p:spPr>
          <a:xfrm>
            <a:off x="554040" y="1700280"/>
            <a:ext cx="813744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1f497d"/>
                </a:solidFill>
                <a:latin typeface="e-Ukraine Head Light"/>
              </a:rPr>
              <a:t>Платники Єдиного податку ІІ-ІV групи, які </a:t>
            </a:r>
            <a:r>
              <a:rPr b="1" lang="uk-UA" sz="2200" spc="-1" strike="noStrike">
                <a:solidFill>
                  <a:srgbClr val="00b050"/>
                </a:solidFill>
                <a:latin typeface="e-Ukraine Head Light"/>
              </a:rPr>
              <a:t>не зареєстровані платниками ПДВ та не здійснюють реалізацію</a:t>
            </a:r>
            <a:r>
              <a:rPr b="1" lang="uk-UA" sz="2200" spc="-1" strike="noStrike">
                <a:solidFill>
                  <a:srgbClr val="1f497d"/>
                </a:solidFill>
                <a:latin typeface="e-Ukraine Head Light"/>
              </a:rPr>
              <a:t> технічно-складних побутових товарів, що підлягають гарантійному ремонту, реалізацію лікарських засобів, виробів медичного призначення, реалізацію ювелірних та побутових виробів з дорогоцінних металів, дорогоцінного каміння, дорогоцінного каміння органогенного утворення та напівдорогоцінного каміння, </a:t>
            </a:r>
            <a:r>
              <a:rPr b="1" lang="uk-UA" sz="2200" spc="-1" strike="noStrike">
                <a:solidFill>
                  <a:srgbClr val="00b050"/>
                </a:solidFill>
                <a:latin typeface="e-Ukraine Head Light"/>
              </a:rPr>
              <a:t>облік товарних запасів не ведуть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1-17T06:45:24Z</dcterms:created>
  <dc:creator>ДВІРКО ОЛЕКСАНДР МИКОЛАЙОВИЧ</dc:creator>
  <dc:description/>
  <dc:language>en-US</dc:language>
  <cp:lastModifiedBy>NChaika</cp:lastModifiedBy>
  <cp:lastPrinted>2021-12-16T13:01:00Z</cp:lastPrinted>
  <dcterms:modified xsi:type="dcterms:W3CDTF">2021-12-25T13:06:52Z</dcterms:modified>
  <cp:revision>185</cp:revision>
  <dc:subject/>
  <dc:title>Порядок проведення розрахунку з покупцями товарів  в інтернет-магазині з доставкою кур’єром продавця</dc:title>
</cp:coreProperties>
</file>