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B2A-D751-41C8-B695-9B634015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A4F5-CDB5-4233-850F-BB41B73B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A7F-1319-472B-A6F6-A65218D5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53C-C2D4-4C3C-8FC6-0A05BECC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36E3B-A903-474E-AF2D-9E5F59E3C9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5F838-01CF-4055-8CD7-7E73C8484F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27514-DC9E-4FDE-8A97-DBE78BE697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261FF-3513-4981-B75E-F80BCFA22B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5025A-06F8-4D35-BC49-62BBE3068B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00950-247E-4727-9915-D24535F376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8E978-36C3-44C8-9CC2-4935F7EEC3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D27-9CF3-41C4-9988-FA94F288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1E6D8-4E69-442A-9B21-A830FE320A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7F23D-6A61-4ADB-A199-7419F3407A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46F1E-F6CD-40DB-80F9-2AC296DC3B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8F962-783C-4583-8E10-0782B5B9AF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10F10-2BD0-42BA-834F-53132F2B01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EEB-165C-467F-868D-67584CF5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9BDF-8ECF-4128-A094-2CFB6709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000-F4E6-4DBB-B675-9F82A76C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46F-C4D7-4CF1-B1B4-2DAC02DB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FD9-E816-4FA1-82E7-D5B27122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541-0CB2-4251-9B9F-F3932283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B46-D19E-4ECF-9017-2BFF956B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0DDF-38CA-4666-BB6F-CCB26E85B7AF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4497120" y="6341760"/>
            <a:ext cx="15228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2F08-DD6A-49C4-BD43-730E3F241884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кутник 6"/>
          <p:cNvSpPr/>
          <p:nvPr/>
        </p:nvSpPr>
        <p:spPr>
          <a:xfrm>
            <a:off x="611280" y="1125360"/>
            <a:ext cx="7921440" cy="46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кутник 5"/>
          <p:cNvSpPr/>
          <p:nvPr/>
        </p:nvSpPr>
        <p:spPr>
          <a:xfrm>
            <a:off x="684360" y="1628640"/>
            <a:ext cx="792000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f497d"/>
                </a:solidFill>
                <a:latin typeface="e-Ukraine Head Light"/>
              </a:rPr>
              <a:t>Фізичні особи-підприємці, в тому числі платники Єдиного податку ІІ-І</a:t>
            </a:r>
            <a:r>
              <a:rPr b="1" lang="en-US" sz="1800" spc="-1" strike="noStrike">
                <a:solidFill>
                  <a:srgbClr val="1f497d"/>
                </a:solidFill>
                <a:latin typeface="e-Ukraine Head Light"/>
              </a:rPr>
              <a:t>V </a:t>
            </a:r>
            <a:r>
              <a:rPr b="1" lang="ru-RU" sz="1800" spc="-1" strike="noStrike">
                <a:solidFill>
                  <a:srgbClr val="1f497d"/>
                </a:solidFill>
                <a:latin typeface="e-Ukraine Head Light"/>
              </a:rPr>
              <a:t>групи, зобов’язані застосовувати РРО/ПРРО у випадку здійснення «розрахункових операцій» у розумінні Закону «Про застосування реєстраторів розрахункових операцій у сфері торгівлі, громадського харчування та послуг» від 06.07.1995 № 265/95-ВР.</a:t>
            </a:r>
            <a:r>
              <a:rPr b="1" lang="ru-RU" sz="1800" spc="-1" strike="noStrike">
                <a:solidFill>
                  <a:srgbClr val="254061"/>
                </a:solidFill>
                <a:latin typeface="e-Ukraine Head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e-Ukraine Head Light"/>
              </a:rPr>
              <a:t>Розрахункова операція це приймання від покупця готівкових коштів, платіжних карток, платіжних чеків, жетонів тощо за місцем реалізації товарів (послуг), видача готівкових коштів за повернутий покупцем товар (ненадану послугу), а у разі застосування банківської платіжної картки - оформлення відповідного розрахункового документа щодо оплати в безготівковій формі товару (послуги) банком покупця або, у разі повернення товару (відмови від послуги), оформлення розрахункових документів щодо перерахування коштів у банк покупця.</a:t>
            </a:r>
            <a:r>
              <a:rPr b="1" lang="ru-RU" sz="1600" spc="-1" strike="noStrike">
                <a:solidFill>
                  <a:srgbClr val="254061"/>
                </a:solidFill>
                <a:latin typeface="e-Ukraine Head Light"/>
              </a:rPr>
              <a:t> </a:t>
            </a:r>
            <a:r>
              <a:rPr b="1" lang="ru-RU" sz="2000" spc="-1" strike="noStrike">
                <a:solidFill>
                  <a:srgbClr val="254061"/>
                </a:solidFill>
                <a:latin typeface="e-Ukraine Head Light"/>
              </a:rPr>
              <a:t> </a:t>
            </a:r>
            <a:r>
              <a:rPr b="1" lang="ru-RU" sz="2000" spc="-1" strike="noStrike">
                <a:solidFill>
                  <a:srgbClr val="254061"/>
                </a:solidFill>
                <a:latin typeface="Open Sans Bold"/>
              </a:rPr>
              <a:t> </a:t>
            </a:r>
            <a:r>
              <a:rPr b="1" lang="uk-UA" sz="2000" spc="-1" strike="noStrike">
                <a:solidFill>
                  <a:srgbClr val="254061"/>
                </a:solidFill>
                <a:latin typeface="Open Sans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" descr="Image"/>
          <p:cNvPicPr/>
          <p:nvPr/>
        </p:nvPicPr>
        <p:blipFill>
          <a:blip r:embed="rId1"/>
          <a:stretch/>
        </p:blipFill>
        <p:spPr>
          <a:xfrm>
            <a:off x="539640" y="260280"/>
            <a:ext cx="3456000" cy="100800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479840" y="231840"/>
            <a:ext cx="4262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а сполучна лінія 11"/>
          <p:cNvSpPr/>
          <p:nvPr/>
        </p:nvSpPr>
        <p:spPr>
          <a:xfrm flipH="1">
            <a:off x="5293800" y="2087640"/>
            <a:ext cx="868680" cy="159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395280" y="4989600"/>
            <a:ext cx="48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646200" y="3300480"/>
            <a:ext cx="795816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b050"/>
                </a:solidFill>
                <a:latin typeface="e-Ukraine Light"/>
              </a:rPr>
              <a:t>діяльність на загальній системі оподаткування;</a:t>
            </a:r>
            <a:r>
              <a:rPr b="1" lang="uk-UA" sz="1600" spc="-1" strike="noStrike">
                <a:solidFill>
                  <a:srgbClr val="1f497d"/>
                </a:solidFill>
                <a:latin typeface="e-Ukraine 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97d"/>
                </a:solidFill>
                <a:latin typeface="e-Ukraine Light"/>
              </a:rPr>
              <a:t>діяльність з використанням ІІІ групи Єдиного податку та зареєстровані платниками ПДВ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b050"/>
                </a:solidFill>
                <a:latin typeface="e-Ukraine Light"/>
              </a:rPr>
              <a:t>Також, серед платників ІІ-І</a:t>
            </a:r>
            <a:r>
              <a:rPr b="1" lang="arn-CL" sz="1600" spc="-1" strike="noStrike">
                <a:solidFill>
                  <a:srgbClr val="00b050"/>
                </a:solidFill>
                <a:latin typeface="e-Ukraine Light"/>
              </a:rPr>
              <a:t>V </a:t>
            </a:r>
            <a:r>
              <a:rPr b="1" lang="uk-UA" sz="1600" spc="-1" strike="noStrike">
                <a:solidFill>
                  <a:srgbClr val="00b050"/>
                </a:solidFill>
                <a:latin typeface="e-Ukraine Light"/>
              </a:rPr>
              <a:t>групи Єдиного податку, Порядок № 496 поширює свою дію на тих, які здійснюють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97d"/>
                </a:solidFill>
                <a:latin typeface="e-Ukraine Light"/>
              </a:rPr>
              <a:t>реалізацію технічно-складних побутових товарів, що підлягають гарантійному ремонту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b050"/>
                </a:solidFill>
                <a:latin typeface="e-Ukraine Light"/>
              </a:rPr>
              <a:t>реалізацію лікарських засобів, виробів медичного призначення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1f497d"/>
                </a:solidFill>
                <a:latin typeface="e-Ukraine Light"/>
              </a:rPr>
              <a:t>реалізацію ювелірних та побутових виробів з дорогоцінних металів, дорогоцінного каміння, дорогоцінного каміння органогенного утворення та напівдорогоцінного каміння.</a:t>
            </a:r>
            <a:r>
              <a:rPr b="1" lang="uk-UA" sz="1600" spc="-1" strike="noStrike">
                <a:solidFill>
                  <a:srgbClr val="00b050"/>
                </a:solidFill>
                <a:latin typeface="e-Ukraine 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1859c"/>
                </a:solidFill>
                <a:latin typeface="Open Sans Bold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280040" y="96840"/>
            <a:ext cx="4327560" cy="927000"/>
          </a:xfrm>
          <a:prstGeom prst="rect">
            <a:avLst/>
          </a:prstGeom>
          <a:ln w="0">
            <a:noFill/>
          </a:ln>
        </p:spPr>
      </p:pic>
      <p:pic>
        <p:nvPicPr>
          <p:cNvPr id="88" name="Image" descr="Image"/>
          <p:cNvPicPr/>
          <p:nvPr/>
        </p:nvPicPr>
        <p:blipFill>
          <a:blip r:embed="rId2"/>
          <a:stretch/>
        </p:blipFill>
        <p:spPr>
          <a:xfrm>
            <a:off x="396720" y="93600"/>
            <a:ext cx="3456000" cy="100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кутник 1"/>
          <p:cNvSpPr/>
          <p:nvPr/>
        </p:nvSpPr>
        <p:spPr>
          <a:xfrm>
            <a:off x="646200" y="126828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f497d"/>
                </a:solidFill>
                <a:latin typeface="e-Ukraine Head Thin"/>
              </a:rPr>
              <a:t>Обов’язок вести облік товарних запасів, відповідно до Порядку ведення обліку товарних запасів для фізичних осіб – підприємців, у тому числі платників єдиного податку, затвердженого наказом Міністерства фінансів України від 03.09.2021 № 496, поширюється на платників податків, фізичних осіб-підприємців, які здійснюю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1"/>
          <p:cNvSpPr/>
          <p:nvPr/>
        </p:nvSpPr>
        <p:spPr>
          <a:xfrm>
            <a:off x="566640" y="1989000"/>
            <a:ext cx="81378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76092"/>
                </a:solidFill>
                <a:latin typeface="e-Ukraine Head Thin"/>
              </a:rPr>
              <a:t>Платники І групи Єдиного податку з 01.01.2022 не зобов’язані реєструвати та застосовувати РРО/ПРРО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e-Ukraine Head Thin"/>
              </a:rPr>
              <a:t>Уряд України та органи виконавчої влади не планують запровадження РРО/ПРРО для платників І групи Єдиного податку з 01.01.2022 ро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76092"/>
                </a:solidFill>
                <a:latin typeface="e-Ukraine Head Thin"/>
              </a:rPr>
              <a:t>Ведення обліку товарних запасів або якогось іншого додаткового обліку з 01.01.2022 року для платників Єдиного податку І групи не передбачаєть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4664160" y="2241720"/>
            <a:ext cx="4238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Заголовок 1"/>
          <p:cNvSpPr/>
          <p:nvPr/>
        </p:nvSpPr>
        <p:spPr>
          <a:xfrm>
            <a:off x="225360" y="2241720"/>
            <a:ext cx="41497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479840" y="353880"/>
            <a:ext cx="4262400" cy="1067040"/>
          </a:xfrm>
          <a:prstGeom prst="rect">
            <a:avLst/>
          </a:prstGeom>
          <a:ln w="0">
            <a:noFill/>
          </a:ln>
        </p:spPr>
      </p:pic>
      <p:pic>
        <p:nvPicPr>
          <p:cNvPr id="94" name="Image" descr="Image"/>
          <p:cNvPicPr/>
          <p:nvPr/>
        </p:nvPicPr>
        <p:blipFill>
          <a:blip r:embed="rId2"/>
          <a:stretch/>
        </p:blipFill>
        <p:spPr>
          <a:xfrm>
            <a:off x="539640" y="260280"/>
            <a:ext cx="345600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кутник 17"/>
          <p:cNvSpPr/>
          <p:nvPr/>
        </p:nvSpPr>
        <p:spPr>
          <a:xfrm>
            <a:off x="5940360" y="464328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кутник 19"/>
          <p:cNvSpPr/>
          <p:nvPr/>
        </p:nvSpPr>
        <p:spPr>
          <a:xfrm>
            <a:off x="5796000" y="4605480"/>
            <a:ext cx="28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206960" y="182520"/>
            <a:ext cx="4595760" cy="107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446040" y="244440"/>
            <a:ext cx="3765600" cy="1006560"/>
          </a:xfrm>
          <a:prstGeom prst="rect">
            <a:avLst/>
          </a:prstGeom>
          <a:ln w="0">
            <a:noFill/>
          </a:ln>
        </p:spPr>
      </p:pic>
      <p:sp>
        <p:nvSpPr>
          <p:cNvPr id="99" name="Заголовок 1"/>
          <p:cNvSpPr/>
          <p:nvPr/>
        </p:nvSpPr>
        <p:spPr>
          <a:xfrm>
            <a:off x="554040" y="1700280"/>
            <a:ext cx="8137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1f497d"/>
                </a:solidFill>
                <a:latin typeface="e-Ukraine Head Light"/>
              </a:rPr>
              <a:t>Платники Єдиного податку ІІ-ІV групи, які </a:t>
            </a:r>
            <a:r>
              <a:rPr b="1" lang="uk-UA" sz="2200" spc="-1" strike="noStrike">
                <a:solidFill>
                  <a:srgbClr val="00b050"/>
                </a:solidFill>
                <a:latin typeface="e-Ukraine Head Light"/>
              </a:rPr>
              <a:t>не зареєстровані платниками ПДВ та не здійснюють реалізацію</a:t>
            </a:r>
            <a:r>
              <a:rPr b="1" lang="uk-UA" sz="2200" spc="-1" strike="noStrike">
                <a:solidFill>
                  <a:srgbClr val="1f497d"/>
                </a:solidFill>
                <a:latin typeface="e-Ukraine Head Light"/>
              </a:rPr>
              <a:t> технічно-складних побутових товарів, що підлягають гарантійному ремонту, реалізацію лікарських засобів, виробів медичного призначення, реалізацію ювелірних та побутових виробів з дорогоцінних металів, дорогоцінного каміння, дорогоцінного каміння органогенного утворення та напівдорогоцінного каміння, </a:t>
            </a:r>
            <a:r>
              <a:rPr b="1" lang="uk-UA" sz="2200" spc="-1" strike="noStrike">
                <a:solidFill>
                  <a:srgbClr val="00b050"/>
                </a:solidFill>
                <a:latin typeface="e-Ukraine Head Light"/>
              </a:rPr>
              <a:t>облік товарних запасів не веду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7T06:45:24Z</dcterms:created>
  <dc:creator>ДВІРКО ОЛЕКСАНДР МИКОЛАЙОВИЧ</dc:creator>
  <dc:description/>
  <dc:language>en-US</dc:language>
  <cp:lastModifiedBy>NChaika</cp:lastModifiedBy>
  <cp:lastPrinted>2021-12-16T13:01:00Z</cp:lastPrinted>
  <dcterms:modified xsi:type="dcterms:W3CDTF">2021-12-25T13:06:52Z</dcterms:modified>
  <cp:revision>185</cp:revision>
  <dc:subject/>
  <dc:title>Порядок проведення розрахунку з покупцями товарів  в інтернет-магазині з доставкою кур’єром продавця</dc:title>
</cp:coreProperties>
</file>