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C81-CC72-423C-AA45-0E7F34F3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8A9-3BF6-43EA-9F99-EC899F12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C13-6856-409C-B5BF-9634AB5B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B76-B024-43F4-BF3D-3F3200B8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6762A-7398-4908-9774-4BD297FFC7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A7345-921B-4529-8824-5F69826833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38B88-B951-4597-BD2E-E212A1FB69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509A5-41FC-45E8-8515-E0982D2CB2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396FD-A2FF-48BA-B933-E585436465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592A6-3213-4CE6-8C25-BC6A09EE59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091BB-3034-4440-BF17-10FB2B944C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F66-7549-4F69-9138-7CDC0CD7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8BFD8-93CD-49BD-9990-DBA12DA870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1E958-F5B5-487E-85D0-04A13DC4C2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FDB4B-543D-4516-A56B-43A0E28238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4F62B-BE31-413E-BABF-1AD5A9D554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F5DCE-4B14-43BC-89C3-6063E4CA83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AAC-E98F-4DBC-AB93-17EA16AE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020-19B9-465C-A767-CA7CEA61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2B3-2487-4B45-9BD8-9CF9F20F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6E4-5E0B-4B36-923E-1C6D8FBD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244-5B49-4642-8DDA-E045F172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864-2732-4E7C-9EE6-FDCC1B3F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74A-BC3A-4276-B9EB-0FE1973A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172E-0472-4F5E-8D45-7757CB0C1F9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4497120" y="6341760"/>
            <a:ext cx="15228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80D0-0090-44C8-857E-9DC16900B86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кутник 6"/>
          <p:cNvSpPr/>
          <p:nvPr/>
        </p:nvSpPr>
        <p:spPr>
          <a:xfrm>
            <a:off x="611280" y="1125360"/>
            <a:ext cx="792144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кутник 5"/>
          <p:cNvSpPr/>
          <p:nvPr/>
        </p:nvSpPr>
        <p:spPr>
          <a:xfrm>
            <a:off x="684360" y="1628640"/>
            <a:ext cx="79200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e-Ukraine Head Light"/>
              </a:rPr>
              <a:t>Фізичні особи-підприємці, в тому числі платники Єдиного податку ІІ-І</a:t>
            </a:r>
            <a:r>
              <a:rPr b="1" lang="en-US" sz="1800" spc="-1" strike="noStrike">
                <a:solidFill>
                  <a:srgbClr val="1f497d"/>
                </a:solidFill>
                <a:latin typeface="e-Ukraine Head Light"/>
              </a:rPr>
              <a:t>V </a:t>
            </a:r>
            <a:r>
              <a:rPr b="1" lang="ru-RU" sz="1800" spc="-1" strike="noStrike">
                <a:solidFill>
                  <a:srgbClr val="1f497d"/>
                </a:solidFill>
                <a:latin typeface="e-Ukraine Head Light"/>
              </a:rPr>
              <a:t>групи, зобов’язані застосовувати РРО/ПРРО у випадку здійснення «розрахункових операцій» у розумінні Закону «Про застосування реєстраторів розрахункових операцій у сфері торгівлі, громадського харчування та послуг» від 06.07.1995 № 265/95-ВР.</a:t>
            </a:r>
            <a:r>
              <a:rPr b="1" lang="ru-RU" sz="1800" spc="-1" strike="noStrike">
                <a:solidFill>
                  <a:srgbClr val="254061"/>
                </a:solidFill>
                <a:latin typeface="e-Ukraine Head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e-Ukraine Head Light"/>
              </a:rPr>
              <a:t>Розрахункова операція це приймання від покупця готівкових коштів, платіжних карток, платіжних чеків, жетонів тощо за місцем реалізації товарів (послуг), видача готівкових коштів за повернутий покупцем товар (ненадану послугу), а у разі застосування банківської платіжної картки - оформлення відповідного розрахункового документа щодо оплати в безготівковій формі товару (послуги) банком покупця або, у разі повернення товару (відмови від послуги), оформлення розрахункових документів щодо перерахування коштів у банк покупця.</a:t>
            </a:r>
            <a:r>
              <a:rPr b="1" lang="ru-RU" sz="1600" spc="-1" strike="noStrike">
                <a:solidFill>
                  <a:srgbClr val="254061"/>
                </a:solidFill>
                <a:latin typeface="e-Ukraine Head Light"/>
              </a:rPr>
              <a:t> </a:t>
            </a:r>
            <a:r>
              <a:rPr b="1" lang="ru-RU" sz="2000" spc="-1" strike="noStrike">
                <a:solidFill>
                  <a:srgbClr val="254061"/>
                </a:solidFill>
                <a:latin typeface="e-Ukraine Head Light"/>
              </a:rPr>
              <a:t> </a:t>
            </a:r>
            <a:r>
              <a:rPr b="1" lang="ru-RU" sz="2000" spc="-1" strike="noStrike">
                <a:solidFill>
                  <a:srgbClr val="254061"/>
                </a:solidFill>
                <a:latin typeface="Open Sans Bold"/>
              </a:rPr>
              <a:t> </a:t>
            </a:r>
            <a:r>
              <a:rPr b="1" lang="uk-UA" sz="2000" spc="-1" strike="noStrike">
                <a:solidFill>
                  <a:srgbClr val="254061"/>
                </a:solidFill>
                <a:latin typeface="Open Sans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" descr="Image"/>
          <p:cNvPicPr/>
          <p:nvPr/>
        </p:nvPicPr>
        <p:blipFill>
          <a:blip r:embed="rId1"/>
          <a:stretch/>
        </p:blipFill>
        <p:spPr>
          <a:xfrm>
            <a:off x="539640" y="260280"/>
            <a:ext cx="3456000" cy="10080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479840" y="231840"/>
            <a:ext cx="426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 сполучна лінія 11"/>
          <p:cNvSpPr/>
          <p:nvPr/>
        </p:nvSpPr>
        <p:spPr>
          <a:xfrm flipH="1">
            <a:off x="5293800" y="2087640"/>
            <a:ext cx="868680" cy="159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395280" y="4989600"/>
            <a:ext cx="48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646200" y="3300480"/>
            <a:ext cx="795816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діяльність на загальній системі оподаткування;</a:t>
            </a: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діяльність з використанням ІІІ групи Єдиного податку та зареєстровані платниками ПДВ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Також, серед платників ІІ-І</a:t>
            </a:r>
            <a:r>
              <a:rPr b="1" lang="arn-CL" sz="1600" spc="-1" strike="noStrike">
                <a:solidFill>
                  <a:srgbClr val="00b050"/>
                </a:solidFill>
                <a:latin typeface="e-Ukraine Light"/>
              </a:rPr>
              <a:t>V </a:t>
            </a: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групи Єдиного податку, Порядок № 496 поширює свою дію на тих, які здійснюють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реалізацію технічно-складних побутових товарів, що підлягають гарантійному ремонту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реалізацію лікарських засобів, виробів медичного призначенн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реалізацію ювелірних та побутових виробів з дорогоцінних металів, дорогоцінного каміння, дорогоцінного каміння органогенного утворення та напівдорогоцінного каміння.</a:t>
            </a: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1859c"/>
                </a:solidFill>
                <a:latin typeface="Open Sans Bol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280040" y="96840"/>
            <a:ext cx="4327560" cy="927000"/>
          </a:xfrm>
          <a:prstGeom prst="rect">
            <a:avLst/>
          </a:prstGeom>
          <a:ln w="0">
            <a:noFill/>
          </a:ln>
        </p:spPr>
      </p:pic>
      <p:pic>
        <p:nvPicPr>
          <p:cNvPr id="88" name="Image" descr="Image"/>
          <p:cNvPicPr/>
          <p:nvPr/>
        </p:nvPicPr>
        <p:blipFill>
          <a:blip r:embed="rId2"/>
          <a:stretch/>
        </p:blipFill>
        <p:spPr>
          <a:xfrm>
            <a:off x="396720" y="93600"/>
            <a:ext cx="3456000" cy="100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кутник 1"/>
          <p:cNvSpPr/>
          <p:nvPr/>
        </p:nvSpPr>
        <p:spPr>
          <a:xfrm>
            <a:off x="646200" y="126828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f497d"/>
                </a:solidFill>
                <a:latin typeface="e-Ukraine Head Thin"/>
              </a:rPr>
              <a:t>Обов’язок вести облік товарних запасів, відповідно до Порядку ведення обліку товарних запасів для фізичних осіб – підприємців, у тому числі платників єдиного податку, затвердженого наказом Міністерства фінансів України від 03.09.2021 № 496, поширюється на платників податків, фізичних осіб-підприємців, які здійснюю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566640" y="1989000"/>
            <a:ext cx="8137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76092"/>
                </a:solidFill>
                <a:latin typeface="e-Ukraine Head Thin"/>
              </a:rPr>
              <a:t>Платники І групи Єдиного податку з 01.01.2022 не зобов’язані реєструвати та застосовувати РРО/ПРРО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e-Ukraine Head Thin"/>
              </a:rPr>
              <a:t>Уряд України та органи виконавчої влади не планують запровадження РРО/ПРРО для платників І групи Єдиного податку з 01.01.2022 ро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76092"/>
                </a:solidFill>
                <a:latin typeface="e-Ukraine Head Thin"/>
              </a:rPr>
              <a:t>Ведення обліку товарних запасів або якогось іншого додаткового обліку з 01.01.2022 року для платників Єдиного податку І групи не передбачаєть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4664160" y="2241720"/>
            <a:ext cx="4238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225360" y="2241720"/>
            <a:ext cx="4149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479840" y="353880"/>
            <a:ext cx="4262400" cy="1067040"/>
          </a:xfrm>
          <a:prstGeom prst="rect">
            <a:avLst/>
          </a:prstGeom>
          <a:ln w="0">
            <a:noFill/>
          </a:ln>
        </p:spPr>
      </p:pic>
      <p:pic>
        <p:nvPicPr>
          <p:cNvPr id="94" name="Image" descr="Image"/>
          <p:cNvPicPr/>
          <p:nvPr/>
        </p:nvPicPr>
        <p:blipFill>
          <a:blip r:embed="rId2"/>
          <a:stretch/>
        </p:blipFill>
        <p:spPr>
          <a:xfrm>
            <a:off x="539640" y="260280"/>
            <a:ext cx="34560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кутник 17"/>
          <p:cNvSpPr/>
          <p:nvPr/>
        </p:nvSpPr>
        <p:spPr>
          <a:xfrm>
            <a:off x="5940360" y="4643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кутник 19"/>
          <p:cNvSpPr/>
          <p:nvPr/>
        </p:nvSpPr>
        <p:spPr>
          <a:xfrm>
            <a:off x="5796000" y="4605480"/>
            <a:ext cx="28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206960" y="182520"/>
            <a:ext cx="4595760" cy="107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446040" y="244440"/>
            <a:ext cx="3765600" cy="100656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554040" y="1700280"/>
            <a:ext cx="813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1f497d"/>
                </a:solidFill>
                <a:latin typeface="e-Ukraine Head Light"/>
              </a:rPr>
              <a:t>Платники Єдиного податку ІІ-ІV групи, які </a:t>
            </a:r>
            <a:r>
              <a:rPr b="1" lang="uk-UA" sz="2200" spc="-1" strike="noStrike">
                <a:solidFill>
                  <a:srgbClr val="00b050"/>
                </a:solidFill>
                <a:latin typeface="e-Ukraine Head Light"/>
              </a:rPr>
              <a:t>не зареєстровані платниками ПДВ та не здійснюють реалізацію</a:t>
            </a:r>
            <a:r>
              <a:rPr b="1" lang="uk-UA" sz="2200" spc="-1" strike="noStrike">
                <a:solidFill>
                  <a:srgbClr val="1f497d"/>
                </a:solidFill>
                <a:latin typeface="e-Ukraine Head Light"/>
              </a:rPr>
              <a:t> технічно-складних побутових товарів, що підлягають гарантійному ремонту, реалізацію лікарських засобів, виробів медичного призначення, реалізацію ювелірних та побутових виробів з дорогоцінних металів, дорогоцінного каміння, дорогоцінного каміння органогенного утворення та напівдорогоцінного каміння, </a:t>
            </a:r>
            <a:r>
              <a:rPr b="1" lang="uk-UA" sz="2200" spc="-1" strike="noStrike">
                <a:solidFill>
                  <a:srgbClr val="00b050"/>
                </a:solidFill>
                <a:latin typeface="e-Ukraine Head Light"/>
              </a:rPr>
              <a:t>облік товарних запасів не веду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7T06:45:24Z</dcterms:created>
  <dc:creator>ДВІРКО ОЛЕКСАНДР МИКОЛАЙОВИЧ</dc:creator>
  <dc:description/>
  <dc:language>en-US</dc:language>
  <cp:lastModifiedBy>NChaika</cp:lastModifiedBy>
  <cp:lastPrinted>2021-12-16T13:01:00Z</cp:lastPrinted>
  <dcterms:modified xsi:type="dcterms:W3CDTF">2021-12-25T13:06:52Z</dcterms:modified>
  <cp:revision>185</cp:revision>
  <dc:subject/>
  <dc:title>Порядок проведення розрахунку з покупцями товарів  в інтернет-магазині з доставкою кур’єром продавця</dc:title>
</cp:coreProperties>
</file>