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32A0-9DE2-434F-8BDD-3CAE2807F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62F4-ED0C-4DE5-ADC2-4CC1839C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B2C4-CAD1-4616-A529-5CB15E147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7910-3E69-4555-9BAD-0D38F4D35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2D74-40C7-4CCE-8E17-0C92A9A68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910C-8D9D-4655-A128-86627207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9AE6-3760-4D15-BAF5-E56AC725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C358-150D-4922-BD5A-C267A12C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6A2A-D2ED-4087-9970-8F974BF8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1F25-8D9C-4212-BCBA-42F240AA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35927-48B4-4E8D-B3F2-01568ADB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54D0-AC7D-4F9B-B86E-984AFF97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509A1-D066-4FD8-8C17-AA3A046F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57FD2-4529-4F0F-B97E-0B1C7EA1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6544-DF33-4493-9557-DE8E5142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3169-0529-4582-8D2A-FA3C1B906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2BB4-655B-4575-8048-ED5C0C277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9C2C-9009-4EFF-92F7-A78B2960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9511-935F-450E-B390-A53912AA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4FC2-6201-47ED-9429-2294B259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D77C-AC39-4B55-BD58-34C89DE0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B282-98A2-445F-993E-E660EFE0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42A8-D698-46D1-8C5B-58F91691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7FB1-35EB-4426-B57A-64447990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7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907092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9070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9070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9070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9070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7092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7092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9070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07092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90709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07092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90709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8A73-2A93-48BE-B6F6-981F52A33A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7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907092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9070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9070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9070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9070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7092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7092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9070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07092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90709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07092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90709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C80E-C1ED-4418-A180-F869794FC69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Arial"/>
              </a:rPr>
              <a:t>Семенський дошкільній навчальний заклад</a:t>
            </a:r>
            <a:br>
              <a:rPr sz="2800"/>
            </a:br>
            <a:r>
              <a:rPr b="0" lang="uk-UA" sz="2800" spc="-1" strike="noStrike">
                <a:solidFill>
                  <a:srgbClr val="ccecff"/>
                </a:solidFill>
                <a:latin typeface="Arial"/>
              </a:rPr>
              <a:t>(дитячий садочок)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”</a:t>
            </a:r>
            <a:r>
              <a:rPr b="0" lang="uk-UA" sz="2800" spc="-1" strike="noStrike">
                <a:solidFill>
                  <a:srgbClr val="ccecff"/>
                </a:solidFill>
                <a:latin typeface="Arial"/>
              </a:rPr>
              <a:t>Сонечко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”</a:t>
            </a:r>
            <a:br>
              <a:rPr sz="2800"/>
            </a:br>
            <a:r>
              <a:rPr b="0" lang="uk-UA" sz="2800" spc="-1" strike="noStrike">
                <a:solidFill>
                  <a:srgbClr val="ccecff"/>
                </a:solidFill>
                <a:latin typeface="Arial"/>
              </a:rPr>
              <a:t>Семенського старостинського округу Райгородської сільської ради Вінницької області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28760" y="15717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428720" y="2643120"/>
            <a:ext cx="42102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Заснований в 2010 році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Одна різновікова груп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Кількість дітей – 1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едагогічних працівників 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Технічних працівників – 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4214880" y="2000160"/>
            <a:ext cx="421164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Рисунок 6" descr="IMG_4450.JPG"/>
          <p:cNvPicPr/>
          <p:nvPr/>
        </p:nvPicPr>
        <p:blipFill>
          <a:blip r:embed="rId1"/>
          <a:stretch/>
        </p:blipFill>
        <p:spPr>
          <a:xfrm>
            <a:off x="79200" y="2298600"/>
            <a:ext cx="4364280" cy="34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40431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Якісний склад </a:t>
            </a:r>
            <a:br>
              <a:rPr sz="2200"/>
            </a:b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педагогічних працівників</a:t>
            </a:r>
            <a:r>
              <a:rPr b="0" lang="uk-UA" sz="2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4572000" y="189000"/>
            <a:ext cx="40435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Перспектива набору дітей в дошкільній заклад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Object 8"/>
          <p:cNvGraphicFramePr/>
          <p:nvPr/>
        </p:nvGraphicFramePr>
        <p:xfrm>
          <a:off x="304920" y="1144440"/>
          <a:ext cx="4314600" cy="45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4440"/>
                    <a:ext cx="4314600" cy="45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6"/>
          <p:cNvGraphicFramePr/>
          <p:nvPr/>
        </p:nvGraphicFramePr>
        <p:xfrm>
          <a:off x="4648320" y="1828800"/>
          <a:ext cx="40129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828800"/>
                    <a:ext cx="40129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5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Arial"/>
              </a:rPr>
              <a:t>Досягнення в 2010-2013 роках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179280" y="155736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навчально-виховном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процесі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4429080" y="1571760"/>
            <a:ext cx="4486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В зміцненні матеріально-технічної баз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Закуплено : - дитячі меблі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- коврове покритт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- Іграш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Установлено бесід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Рисунок 4" descr="062.JPG"/>
          <p:cNvPicPr/>
          <p:nvPr/>
        </p:nvPicPr>
        <p:blipFill>
          <a:blip r:embed="rId1"/>
          <a:stretch/>
        </p:blipFill>
        <p:spPr>
          <a:xfrm>
            <a:off x="219240" y="2517840"/>
            <a:ext cx="1847520" cy="277344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5" descr="089.JPG"/>
          <p:cNvPicPr/>
          <p:nvPr/>
        </p:nvPicPr>
        <p:blipFill>
          <a:blip r:embed="rId2"/>
          <a:stretch/>
        </p:blipFill>
        <p:spPr>
          <a:xfrm>
            <a:off x="1219320" y="4157640"/>
            <a:ext cx="1523880" cy="391968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6" descr="077.JPG"/>
          <p:cNvPicPr/>
          <p:nvPr/>
        </p:nvPicPr>
        <p:blipFill>
          <a:blip r:embed="rId3"/>
          <a:stretch/>
        </p:blipFill>
        <p:spPr>
          <a:xfrm>
            <a:off x="2219400" y="2517840"/>
            <a:ext cx="1944720" cy="291924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7" descr="050.JPG"/>
          <p:cNvPicPr/>
          <p:nvPr/>
        </p:nvPicPr>
        <p:blipFill>
          <a:blip r:embed="rId4"/>
          <a:stretch/>
        </p:blipFill>
        <p:spPr>
          <a:xfrm>
            <a:off x="7077240" y="4449600"/>
            <a:ext cx="1993680" cy="298800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8" descr="108.JPG"/>
          <p:cNvPicPr/>
          <p:nvPr/>
        </p:nvPicPr>
        <p:blipFill>
          <a:blip r:embed="rId5"/>
          <a:stretch/>
        </p:blipFill>
        <p:spPr>
          <a:xfrm>
            <a:off x="5078520" y="4449600"/>
            <a:ext cx="1968480" cy="295128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9" descr="IMG_4505.JPG"/>
          <p:cNvPicPr/>
          <p:nvPr/>
        </p:nvPicPr>
        <p:blipFill>
          <a:blip r:embed="rId6"/>
          <a:stretch/>
        </p:blipFill>
        <p:spPr>
          <a:xfrm>
            <a:off x="3005280" y="4449600"/>
            <a:ext cx="1993680" cy="2988000"/>
          </a:xfrm>
          <a:prstGeom prst="rect">
            <a:avLst/>
          </a:prstGeom>
          <a:ln w="0">
            <a:noFill/>
          </a:ln>
        </p:spPr>
      </p:pic>
    </p:spTree>
  </p:cSld>
  <p:transition advTm="5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2060"/>
                </a:solidFill>
                <a:latin typeface="Arial"/>
              </a:rPr>
              <a:t>Плани на 2017 рі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 навчально-виховно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роцес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- Брати участь у районних методо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єднаннях і семинар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 зміцненні матеріально-технічної баз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- Удосконалити дитячий майданч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Рисунок 7" descr="047.JPG"/>
          <p:cNvPicPr/>
          <p:nvPr/>
        </p:nvPicPr>
        <p:blipFill>
          <a:blip r:embed="rId1"/>
          <a:stretch/>
        </p:blipFill>
        <p:spPr>
          <a:xfrm>
            <a:off x="4511520" y="3224160"/>
            <a:ext cx="4480200" cy="3481560"/>
          </a:xfrm>
          <a:prstGeom prst="rect">
            <a:avLst/>
          </a:prstGeom>
          <a:ln w="0">
            <a:noFill/>
          </a:ln>
        </p:spPr>
      </p:pic>
    </p:spTree>
  </p:cSld>
  <p:transition advTm="6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9T09:38:02Z</dcterms:created>
  <dc:creator>User</dc:creator>
  <dc:description/>
  <dc:language>en-US</dc:language>
  <cp:lastModifiedBy>Пользователь</cp:lastModifiedBy>
  <dcterms:modified xsi:type="dcterms:W3CDTF">2017-05-16T06:37:55Z</dcterms:modified>
  <cp:revision>36</cp:revision>
  <dc:subject/>
  <dc:title>Брацлавська ЗОШ І-ІІІ ступенів№1</dc:title>
</cp:coreProperties>
</file>