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B9F-FA02-49B2-B1B7-3CBB7640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B72-DF9A-4A9F-BC24-E41517C2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F98C-6BCD-4948-873F-871D9E3B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246-B094-43E3-BA4A-02EEC731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AD1C-4F50-4DFE-B6F7-1242F611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FF78-DD1F-4BD7-A28A-7B223CC0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9852-16BD-4F4E-BE6E-E3453A2C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346C-D222-4ABF-874E-BC2C4EB0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DC80-CC93-432D-92CF-917E0472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0DB3-8E84-4EE3-B1EC-50F866F7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A0DE-3FB9-45F5-8655-E37AE430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D024-1EC4-4C49-925F-ACFC9FC1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22BF-690C-4ED9-946C-56A26576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D513-169A-455D-A3A5-969ADA94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5E70-7A71-49C7-8872-BAB619AF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F25A-16A9-4248-8D0D-76D7CD7E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C9A7-8B9C-4D27-A1DA-5804DBDC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FC2-97E9-4180-96D0-05BB87A0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346-DED9-47D0-9276-340D82DA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1150-813B-4A29-BA25-0287C7E7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701-AEB8-4175-A79D-29D8A35A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BF6-D204-405C-BC67-1F14F71A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12D-B722-451D-9508-F7DF1A5F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11D-82F9-459B-BEB6-60129AEA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7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90709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9070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9070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9070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9070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709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709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9070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709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90709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709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90709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CE54-C50A-4DD2-ABE7-AF19001234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7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90709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9070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9070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9070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9070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709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709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9070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709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90709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709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90709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E9CE-DF56-4F86-80C0-C448F36F9A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Arial"/>
              </a:rPr>
              <a:t>Семенський дошкільній навчальний заклад</a:t>
            </a:r>
            <a:br>
              <a:rPr sz="2800"/>
            </a:br>
            <a:r>
              <a:rPr b="0" lang="uk-UA" sz="2800" spc="-1" strike="noStrike">
                <a:solidFill>
                  <a:srgbClr val="ccecff"/>
                </a:solidFill>
                <a:latin typeface="Arial"/>
              </a:rPr>
              <a:t>(дитячий садочок)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”</a:t>
            </a:r>
            <a:r>
              <a:rPr b="0" lang="uk-UA" sz="2800" spc="-1" strike="noStrike">
                <a:solidFill>
                  <a:srgbClr val="ccecff"/>
                </a:solidFill>
                <a:latin typeface="Arial"/>
              </a:rPr>
              <a:t>Сонечко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”</a:t>
            </a:r>
            <a:br>
              <a:rPr sz="2800"/>
            </a:br>
            <a:r>
              <a:rPr b="0" lang="uk-UA" sz="2800" spc="-1" strike="noStrike">
                <a:solidFill>
                  <a:srgbClr val="ccecff"/>
                </a:solidFill>
                <a:latin typeface="Arial"/>
              </a:rPr>
              <a:t>Семенського старостинського округу Райгородської сільської ради Вінницької області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2876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428720" y="2643120"/>
            <a:ext cx="42102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аснований в 2010 роц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дна різновікова груп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ількість дітей – 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едагогічних працівників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Технічних працівників – 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4214880" y="2000160"/>
            <a:ext cx="42116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Рисунок 6" descr="IMG_4450.JPG"/>
          <p:cNvPicPr/>
          <p:nvPr/>
        </p:nvPicPr>
        <p:blipFill>
          <a:blip r:embed="rId1"/>
          <a:stretch/>
        </p:blipFill>
        <p:spPr>
          <a:xfrm>
            <a:off x="79200" y="2298600"/>
            <a:ext cx="4364280" cy="34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4043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Якісний склад </a:t>
            </a:r>
            <a:br>
              <a:rPr sz="2200"/>
            </a:b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педагогічних працівників</a:t>
            </a:r>
            <a:r>
              <a:rPr b="0" lang="uk-UA" sz="2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572000" y="189000"/>
            <a:ext cx="4043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Перспектива набору дітей в дошкільній закла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04920" y="1144440"/>
          <a:ext cx="4314600" cy="45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4440"/>
                    <a:ext cx="431460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6"/>
          <p:cNvGraphicFramePr/>
          <p:nvPr/>
        </p:nvGraphicFramePr>
        <p:xfrm>
          <a:off x="4648320" y="1828800"/>
          <a:ext cx="40129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828800"/>
                    <a:ext cx="4012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Arial"/>
              </a:rPr>
              <a:t>Досягнення в 2010-2013 роках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7928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навчально-виховном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роцес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429080" y="1571760"/>
            <a:ext cx="4486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 зміцненні матеріально-технічної баз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акуплено : - дитячі меблі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коврове покритт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Іграш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становлено бесід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Рисунок 4" descr="062.JPG"/>
          <p:cNvPicPr/>
          <p:nvPr/>
        </p:nvPicPr>
        <p:blipFill>
          <a:blip r:embed="rId1"/>
          <a:stretch/>
        </p:blipFill>
        <p:spPr>
          <a:xfrm>
            <a:off x="219240" y="2517840"/>
            <a:ext cx="1847520" cy="27734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5" descr="089.JPG"/>
          <p:cNvPicPr/>
          <p:nvPr/>
        </p:nvPicPr>
        <p:blipFill>
          <a:blip r:embed="rId2"/>
          <a:stretch/>
        </p:blipFill>
        <p:spPr>
          <a:xfrm>
            <a:off x="1219320" y="4157640"/>
            <a:ext cx="1523880" cy="391968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6" descr="077.JPG"/>
          <p:cNvPicPr/>
          <p:nvPr/>
        </p:nvPicPr>
        <p:blipFill>
          <a:blip r:embed="rId3"/>
          <a:stretch/>
        </p:blipFill>
        <p:spPr>
          <a:xfrm>
            <a:off x="2219400" y="2517840"/>
            <a:ext cx="1944720" cy="29192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7" descr="050.JPG"/>
          <p:cNvPicPr/>
          <p:nvPr/>
        </p:nvPicPr>
        <p:blipFill>
          <a:blip r:embed="rId4"/>
          <a:stretch/>
        </p:blipFill>
        <p:spPr>
          <a:xfrm>
            <a:off x="7077240" y="4449600"/>
            <a:ext cx="1993680" cy="29880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8" descr="108.JPG"/>
          <p:cNvPicPr/>
          <p:nvPr/>
        </p:nvPicPr>
        <p:blipFill>
          <a:blip r:embed="rId5"/>
          <a:stretch/>
        </p:blipFill>
        <p:spPr>
          <a:xfrm>
            <a:off x="5078520" y="4449600"/>
            <a:ext cx="1968480" cy="29512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9" descr="IMG_4505.JPG"/>
          <p:cNvPicPr/>
          <p:nvPr/>
        </p:nvPicPr>
        <p:blipFill>
          <a:blip r:embed="rId6"/>
          <a:stretch/>
        </p:blipFill>
        <p:spPr>
          <a:xfrm>
            <a:off x="3005280" y="4449600"/>
            <a:ext cx="1993680" cy="2988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2060"/>
                </a:solidFill>
                <a:latin typeface="Arial"/>
              </a:rPr>
              <a:t>Плани на 2017 рі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 навчально-виховн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оцес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- Брати участь у районних методо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єднаннях і семинар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 зміцненні матеріально-технічної ба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- Удосконалити дитячий майдан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Рисунок 7" descr="047.JPG"/>
          <p:cNvPicPr/>
          <p:nvPr/>
        </p:nvPicPr>
        <p:blipFill>
          <a:blip r:embed="rId1"/>
          <a:stretch/>
        </p:blipFill>
        <p:spPr>
          <a:xfrm>
            <a:off x="4511520" y="3224160"/>
            <a:ext cx="4480200" cy="3481560"/>
          </a:xfrm>
          <a:prstGeom prst="rect">
            <a:avLst/>
          </a:prstGeom>
          <a:ln w="0">
            <a:noFill/>
          </a:ln>
        </p:spPr>
      </p:pic>
    </p:spTree>
  </p:cSld>
  <p:transition advTm="6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09:38:02Z</dcterms:created>
  <dc:creator>User</dc:creator>
  <dc:description/>
  <dc:language>en-US</dc:language>
  <cp:lastModifiedBy>Пользователь</cp:lastModifiedBy>
  <dcterms:modified xsi:type="dcterms:W3CDTF">2017-05-16T06:37:55Z</dcterms:modified>
  <cp:revision>36</cp:revision>
  <dc:subject/>
  <dc:title>Брацлавська ЗОШ І-ІІІ ступенів№1</dc:title>
</cp:coreProperties>
</file>